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wmf" ContentType="image/x-wmf"/>
  <Override PartName="/ppt/media/image26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41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4.wmf" ContentType="image/x-wmf"/>
  <Override PartName="/ppt/media/image34.wmf" ContentType="image/x-wmf"/>
  <Override PartName="/ppt/media/image18.wmf" ContentType="image/x-wmf"/>
  <Override PartName="/ppt/media/image32.wmf" ContentType="image/x-wmf"/>
  <Override PartName="/ppt/media/image38.jpeg" ContentType="image/jpeg"/>
  <Override PartName="/ppt/media/image40.jpeg" ContentType="image/jpeg"/>
  <Override PartName="/ppt/media/image39.wmf" ContentType="image/x-wmf"/>
  <Override PartName="/ppt/media/image43.wmf" ContentType="image/x-wmf"/>
  <Override PartName="/ppt/media/image44.wmf" ContentType="image/x-wmf"/>
  <Override PartName="/ppt/media/image37.png" ContentType="image/png"/>
  <Override PartName="/ppt/media/image9.gif" ContentType="image/gif"/>
  <Override PartName="/ppt/media/image20.jpeg" ContentType="image/jpeg"/>
  <Override PartName="/ppt/media/image22.wmf" ContentType="image/x-wmf"/>
  <Override PartName="/ppt/media/image45.gif" ContentType="image/gif"/>
  <Override PartName="/ppt/media/image48.png" ContentType="image/png"/>
  <Override PartName="/ppt/media/image8.wmf" ContentType="image/x-wmf"/>
  <Override PartName="/ppt/media/image47.png" ContentType="image/png"/>
  <Override PartName="/ppt/media/image35.jpeg" ContentType="image/jpeg"/>
  <Override PartName="/ppt/media/image50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49.gif" ContentType="image/gif"/>
  <Override PartName="/ppt/media/image31.jpeg" ContentType="image/jpeg"/>
  <Override PartName="/ppt/media/image12.wmf" ContentType="image/x-wmf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56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464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56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464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6920" y="164268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56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464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56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464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86920" y="164268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6056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4464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7648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6056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4464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164268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76056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44640" y="249228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7648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76056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344640" y="4559760"/>
            <a:ext cx="246060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6920" y="1642680"/>
            <a:ext cx="6551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2560" y="455976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2560" y="2492280"/>
            <a:ext cx="372924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59760"/>
            <a:ext cx="7642080" cy="18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3357720"/>
            <a:ext cx="6046920" cy="17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67200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72;&#1085;&#1072;&#1083;&#1080;&#1079;%20&#1088;&#1072;&#1073;&#1086;&#1090;&#1099;%20&#1096;&#1082;&#1086;&#1083;&#1099;%20%20&#1087;&#1086;%20&#1058;&#1040;&#1056;&#1056;&#1054;&#1057;/&#1041;&#1083;&#1086;&#1082;%2001%20&#1094;&#1077;&#1083;&#1077;&#1074;&#1086;&#1081;%20&#1041;&#1072;&#1079;&#1086;&#1074;&#1086;&#1077;%20&#1086;&#1073;&#1088;&#1072;&#1079;&#1086;&#1074;&#1072;&#1085;&#1080;&#1077;.doc" TargetMode="External"/><Relationship Id="rId3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72;&#1085;&#1072;&#1083;&#1080;&#1079;%20&#1088;&#1072;&#1073;&#1086;&#1090;&#1099;%20&#1096;&#1082;&#1086;&#1083;&#1099;%20%20&#1087;&#1086;%20&#1058;&#1040;&#1056;&#1056;&#1054;&#1057;/&#1041;&#1083;&#1086;&#1082;%2001%20&#1094;&#1077;&#1083;&#1077;&#1074;&#1086;&#1081;%20&#1041;&#1072;&#1079;&#1086;&#1074;&#1086;&#1077;%20&#1086;&#1073;&#1088;&#1072;&#1079;&#1086;&#1074;&#1072;&#1085;&#1080;&#1077;.doc" TargetMode="External"/><Relationship Id="rId4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76;&#1080;&#1072;&#1075;&#1085;&#1086;&#1089;&#1090;&#1080;&#1082;&#1072;%20&#1087;&#1077;&#1076;&#1082;&#1086;&#1083;&#1083;&#1077;&#1082;&#1090;&#1080;&#1074;&#1072;.doc" TargetMode="External"/><Relationship Id="rId5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76;&#1080;&#1072;&#1075;&#1085;&#1086;&#1089;&#1090;&#1080;&#1082;&#1072;%20&#1087;&#1077;&#1076;&#1082;&#1086;&#1083;&#1083;&#1077;&#1082;&#1090;&#1080;&#1074;&#1072;.doc" TargetMode="External"/><Relationship Id="rId6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76;&#1080;&#1072;&#1075;&#1085;&#1086;&#1089;&#1090;&#1080;&#1082;&#1072;%20&#1087;&#1077;&#1076;&#1082;&#1086;&#1083;&#1083;&#1077;&#1082;&#1090;&#1080;&#1074;&#1072;.doc" TargetMode="External"/><Relationship Id="rId7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84;&#1086;&#1085;&#1080;&#1090;&#1086;&#1088;&#1080;&#1085;&#1075;%20&#1087;&#1086;%20&#1091;&#1095;&#1080;&#1090;&#1077;&#1083;&#1103;&#1084;.xls" TargetMode="External"/><Relationship Id="rId8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84;&#1086;&#1085;&#1080;&#1090;&#1086;&#1088;&#1080;&#1085;&#1075;%20&#1087;&#1086;%20&#1091;&#1095;&#1080;&#1090;&#1077;&#1083;&#1103;&#1084;.xls" TargetMode="External"/><Relationship Id="rId9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57;&#1054;&#1062;%20&#1055;&#1040;&#1057;&#1055;&#1054;&#1056;&#1058;%20&#1054;&#1058;&#1063;&#1045;&#1058;.doc" TargetMode="External"/><Relationship Id="rId10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57;&#1054;&#1062;%20&#1055;&#1040;&#1057;&#1055;&#1054;&#1056;&#1058;%20&#1054;&#1058;&#1063;&#1045;&#1058;.doc" TargetMode="External"/><Relationship Id="rId11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57;&#1054;&#1062;%20&#1055;&#1040;&#1057;&#1055;&#1054;&#1056;&#1058;%20&#1054;&#1058;&#1063;&#1045;&#1058;.doc" TargetMode="External"/><Relationship Id="rId12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57;&#1054;&#1062;%20&#1055;&#1040;&#1057;&#1055;&#1054;&#1056;&#1058;%20&#1054;&#1058;&#1063;&#1045;&#1058;.doc" TargetMode="External"/><Relationship Id="rId13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57;&#1054;&#1062;%20&#1055;&#1040;&#1057;&#1055;&#1054;&#1056;&#1058;%20&#1054;&#1058;&#1063;&#1045;&#1058;.doc" TargetMode="External"/><Relationship Id="rId14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54;&#1064;.xls" TargetMode="External"/><Relationship Id="rId15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87;&#1072;&#1089;&#1087;&#1086;&#1088;&#1090;%20&#1082;&#1072;&#1073;&#1080;&#1085;&#1077;&#1090;&#1072;.doc" TargetMode="External"/><Relationship Id="rId16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87;&#1072;&#1089;&#1087;&#1086;&#1088;&#1090;%20&#1082;&#1072;&#1073;&#1080;&#1085;&#1077;&#1090;&#1072;.doc" TargetMode="External"/><Relationship Id="rId17" Type="http://schemas.openxmlformats.org/officeDocument/2006/relationships/hyperlink" Target="file:///&#1076;&#1083;&#1103;%20&#1085;&#1072;&#1095;%20&#1079;&#1072;&#1074;&#1091;&#1095;&#1077;&#1081;/&#1040;&#1085;&#1072;&#1083;&#1080;&#1090;&#1080;&#1095;&#1077;&#1089;&#1082;&#1080;&#1077;%20&#1076;&#1086;&#1082;&#1091;&#1084;&#1077;&#1085;&#1090;&#1099;/&#1087;&#1072;&#1089;&#1087;&#1086;&#1088;&#1090;%20&#1082;&#1072;&#1073;&#1080;&#1085;&#1077;&#1090;&#1072;.doc" TargetMode="External"/><Relationship Id="rId18" Type="http://schemas.openxmlformats.org/officeDocument/2006/relationships/image" Target="../media/image17.wmf"/><Relationship Id="rId19" Type="http://schemas.openxmlformats.org/officeDocument/2006/relationships/image" Target="../media/image18.wmf"/><Relationship Id="rId2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76;&#1083;&#1103;%20&#1085;&#1072;&#1095;%20&#1079;&#1072;&#1074;&#1091;&#1095;&#1077;&#1081;/&#1056;&#1072;&#1073;&#1086;&#1095;&#1072;&#1103;%20&#1087;&#1088;&#1086;&#1075;&#1088;&#1072;&#1084;&#1084;&#1072;%20&#1087;&#1077;&#1076;&#1072;&#1075;&#1086;&#1075;&#1072;%20&#1052;&#1054;&#1059;%20&#1057;&#1054;&#1064;%2022.doc" TargetMode="External"/><Relationship Id="rId3" Type="http://schemas.openxmlformats.org/officeDocument/2006/relationships/hyperlink" Target="file:///&#1076;&#1083;&#1103;%20&#1085;&#1072;&#1095;%20&#1079;&#1072;&#1074;&#1091;&#1095;&#1077;&#1081;/&#1056;&#1072;&#1073;&#1086;&#1095;&#1072;&#1103;%20&#1087;&#1088;&#1086;&#1075;&#1088;&#1072;&#1084;&#1084;&#1072;%20&#1087;&#1077;&#1076;&#1072;&#1075;&#1086;&#1075;&#1072;%20&#1052;&#1054;&#1059;%20&#1057;&#1054;&#1064;%2022.doc" TargetMode="External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4000" y="982440"/>
            <a:ext cx="540072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428720" y="1260000"/>
            <a:ext cx="331164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 Unicode MS"/>
              </a:rPr>
              <a:t>Городской семинар для зам. директоров по УВ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476280"/>
            <a:ext cx="583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ОУ « Средняя общеобразовательная школа №22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4437000"/>
            <a:ext cx="3888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разовательная программа школы: структура, механизмы разработк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1551000">
            <a:off x="1908000" y="2565000"/>
            <a:ext cx="2089440" cy="1465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56" name=""/>
          <p:cNvSpPr/>
          <p:nvPr/>
        </p:nvSpPr>
        <p:spPr>
          <a:xfrm rot="2085000">
            <a:off x="1116000" y="2924280"/>
            <a:ext cx="1513080" cy="1181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88440" y="3002040"/>
            <a:ext cx="1021320" cy="932040"/>
            <a:chOff x="1288440" y="3002040"/>
            <a:chExt cx="1021320" cy="93204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 rot="2125200">
              <a:off x="1458720" y="3159360"/>
              <a:ext cx="740880" cy="6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 txBox="1"/>
            <p:nvPr/>
          </p:nvSpPr>
          <p:spPr>
            <a:xfrm rot="2125200">
              <a:off x="1274400" y="3543840"/>
              <a:ext cx="658440" cy="16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Школа №22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48974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в создании механизма реализации педагогического потенциала локальной образовательной системы, которой является школ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Такой потенциал в значительной мере определяется связями и отношениями между отдельными элементами системы, в качестве которых можно рассматривать и отдельные учебные программы, и участников образовательного процесса, реализующих эти программ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1079640"/>
            <a:ext cx="7199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1240" indent="-2840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Основно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назначени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 образовательной программы школы заключаетс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909000">
            <a:off x="5651280" y="2133360"/>
            <a:ext cx="2808000" cy="21063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 rot="20836200">
            <a:off x="5579640" y="4220640"/>
            <a:ext cx="2879640" cy="216072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одержанием процесса формирования образовательной программы школы является создан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еханизма интеграции всех составляющих образовательного процесса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. Можно выделит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ять основных элементов такого механизма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вый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— построение иерархической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истемы целей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, включающей общие цели школьного образования, цели отдельных его ступеней и цели изучения учебных предметов на каждой ступен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— выбор технологии организации образовательного процесса (определение структуры образовательного процесса, требований к построению учебных программ, определение форм организации учащихся и форм организации учебного процесса, требований к расписанию, функций домашней работы учащихся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етий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— разработка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дпредметных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программ, определяющих содержание взаимодействия всех учебных программ при достижении общих целей школьного образова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твертый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— построение системы оценивания результатов образовательной деятельност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ятый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регламентация прав и обязанностей участников образовательного процесса, обеспечивающих их взаимодействие при достижении образовательных целе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8" name="School_t" descr=""/>
          <p:cNvPicPr/>
          <p:nvPr/>
        </p:nvPicPr>
        <p:blipFill>
          <a:blip r:embed="rId2"/>
          <a:stretch/>
        </p:blipFill>
        <p:spPr>
          <a:xfrm flipH="1">
            <a:off x="178920" y="2421000"/>
            <a:ext cx="158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4901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личие программы развития образовательного учреждения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 образовательной программы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42920" y="2276640"/>
          <a:ext cx="7642080" cy="4357440"/>
        </p:xfrm>
        <a:graphic>
          <a:graphicData uri="http://schemas.openxmlformats.org/drawingml/2006/table">
            <a:tbl>
              <a:tblPr/>
              <a:tblGrid>
                <a:gridCol w="3821040"/>
                <a:gridCol w="38210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и программа развития –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а отдельных докумен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и программа развития –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 документ в рамках общих концепции и ц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отражает только особенности функционирования ОУ (учебный план, специфику образовательного процесса), а программа развития – только развитие (стратегию развития и ее поэтапную реализацию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развития – часть (отдельный модуль) образовательной программы как документа, обязательного для ОУ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отражает системные изменения, программа развития – локальные изменения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содержит отдельные модули программы развития, "пронизана" общей концепцией развития, основывается на ней и раскрывает ее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55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0" y="1104840"/>
            <a:ext cx="216036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сновная образовательная программа начального образо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280" y="1848240"/>
            <a:ext cx="3140280" cy="1113480"/>
          </a:xfrm>
          <a:prstGeom prst="rect">
            <a:avLst/>
          </a:prstGeom>
          <a:solidFill>
            <a:srgbClr val="66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сновная образовательна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сновного общег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008960"/>
            <a:ext cx="301968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сновная образовательна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среднего (полного) общего образо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1958760"/>
            <a:ext cx="2274840" cy="858600"/>
          </a:xfrm>
          <a:prstGeom prst="rect">
            <a:avLst/>
          </a:prstGeom>
          <a:solidFill>
            <a:srgbClr val="00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рограмма  развит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4586400"/>
            <a:ext cx="2257200" cy="85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ополнительног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3213000"/>
            <a:ext cx="2376720" cy="1513080"/>
          </a:xfrm>
          <a:prstGeom prst="rect">
            <a:avLst/>
          </a:prstGeom>
          <a:solidFill>
            <a:srgbClr val="ff99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ая  программа  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997360"/>
            <a:ext cx="863640" cy="93636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132000" y="3933720"/>
            <a:ext cx="865440" cy="13003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372360" y="3573000"/>
            <a:ext cx="723600" cy="10112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370560" y="2852640"/>
            <a:ext cx="579600" cy="79236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2565360"/>
            <a:ext cx="1440" cy="6476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472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5305320"/>
            <a:ext cx="2952720" cy="858600"/>
          </a:xfrm>
          <a:prstGeom prst="rect">
            <a:avLst/>
          </a:prstGeom>
          <a:solidFill>
            <a:srgbClr val="cc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провождения деятельности 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5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Именно  в образовательной  программе школы может быть специальный отдельный раздел (или самостоятельный документ), который  может называться  программой  развития  образовательного учрежде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Таким образом, </a:t>
            </a:r>
            <a:r>
              <a:rPr b="1" lang="en-GB" sz="1800" spc="-1" strike="noStrike">
                <a:solidFill>
                  <a:srgbClr val="660066"/>
                </a:solidFill>
                <a:latin typeface="Arial"/>
              </a:rPr>
              <a:t>программа  развития  образовательного учреждения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- это принципиальной другой документ, усиливающий прежде всего </a:t>
            </a:r>
            <a:r>
              <a:rPr b="0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конкурентные позиции  конкретного образовательного учреждения на рынке  образовательных услуг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, который не имеет обязательного нормативного  статуса (исходя из Закона РФ "Об образовании") и может являться составной частью (отдельным разделом) основных общеобразовательных программ ступеней  образования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Именно программа </a:t>
            </a:r>
            <a:r>
              <a:rPr b="1" lang="en-GB" sz="1800" spc="-1" strike="noStrike">
                <a:solidFill>
                  <a:srgbClr val="660066"/>
                </a:solidFill>
                <a:latin typeface="Arial"/>
              </a:rPr>
              <a:t>развития  образовательного учреждения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может задавать инновационный характер деятельности  образовательного учреждения и быть формальным документом для внешнего  предъявления на различных конкурсах (пример, участие  ОУ в  Приоритетном Национальном проекте "Образование"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179532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правляющая.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непосредственной зависимости от образовательной программы учреждения находятся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рограмма развития учреждения и учебный план учреждения.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Подходы к их разработке определяются в рамках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миссии и культуры учреждени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разующа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Образовательная программа свидетельствует о том, как в учреждении с учётом конкретных условий создаётся собственная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модель образования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вязывающа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В то же время образовательная программа выступает как комплекс приёмов по обеспечению эффективного взаимодействия всех участников образовательного процесса в достижении поставленной цели. Это показатель социальной зрелости учреждения, его организационной культур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1871640" cy="1411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Функции ООП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79280" y="1111320"/>
            <a:ext cx="65530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словия  для создания образовательной программы школы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0720" y="2492280"/>
            <a:ext cx="7966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5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Учитель имеет дело не с безликой массой, а с личностями, в качестве которых сочетаются наследственные и социальные составляющие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Педагогический коллектив, разрабатывая образовательную программу школы должен проанализировать, в целом, состав обучаемых детей, особо выделяя одарённых детей, детей с повышенной мотивацией, детей с проблемами здоровья, девиантных и т. д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Программа должна быть, адаптирована под данную конкретную школу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Анализ контингента производится администрацией с привлечением школьных психологов, логопедов, представителей районной поликлиники. Только такой подход к проблеме может дать эффективные результаты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Классные руководители могут регулярно представлять руководству школы систематизированные данные о детях: особенностях их поведения, уровне обучаемости, состоянии здоровья, социальной среде их проживания, «благополучности» семей. Только благодаря правильному анализу состояния школы и знанию дифференциации состава учащихся надо приступать к написанию образовательной программы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33360"/>
            <a:ext cx="4321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у все ясно с самого начала, того в конце ждут сомнения. Ф. Бэкон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5000" y="360360"/>
            <a:ext cx="2924280" cy="1811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С чего все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начинается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965160" cy="215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140360" y="616572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1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6165720"/>
            <a:ext cx="25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6165720"/>
            <a:ext cx="201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5805360"/>
            <a:ext cx="3095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нализ образовательного и воспитательного  процесс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696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налитически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документ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ы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в школе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6438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55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Arial"/>
              </a:rPr>
              <a:t>Анализ возможностей: педколлектив, материально- техническая база, запрос родителей, социум, контингент: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15520" indent="-515520">
              <a:lnSpc>
                <a:spcPct val="93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Анализ работы  школы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(Технологии Анализа Результатов Работы Образовательной Системы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(ТАРРОС)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 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«Landrail»)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15520" indent="-515520">
              <a:lnSpc>
                <a:spcPct val="93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Диагностика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педколлектива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мониторинг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педдеятельности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15520" indent="-515520">
              <a:lnSpc>
                <a:spcPct val="93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Анкетирование родител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15520" indent="-515520">
              <a:lnSpc>
                <a:spcPct val="93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Анализ контингента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Социальный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паспорт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класса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ОШ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15520" indent="-515520">
              <a:lnSpc>
                <a:spcPct val="93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Паспорт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кабинета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(образец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8"/>
          <a:stretch/>
        </p:blipFill>
        <p:spPr>
          <a:xfrm>
            <a:off x="539640" y="5300640"/>
            <a:ext cx="1382760" cy="1165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9"/>
          <a:stretch/>
        </p:blipFill>
        <p:spPr>
          <a:xfrm>
            <a:off x="7473960" y="4941720"/>
            <a:ext cx="1670040" cy="149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79640" y="5300640"/>
            <a:ext cx="5329080" cy="13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                   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рганизация программирования в учреждении опираетс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выводы проведённого анализа и самооценки,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которые являются объективным критерием для разработки содержания ООП, их классификации и систематизации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930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Различные уровни участия коллектива школы в создании образовательной программы составляют своеобразную иерархию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64208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й уровень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участия достигается в том случае, когда прилагаются усилия для улучшения общения и межличностных отношений сотрудников в условиях образовательного процесса. При этом коллектив выступает как относительно пассивный субъект соучаст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ой уровень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осуществляется тогда, когда сформировано активное участие коллектива школы в повышении качества образования в данном образовательном учрежден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третьем уровне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коллектив рассматривается как партнёры в управлении образовательным процессом учреждения. На третьем уровне участия коллектива в управлении возникает проблема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риска соучастия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. Он связан, с одной стороны, с возрастанием требований учителей к разделению власти в школе, повышению их вклада в различные сферы управления, с другой стороны, с отсутствием соответствующих профессиональных знаний, неадекватной положению учителя ответственности за результаты деятельности школы в целом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873920" y="2349360"/>
            <a:ext cx="1270080" cy="3391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556000" y="33336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2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/>
          <p:nvPr/>
        </p:nvSpPr>
        <p:spPr>
          <a:xfrm>
            <a:off x="4211640" y="189000"/>
            <a:ext cx="403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Включение, участие коллектива образовательного учреждения в процесс выработки, принятия и реализации образовательной программы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203640" cy="23558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Компетенции  и </a:t>
            </a: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качества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участников рабочей групп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64198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Информационна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Предметно- методологическа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Коммуникативна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Способность к оригинальным решения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Потребность в самовыражени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Интуици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Воображени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67280" y="40464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3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/>
          <p:nvPr/>
        </p:nvSpPr>
        <p:spPr>
          <a:xfrm>
            <a:off x="5435640" y="333360"/>
            <a:ext cx="3024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одбор педагогов и создание  рабочей групп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124000" y="2492280"/>
            <a:ext cx="6696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ля человека, который не знает, к какой гавани он направляется, ни один ветер не будет попутным.    Сенека Старший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..когда мы правильно оцениваем нашу силу и совершенство, мы ясно видим, что мы должны делать для достижения нашей доброй цели. С другой стороны, зная свои недостатки и немощь, мы видим, чего должны избегать.        В. Спиноз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1640" y="134136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Технология разработки образовательной программы общеобразовательного учреждения предусматривает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рациональное расчленение на процедуры и операции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с их последующей координацией и синхронизацией, выбор оптимальных средств и методов их выполнения в рамках рабочей группы с подключением внешних экспертов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920" y="5734080"/>
            <a:ext cx="1151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4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3763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1125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Учет основных требований к разработк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бразовательная программа должна чётко и ясно представлять своеобразные особенности педагогической системы и те образовательные возможности, которые интересны или могут стать в будущем привлекательными для детей и родителе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держание образовательной программы учреждения не может оставаться в неизменном виде и быть тем «отстранённым документом», который создаётся формально раз и навсегд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Изменение в обществе, в системе образования в связи со становлением его вариативности, появления инновационных педагогических систем и новых технологий образования может отражаться в учебном плане, в плане школы ( составляются ежегодно)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днако в содержании ООП всегда должны сохраняться те основы, которые отвечают его главному предназначению –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исс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780000" y="33336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5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260280"/>
            <a:ext cx="3384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огружение в проблему с учетом основных требован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16393800">
            <a:off x="1018440" y="4965840"/>
            <a:ext cx="826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6920" y="1125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Что такое  МИССИЯ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35280" y="2349360"/>
            <a:ext cx="6264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Миссия – это то, что интегрирует, организует и вдохновляет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Миссия – отправная точка стратегического менеджмента организации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Миссия – это основная идеология организации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Миссия – сознание организации;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 flipH="1">
            <a:off x="152280" y="2084400"/>
            <a:ext cx="1828800" cy="4114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741680" cy="2244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227640" y="476280"/>
            <a:ext cx="1584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ССИЯ 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308720" y="620640"/>
            <a:ext cx="935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КАКОВЫ ОСОБЕННОСТИ МИССИИ ШКОЛ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о-первых, школа по определению является образовательной организацией и в этом качестве несвободна в выборе отраслей и направлений своей деятельности, у школы в этом плане меньше возможностей для маневра, чем у бизнес-организаци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о-вторых, подавляющее большинство российских школ сегодня имеют организационную форму учреждения и обязаны согласовывать свою миссию с учредителе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-третьих, многие важные компоненты миссии любой школы обусловлены общей природой образова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-четвертых, миссия школ отличается высочайшим уровнем социальной ответственност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-пятых миссии школа формирует у потребителей своих услуг культуру заказа на образование и привычку соразмерять свои запросы со статусом школы и принятой ею на себя миссией.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сточники уникальных составляющих миссии школы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объективные особенности (местонахождение, контингент учащихся, потенциал коллектива школы, уровень оснащенности и т.п.), не надо выдумывать, но важно учитывать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убъективные факторы(уровень самооценки и притязаний коллектива, его социальной и профессиональной ответственности, видение приоритетных задач и обязательств), результат осмысления конкретной деятельности образовательного учреждения и его коллектива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так, мисси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ыражает общие ценности и взгляды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вязана с культурой школы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оддерживается всем коллективом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имеет определенные последствия для организации и стиля обучения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направляет процесс принятия решений и работу в школе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формулируется таким образом, чтобы было можно оценить, насколько и в какой степени она реализуется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1295280" cy="1371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227640" y="692280"/>
            <a:ext cx="180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ИССИЯ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Сравним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64244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формирование личности, способной жить, действовать, реализовывать себя в современном информационном мире, способной совместно с другими создавать новое гражданское обществ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азвитие особых способностей участников педагогического процесса, подготовка образованных, физически развитых, культурных молодых людей, способных к дальнейшему совершенствованию и адаптации к изменениям социально-экономических условий на основе современных технологий и педагогики сотрудничеств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859280" y="404640"/>
            <a:ext cx="3672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ите миссию гимназии и миссию школы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5473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ругой не менее важной особенностью образовательного учреждения является влияние его сложившейся внутренней культуры на состояние и результаты образовательного процесса (разработку ОПП)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482436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льтура образовательного учреждени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– это уникальная, многослойная система норм, традиций, стилей поведения, способов деятельности и мышления, менталитета. Её создателями и носителями являются все участники жизнедеятельности учреждения: администрация, педагоги, дети, их родители, сотрудники и т.д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Культура учреждения и выбор миссии, – специфические критерии для установления целостности образовательного учреждения, его системной определённости (статуса) в разработке ОПП.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83240" y="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659640" y="2924280"/>
            <a:ext cx="2303280" cy="1726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5292720" y="4221000"/>
            <a:ext cx="2449440" cy="1837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7812000" y="5013360"/>
            <a:ext cx="1177920" cy="1519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516720" y="6165720"/>
            <a:ext cx="18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ОУ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028000" y="6021000"/>
            <a:ext cx="504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Методы творческого поиска в процессе разработки ООП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57722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етод контрольных вопросов (аналитическая деятельность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етод мозговой атаки                           ( инновационная деятельность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орфологические матрицы- например- матрица Эйзенхауэра                             ( целеполагание)-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ознакомление в процессе практической деятельности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1916280"/>
            <a:ext cx="820800" cy="122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tretch/>
        </p:blipFill>
        <p:spPr>
          <a:xfrm>
            <a:off x="6516720" y="3500280"/>
            <a:ext cx="2158920" cy="1171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948360" y="5084640"/>
            <a:ext cx="1495440" cy="1511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3780000" y="33336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6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"/>
          <p:cNvSpPr/>
          <p:nvPr/>
        </p:nvSpPr>
        <p:spPr>
          <a:xfrm>
            <a:off x="5292720" y="260280"/>
            <a:ext cx="3311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ыбор метода творческого поиск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654600">
            <a:off x="8027640" y="2781000"/>
            <a:ext cx="57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Г/с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54007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69280" indent="-269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Определить структуру ООП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69280" indent="-269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Составить документ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69280" indent="-269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Откорректировать детали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69280" indent="-269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Редактировать документ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69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69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780000" y="33336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7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333360"/>
            <a:ext cx="32403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ектирование и конструирование. Систематизация Редактирование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6920" y="981000"/>
            <a:ext cx="15051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аж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879640" cy="21589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84" name=""/>
          <p:cNvSpPr txBox="1"/>
          <p:nvPr/>
        </p:nvSpPr>
        <p:spPr>
          <a:xfrm>
            <a:off x="6372360" y="3429000"/>
            <a:ext cx="2160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Яшкова А.Н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доцент кафедры психолог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МГПИ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4581360"/>
            <a:ext cx="2663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консультант и член рабочей групп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6985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ооружить инструментарием по созданию образовательной программы школы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43970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857840" y="1933560"/>
            <a:ext cx="4286160" cy="49244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655164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римерная структура образовательной программы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20072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Аналитическое обоснование программы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Адресность образовательной программы.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, задачи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, приоритетные направления и ожидаемый  результат в рамках общей характеристики учреждения.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чебный план, пояснительная записка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бочие учебные программы по предметам   (дисциплинам), видам деятельности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рганизация образовательного процесса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528120" indent="-52812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ониторинг реализации ООП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8360" y="333360"/>
            <a:ext cx="20574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0" name="Document"/>
          <p:cNvSpPr/>
          <p:nvPr/>
        </p:nvSpPr>
        <p:spPr>
          <a:xfrm>
            <a:off x="395280" y="1484280"/>
            <a:ext cx="576360" cy="720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г/с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857840" y="1933560"/>
            <a:ext cx="4286160" cy="49244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10920" y="1125000"/>
            <a:ext cx="7417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римерная структура образовательной программы (модульная)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20072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-й модуль. Характеристика учреждения или полная информационная справка учреждения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-й модуль. Аналитическое обоснование программы: описание образовательных интересов, потребностей детей, родителей, социума; оценка и состояние педагогического процесса и условий для его реализации и развития; выделение проблем, на которые направляются усилия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–й модуль. Ведущие концептуальные подходы, приоритеты образования, философия образования, цели и задачи образовательной деятельности учреждения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–й модуль. Выбранный из имеющихся предложений или самостоятельно разработанный учебный план учреждения, регламентирующий образовательный процесс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–й модуль. Описание особенностей организации образовательного процесса, взаимообусловленности и преемственности ступеней или уровней содержания образования, форм организации деятельности, педагогических технологий, системы промежуточной и конечной аттестации детей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–й модуль. Организация экспериментальной площадки в учреждении и карта инновационной деятельности (для учреждений, выбравших для себя тему эксперимента и претендующих на статус инновационного учреждения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–й модуль. Психолого-педагогическое и методическое обеспечение реализации образовательных программ учреждения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511920" indent="-5119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–й модуль. Управление реализацией программ через мониторинг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333360"/>
            <a:ext cx="20574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76000" y="836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труктура Образовательной программы МОУ « СОШ №22»</a:t>
            </a:r>
            <a:br>
              <a:rPr sz="3200"/>
            </a:b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( концептуальная часть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64244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Информационная справка об образовательном учреждени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Аналитическое описание результатов деятельности образовательного учрежде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Миссия 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Концепция школы как социально-ориентированной системы образо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Образовательная программа школы ( по примеру 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Программа развития 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Управление реализацией программ через мониторин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7320" indent="-51732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Приложение:  Программы  сопровождения деятельности школ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5300640"/>
            <a:ext cx="7488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построения ООП- блочна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рассчитана на 5 лет (2010-2015 г.г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093080" y="5084640"/>
            <a:ext cx="15951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Программы  сопровождения деятельности школы как социоориентированной модели</a:t>
            </a:r>
            <a:br>
              <a:rPr sz="1800"/>
            </a:b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496000" cy="331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«Одаренные дети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имкина О.Ю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развития методической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упчик О.Н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информатизации образовательного пространства МОУ                   « Средняя общеобразовательная школа №22»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Савенкова О.А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здоровьесберегающего пространства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овало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«Семья и школа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евкина Е.Н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«Психолого –педагогическое сопровождение учащихся с девиантным поведение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евина Н.Н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«Преемстве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( Купчик О.Н., Левина Т.В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26920" y="5877000"/>
            <a:ext cx="1151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8.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/>
          <p:nvPr/>
        </p:nvSpPr>
        <p:spPr>
          <a:xfrm>
            <a:off x="2268360" y="5805360"/>
            <a:ext cx="5257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бсуждение, утверждение ООП на всех уровнях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177920" cy="15192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48360" y="189000"/>
            <a:ext cx="2665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развития и программы сопровожде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620640"/>
            <a:ext cx="1297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ПОМНИМ-В непосредственной зависимости от ООП учреждения находятся  не только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развития учреждения, программы сопровождения но  и учебный план учреждения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99128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сновным механизмом реализации  основной  образовательной программы должен стать  учебный (образовательный) план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УП составляется на год. Структура учебного плана предусматривает: </a:t>
            </a:r>
            <a:br>
              <a:rPr sz="2000"/>
            </a:b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      – инвариантную часть, или ядро, которое обеспечивает приобщение к общекультурным и национально значимым ценностям. </a:t>
            </a:r>
            <a:br>
              <a:rPr sz="2000"/>
            </a:b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      – вариативную часть, которая обеспечивает индивидуальный характер развития школьников, учитывает их личностные интересы, способности и склонност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аждая школа составляет свои учебный план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на основании регионального с учетом ООП школы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, который сопровождается пояснительной записко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261200" y="0"/>
            <a:ext cx="1882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3164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280" y="2492280"/>
            <a:ext cx="806292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одержание деятельности образовательного учреждения в основном определяется педагогами с учётом примерных учебных планов и программ, рекомендованных государственными органами управления образованием, а также авторских программ, утвержденных педагогическим или методическим советом учрежд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аво на авторскую программу имеют все педагогические работники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 Педагоги имеют право самостоятельного выбора, могут использовать для своей деятельности примерные образовательные программы разных уровней и направленности общего образования или могут разработать новую программу, в соответствии со своими профессиональными интересами и творческими способностям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едагог осуществляет свою деятельность на основе своей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рабочей образовательной программ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 rot="20948400">
            <a:off x="3203280" y="475920"/>
            <a:ext cx="2087640" cy="156528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 rot="664800">
            <a:off x="6372000" y="476280"/>
            <a:ext cx="2089080" cy="1566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4859280" y="765000"/>
            <a:ext cx="186228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1687680"/>
            <a:ext cx="655344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годно меняющееся часть ООП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71280" y="3141360"/>
            <a:ext cx="764388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чебный план, пояснительная записка.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Рабочие учебные программы по предметам   (дисциплинам), видам деятельности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Организация образовательного процесса (план работы школы)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ониторинг реализации ООП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01132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11966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иторинг реализации ООП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76000" y="2492280"/>
            <a:ext cx="734220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олучение объективной информации о состоянии педагогического процесса в школе;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установление степени соответствия фактического состояния педагогического процесса в школе программируемому;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коррекция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79280" y="2924280"/>
          <a:ext cx="1403280" cy="297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924280"/>
                    <a:ext cx="14032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 txBox="1"/>
          <p:nvPr/>
        </p:nvSpPr>
        <p:spPr>
          <a:xfrm>
            <a:off x="3780000" y="333360"/>
            <a:ext cx="115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г 9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260280"/>
            <a:ext cx="2592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Unicode MS"/>
              </a:rPr>
              <a:t>КОНТРОЛЬ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cc"/>
                </a:solidFill>
                <a:latin typeface="Arial Unicode MS"/>
              </a:rPr>
              <a:t>коррекц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Направления мониторинга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идактическая деятельность учителя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оспитательная деятельность учителя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азвитие учащихся средствами учебного предмета;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азвитие учащихся средствами программ сопровождения деятельности школы как социоориентированной модели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уровень педагогического мастерства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абота с документацией (учебной, нормативной и т.д.)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ыполнение санитарно-гигиенического режима;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организационно-управленческая деятельность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4745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иды мониторинга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6120" y="2492280"/>
            <a:ext cx="72118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нутренний ( осуществляется администрацией, профсоюзом и управляющим советом школы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нешний ( осуществляется  центром тестирования при Министерстве Образования РМ и  Городским Управлением Образования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351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6480" y="2205000"/>
            <a:ext cx="764208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Ознакомить со структурой образовательной программы  школ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оказать технологию разработки образовательной программы общеобразовательного учреждения                      ( 9 шагов  эффективной деятельности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Акцентировать внимание на целеполагании  образовательной программы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32720" y="549360"/>
            <a:ext cx="1638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Фиксирование результатов мониторинг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Анализ работы школы за год фиксируется в плане работы школы на следующий учебный год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Анализ деятельности всех подразделений школы  фиксируется в  ежегодном Публичном докладе, который находиться на сайте школ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Исполнение муниципального задания,  различные виды отчета фиксируются Городским Управлением  Образования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1566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Используемые программы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64244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Технологии Анализа Результатов Работы Образовательной Системы (ТАРРОС)  «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Landrail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»- Анализ работы школы.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Программа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XL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- Анализ контингента учащихся, мониторинг учебной деятельности по четвертям и год.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5099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Девять шагов эффективной деятельности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2080" cy="39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83000"/>
              </a:lnSpc>
              <a:spcBef>
                <a:spcPts val="125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Анализ образовательного и воспитательного  процесс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125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Включение, участие коллектива образовательного учреждения в процесс выработки, принятия и реализации образовательной программы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125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Подбор педагогов и создание  рабочей групп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рациональное расчленение на процедуры и операции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Погружение в проблему с учетом основных требований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Выбор метода творческого поиск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Проектирование и конструирование. Систематизация Редактировани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Обсуждение, утверждение ООП на всех уровнях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КОНТРОЛЬ, коррекци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164772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6605E-007 L 0.83507 0.00509 E">
                                      <p:cBhvr>
                                        <p:cTn id="20" dur="5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6920" y="16426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Желаю оптимизма и перспектив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7280" y="2997000"/>
            <a:ext cx="70977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одлинный оптимизм покоится не на убеждении, что все будет хорошо, а на убеждении, что не все будет плохо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Ж. Дютур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нашей жизни не столько важно положение, в котором мы находимся, сколько направление, в котором мы движемс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.Холмз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14308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5516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План семинар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813420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Образовательная программа школы, структура и  технология разработки                       ( Купчик О.Н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Новые требования к структуре основной образовательной программы начального общего образования (Левина Т.В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>
              <a:lnSpc>
                <a:spcPct val="83000"/>
              </a:lnSpc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актическое занятие «Целеполагание эффективной деятельности. Технологии постановки целей и их достижения.»                         ( Купчик О.Н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1752480"/>
            <a:ext cx="65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Мотивационный аспек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5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Происходит смена образовательной парадигмы: предлагаются иное содержание, иные подходы, право, отношения, поведение, иной педагогический менталитет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Содержание образования обогащается новыми процессуальными умениями, развитием способностей оперированием информацией, творческим решением проблем науки и рыночной практики с акцентом на индивидуализацию образовательных программ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В российском образовании провозглашен сегодня принцип вариативности, который даёт педагогическим коллективам образовательных учебных заведений выбирать и конструировать педагогический процесс по любой модели, включая авторские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5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Идет активный процесс обновления содержания, организации форм и методов образова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404640"/>
            <a:ext cx="4572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что не вечно, кроме перемен. Геракли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65530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Нормативный докумен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11280"/>
            <a:ext cx="79930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3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бразовательной программы школы получило распространение после принятия в 1992 г. Закона РФ «Об образовании». Статья 14 закона устанавливает, что содержание образования в конкретном образовательном учреждении определяется образовательной программой (образовательными программами) разрабатываемой, принимаемой и реализуемой этим образовательным учреждением самостоятельно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В соответствии  со статьей 9 п.1. Закона РФ "Об  образовании" (в ред. Федерального закона от 01.12.2007 №309-ФЗ) единственным официальным нормативным документом в школе,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яющим содержание образования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определенного уровня и направленности, является основная образовательная (общеобразовательная) программа (ООП) ступени образования (начального общего, основного общего, среднего (полного) общего образования (п.3 ст.9 Закона РФ "Об  образовании"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732720" y="333360"/>
            <a:ext cx="2133360" cy="1744200"/>
            <a:chOff x="6732720" y="333360"/>
            <a:chExt cx="2133360" cy="1744200"/>
          </a:xfrm>
        </p:grpSpPr>
        <p:sp>
          <p:nvSpPr>
            <p:cNvPr id="175" name=""/>
            <p:cNvSpPr/>
            <p:nvPr/>
          </p:nvSpPr>
          <p:spPr>
            <a:xfrm>
              <a:off x="6732720" y="333360"/>
              <a:ext cx="2133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7248600" y="758160"/>
              <a:ext cx="1439640" cy="131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1196640"/>
            <a:ext cx="7200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оявление Федерального закона от 01.12.2007 </a:t>
            </a: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№ 309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 "О внесении изменений в отдельные законодательные акты Российской Федерации в части изменения понятия и структуры государственного образовательного стандарта" наконец решает проблему нормативного закрепления структуры и содержания образовательной программы на примере школы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коном вводятся три понятия: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813420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римерная основная образовательная программа", разрабатываемая и предлагаемая для системы общего образования государством в виде совокупности: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базисного (примерного) учебного плана;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имерных программ курсов, предметов, дисциплин (модулей) с учетом уровня и ступени образования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Основная образовательная программа общеобразовательного учреждения", которая разрабатывается ОУ и включает в себя: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требования к результатам подготовки выпускников;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учебный план;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рабочие программы учебных курсов, предметов, дисциплин (модулей);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еречень используемых учебников и средств обучения и воспитания;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методические материалы, обеспечивающие реализацию соответствующей образовательной технологии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Дополнительная образовательная программа", направленная на реализацию потребностей и запросов обучающихся и включающая рабочие программы учебных курсов, предметов, дисциплин (модулей) системы дополнительного образования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1536480"/>
            <a:ext cx="655344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Что такое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О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ОП ОУ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79280" y="2238480"/>
            <a:ext cx="7738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Образовательная программа общеобразовательного учреждения конкретизирует основную образовательную программу применительно к особенностям вида учреждения общего образования, состава учащихся, места расположения образовательного учреждения, педагогических возможностей образовательного учрежде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Образовательная программа – это тот нормативно-управленческий документ, который вместе с Уставом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лужит основанием для лицензирования, сертификации, изменением параметров бюджетного финансирования и введения платных образовательных услуг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в соответствии с потребностями и интересами детей и родителей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4724280"/>
            <a:ext cx="71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2:44:11Z</dcterms:created>
  <dc:creator>ЗавучУВР</dc:creator>
  <dc:description/>
  <dc:language>en-US</dc:language>
  <cp:lastModifiedBy>Customer</cp:lastModifiedBy>
  <dcterms:modified xsi:type="dcterms:W3CDTF">2011-02-23T12:01:26Z</dcterms:modified>
  <cp:revision>62</cp:revision>
  <dc:subject/>
  <dc:title> </dc:title>
</cp:coreProperties>
</file>