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4D68-11EA-4D0C-81DD-36BADC3B68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359F-3914-4466-A74B-17496A0B12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1B35-72B5-466F-958C-7989FF2AFE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кими мы хотим видеть учащихся и выпускников начальной школы. Поэтому основную задачу начальной школы можно сформулировать следующим образом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ддерживать и развиват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основные достижения дошкольного периода развития, не прерывая и не подавляя ни одну из линий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ормировать на этой основе учебную самостоятельность младших школьнико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Достижение этой задачи будет способствовать и успешному учению на следующей ступени. Это возможно, если учебный процесс нацелен на становление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ченического сообще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групп детей, объединяемых и объединяющихся для совместной учебной 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2088-82C3-4EEB-9AB0-7ADB519068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6D3D-0357-4C7A-9787-35F87E6A82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1CB6-3BDB-4D24-9EF6-2038D7F275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470E-D478-4CDF-8E0E-C4EFC4FBBB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BB0D-5209-487B-9FFB-328F9F5830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кими мы хотим видеть учащихся и выпускников начальной школы. Поэтому основную задачу начальной школы можно сформулировать следующим образом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ддерживать и развиват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основные достижения дошкольного периода развития, не прерывая и не подавляя ни одну из линий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ормировать на этой основе учебную самостоятельность младших школьнико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Достижение этой задачи будет способствовать и успешному учению на следующей ступени. Это возможно, если учебный процесс нацелен на становление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ченического сообще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групп детей, объединяемых и объединяющихся для совместной учебной 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8F53-3B27-4DF7-8741-A1EC83B19D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843E-F40E-4B63-8E0A-A43DFF03AA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72B6-FB2C-4AE3-A7EA-E612E35CB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C9F7-816E-480E-9E74-ECC25E17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0533-47B7-4E97-B1D3-29905DFD3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87C0-1D6F-4BCC-B666-1C3A3D070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2BD9-9A65-4D15-8237-0798444FD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238E-EE45-495D-8751-A30B1DCC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1EE8-C26D-453A-B3A7-0E935015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0EF7-14D2-41C5-AAD7-D6F3AB4A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EE5B-8887-4D54-A6A9-AB39D7B7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9820-1F5F-4ABF-945B-B0DE3BB0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0084A-CC71-4B44-AEDF-A8094BB6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EA5D-7599-4E16-8739-2A54BE17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65AA-96E1-4C02-A6D3-46EF5D49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1463-50BE-46A4-BA5C-1E8EFA71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275E-C770-47D9-889E-66C85D88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A508-CEAD-4A57-AEAF-EECB1F383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F9F81-21AD-403A-AE53-9E00D5B5C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4845-8DAD-4113-AD5F-C8750F39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B3BB-A1B4-41B5-8B9B-27ABB4B0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B241-04F6-47B6-B5D8-07801F8C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E526-4815-4D97-B3F1-AF25C796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D7AB-69FE-459D-824C-AC304A5D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C2B9-9773-409F-B1F5-7FB15489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52D1-8272-42A0-BF77-74E807A7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F2EF-E0D3-4220-9BEC-2866BA0CF8F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E132-BF43-4343-81B2-B7C844B115B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../../../Documents%20and%20Settings/user/&#1056;&#1072;&#1073;&#1086;&#1095;&#1080;&#1081;%20&#1089;&#1090;&#1086;&#1083;/&#1052;&#1086;&#1103;%20&#1089;&#1077;&#1082;&#1094;&#1080;&#1103;/&#1055;&#1040;&#1088;&#1080;&#1084;&#1077;&#1088;&#1085;&#1072;&#1103;%20&#1086;&#1073;&#1088;%20&#1087;&#1088;&#1086;&#1075;%201.pdf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762120"/>
            <a:ext cx="66294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Средняя общеобразовательная школа №22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066320" y="3733920"/>
            <a:ext cx="76201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Arial"/>
              </a:rPr>
              <a:t>Основная образовательная программа началь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9900"/>
                </a:solidFill>
                <a:latin typeface="Arial"/>
              </a:rPr>
              <a:t>обще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родской семинар для заместителей директоров по У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 января 2011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2"/>
          <p:cNvSpPr/>
          <p:nvPr/>
        </p:nvSpPr>
        <p:spPr>
          <a:xfrm>
            <a:off x="228600" y="228600"/>
            <a:ext cx="8712360" cy="107964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28440">
            <a:solidFill>
              <a:srgbClr val="ffffe1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Arial"/>
              </a:rPr>
              <a:t>Основные результа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Arial"/>
              </a:rPr>
              <a:t>начального образ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533520" y="1894320"/>
            <a:ext cx="861048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ормировани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порной системы знаний,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д-метных и универсальных способов действ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беспечивающих возможность продолжения образования в основной школ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оспитани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мения учить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пособности 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организации с целью решения учебных задач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ндивидуальный прогресс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сновных сфе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чностного развития – эмоциональной, познавательной, саморегу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0" y="6021360"/>
            <a:ext cx="9144000" cy="83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669900"/>
                </a:solidFill>
                <a:latin typeface="Arial"/>
              </a:rPr>
              <a:t>Развитие личности учащегося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669900"/>
                </a:solidFill>
                <a:latin typeface="Arial"/>
              </a:rPr>
              <a:t>формирование «компетентности к обновлению компетенций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380880" y="304920"/>
            <a:ext cx="8456760" cy="6095160"/>
            <a:chOff x="380880" y="304920"/>
            <a:chExt cx="8456760" cy="6095160"/>
          </a:xfrm>
        </p:grpSpPr>
        <p:cxnSp>
          <p:nvCxnSpPr>
            <p:cNvPr id="146" name="_s138254"/>
            <p:cNvCxnSpPr>
              <a:stCxn id="147" idx="1"/>
              <a:endCxn id="148" idx="2"/>
            </p:cNvCxnSpPr>
            <p:nvPr/>
          </p:nvCxnSpPr>
          <p:spPr>
            <a:xfrm rot="10800000">
              <a:off x="2917080" y="1412280"/>
              <a:ext cx="846360" cy="4433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9" name="_s138253"/>
            <p:cNvCxnSpPr>
              <a:stCxn id="150" idx="1"/>
              <a:endCxn id="148" idx="2"/>
            </p:cNvCxnSpPr>
            <p:nvPr/>
          </p:nvCxnSpPr>
          <p:spPr>
            <a:xfrm rot="10800000">
              <a:off x="2917080" y="1412280"/>
              <a:ext cx="846360" cy="2771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1" name="_s138252"/>
            <p:cNvCxnSpPr>
              <a:stCxn id="152" idx="1"/>
              <a:endCxn id="148" idx="2"/>
            </p:cNvCxnSpPr>
            <p:nvPr/>
          </p:nvCxnSpPr>
          <p:spPr>
            <a:xfrm rot="10800000">
              <a:off x="2917080" y="1412280"/>
              <a:ext cx="846360" cy="1108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8" name="_s138248"/>
            <p:cNvSpPr/>
            <p:nvPr/>
          </p:nvSpPr>
          <p:spPr>
            <a:xfrm>
              <a:off x="380880" y="304920"/>
              <a:ext cx="5074200" cy="11080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Структура планируемых результат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состоит из трех </a:t>
              </a:r>
              <a:r>
                <a:rPr b="1" lang="en-US" sz="2200" spc="-1" strike="noStrike" u="sng">
                  <a:solidFill>
                    <a:srgbClr val="000000"/>
                  </a:solidFill>
                  <a:uFillTx/>
                  <a:latin typeface="Arial"/>
                </a:rPr>
                <a:t>блоков целей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138249"/>
            <p:cNvSpPr/>
            <p:nvPr/>
          </p:nvSpPr>
          <p:spPr>
            <a:xfrm>
              <a:off x="3763440" y="1967040"/>
              <a:ext cx="5074200" cy="11080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Цели-ориентиры – 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определяют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ведущие целевые установки и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основные ожидаемые результаты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изучения предмета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138250"/>
            <p:cNvSpPr/>
            <p:nvPr/>
          </p:nvSpPr>
          <p:spPr>
            <a:xfrm>
              <a:off x="3763440" y="3629520"/>
              <a:ext cx="5074200" cy="11080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«Выпускник научится»(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ожидаемые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результаты) – опорная система знаний,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умений, компетенций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138251"/>
            <p:cNvSpPr/>
            <p:nvPr/>
          </p:nvSpPr>
          <p:spPr>
            <a:xfrm>
              <a:off x="3763440" y="5292000"/>
              <a:ext cx="5074200" cy="11080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«Выпускник получит возможност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научиться»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 - система учебных действий,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выступающих как пропедевтика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для дальнейшего изучения предмета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AutoShape 2"/>
          <p:cNvSpPr/>
          <p:nvPr/>
        </p:nvSpPr>
        <p:spPr>
          <a:xfrm>
            <a:off x="179280" y="0"/>
            <a:ext cx="8964720" cy="11890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c0c0c0"/>
              </a:gs>
              <a:gs pos="50000">
                <a:srgbClr val="ffffcc"/>
              </a:gs>
              <a:gs pos="100000">
                <a:srgbClr val="c0c0c0"/>
              </a:gs>
            </a:gsLst>
            <a:lin ang="5400000"/>
          </a:gradFill>
          <a:ln w="28440">
            <a:solidFill>
              <a:srgbClr val="ffffe1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9900"/>
                </a:solidFill>
                <a:latin typeface="Arial"/>
              </a:rPr>
              <a:t>Ожидаемые результа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Arial"/>
              </a:rPr>
              <a:t>портрет выпускника начальной шко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007dbf48c495"/>
          <p:cNvPicPr/>
          <p:nvPr/>
        </p:nvPicPr>
        <p:blipFill>
          <a:blip r:embed="rId1"/>
          <a:stretch/>
        </p:blipFill>
        <p:spPr>
          <a:xfrm>
            <a:off x="228600" y="1676520"/>
            <a:ext cx="1486080" cy="1981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Картинка 29 из 132"/>
          <p:cNvPicPr/>
          <p:nvPr/>
        </p:nvPicPr>
        <p:blipFill>
          <a:blip r:embed="rId2"/>
          <a:stretch/>
        </p:blipFill>
        <p:spPr>
          <a:xfrm>
            <a:off x="6624720" y="2637000"/>
            <a:ext cx="1587240" cy="2124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ad2dbe1d2517"/>
          <p:cNvPicPr/>
          <p:nvPr/>
        </p:nvPicPr>
        <p:blipFill>
          <a:blip r:embed="rId3"/>
          <a:stretch/>
        </p:blipFill>
        <p:spPr>
          <a:xfrm>
            <a:off x="7451640" y="1484280"/>
            <a:ext cx="1548000" cy="19717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1767240" y="1808280"/>
            <a:ext cx="30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деятельный и актив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1981800" y="2313000"/>
            <a:ext cx="16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00"/>
                </a:solidFill>
                <a:latin typeface="Arial"/>
              </a:rPr>
              <a:t>креатив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2124720" y="281628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любознат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2307600" y="3249720"/>
            <a:ext cx="195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инициатив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613800" y="3886200"/>
            <a:ext cx="422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открытый внешнему мир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доброжелательный и отзывчи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251640" y="4581360"/>
            <a:ext cx="41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положительное отношение к себ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уверенность в своих сил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4876920" y="38862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муник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в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2808360" y="6021360"/>
            <a:ext cx="63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выки самоорганизации и здорового образа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5148360" y="242100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следов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ь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6767640" y="4941720"/>
            <a:ext cx="21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орегуля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4114800" y="4952880"/>
            <a:ext cx="23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2520" y="5410080"/>
            <a:ext cx="280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чувство собствен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достои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3505320" y="541008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важительное отношение к окружающи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 иной точке з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9"/>
          <p:cNvSpPr/>
          <p:nvPr/>
        </p:nvSpPr>
        <p:spPr>
          <a:xfrm>
            <a:off x="-152280" y="6381720"/>
            <a:ext cx="9144000" cy="476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Arial"/>
              </a:rPr>
              <a:t>УЧЕБНАЯ САМОСТОЯТЕЛЬНОСТЬ ≡ УМЕНИЕ УЧИ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2"/>
          <p:cNvSpPr/>
          <p:nvPr/>
        </p:nvSpPr>
        <p:spPr>
          <a:xfrm>
            <a:off x="0" y="0"/>
            <a:ext cx="8964720" cy="765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c0c0c0"/>
              </a:gs>
              <a:gs pos="50000">
                <a:srgbClr val="ffffcc"/>
              </a:gs>
              <a:gs pos="100000">
                <a:srgbClr val="c0c0c0"/>
              </a:gs>
            </a:gsLst>
            <a:lin ang="5400000"/>
          </a:gradFill>
          <a:ln w="28440">
            <a:solidFill>
              <a:srgbClr val="ffffe1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9900"/>
                </a:solidFill>
                <a:latin typeface="Arial"/>
              </a:rPr>
              <a:t>РАЗДЕЛ 3</a:t>
            </a:r>
            <a:r>
              <a:rPr b="1" lang="en-US" sz="2000" spc="-1" strike="noStrike">
                <a:solidFill>
                  <a:srgbClr val="669900"/>
                </a:solidFill>
                <a:latin typeface="Arial"/>
              </a:rPr>
              <a:t>  Базисный учебный план начального общег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1828800" y="1974240"/>
            <a:ext cx="714060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602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азисный учебный пла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основа для разработки учебного плана образовательного 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02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ебный (образовательный) план образовательного учреждения должен стать механизмом реализации ООП. Для этого при конструировании  учебного (образовательного) плана необходимо учитывать основные базовые показатели и соотношения  между  отдельными  частями ОО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6602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вариантная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6602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риативная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6602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неучебная 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125"/>
              </a:spcAft>
              <a:tabLst>
                <a:tab algn="l" pos="0"/>
                <a:tab algn="l" pos="6602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направлениям (10 ч/не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6360" y="-1039680"/>
            <a:ext cx="3268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36360" y="-1039680"/>
            <a:ext cx="3268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36360" y="7667640"/>
            <a:ext cx="1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7" descr=""/>
          <p:cNvPicPr/>
          <p:nvPr/>
        </p:nvPicPr>
        <p:blipFill>
          <a:blip r:embed="rId1"/>
          <a:stretch/>
        </p:blipFill>
        <p:spPr>
          <a:xfrm>
            <a:off x="216000" y="1089000"/>
            <a:ext cx="154620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576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120" y="380520"/>
            <a:ext cx="815364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сходя из ФГОС НОО право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пределения часов внутр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ебного плана на учебные   дисциплины, модули, на класс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по учебным неделя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еда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посредственно образовательному учреждению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Предлагаемая новая структура учебного  плана должна позволить образовательному учреждению эффективнее реализовывать  современные образовательные технологии и обеспечивать  оплату не тольк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ебных часов, но также и вне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ебные, внеурочные вид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разователь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257800" y="4495680"/>
            <a:ext cx="32767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286000" y="141840"/>
            <a:ext cx="642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9900"/>
                </a:solidFill>
                <a:latin typeface="Arial Unicode MS"/>
                <a:ea typeface="Times New Roman"/>
              </a:rPr>
              <a:t>Структура объемов учебного и внеучебного планирования основной образовательной программы НО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33520" y="1530360"/>
          <a:ext cx="8915400" cy="5378400"/>
        </p:xfrm>
        <a:graphic>
          <a:graphicData uri="http://schemas.openxmlformats.org/drawingml/2006/table">
            <a:tbl>
              <a:tblPr/>
              <a:tblGrid>
                <a:gridCol w="726840"/>
                <a:gridCol w="2198880"/>
                <a:gridCol w="2073240"/>
                <a:gridCol w="2317680"/>
                <a:gridCol w="1378080"/>
                <a:gridCol w="220680"/>
              </a:tblGrid>
              <a:tr h="404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именование основных разделов ООП НО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бязательная учебная часть ООП (80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ариативная учебная и внеучебная часть ООП (20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аксимальна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чебная нагрузка обучающегос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 го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едметные облас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чебная часть ООП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чебная  часть ООП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2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ятидневная учебная неделя*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323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17 часов/неделя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81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5 часов/неделя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9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Шестидневная учебна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едел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323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17 часов/неделя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87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8 часов/неделя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2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неучебная  деятельнос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неучебная  часть ООП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3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ятидневная учебная недел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50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10 часов/неделя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25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Шестидневная учебна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едел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50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10 часов/неделя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5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ТОГО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2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ятидневная учебная недел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3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25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Шестидневная учебна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едел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3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2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5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Arial Unicode MS"/>
              </a:rPr>
              <a:t>Внеурочная деятельность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838080" y="1523520"/>
            <a:ext cx="3810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Внеурочная деятельность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школьников объединяет все виды деятельности школьников (кроме учебной деятельности на уроке), в которых возможно и целесообразно решение задач их воспитания и социализ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Внеурочная деятельность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это отнюдь не механическая добавка к основному общему образованию, призванная компенсировать недостатки работы с отстающими или одаренными детьми.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Главное при этом – осуществить взаимосвязь и преемственность общего и дополнительного образования как механизма обеспечения полноты и цельности образ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Всего на внеурочную деятельность выделяется 10 ча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867280" y="152280"/>
            <a:ext cx="3148200" cy="23608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257800" y="2235240"/>
            <a:ext cx="3589200" cy="23922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4800600" y="4514760"/>
            <a:ext cx="31240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99640" cy="287280"/>
          </a:xfrm>
          <a:prstGeom prst="rect">
            <a:avLst/>
          </a:prstGeom>
          <a:noFill/>
          <a:ln w="9360">
            <a:solidFill>
              <a:srgbClr val="66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1" lang="en-US" sz="2000" spc="-1" strike="noStrike">
                <a:solidFill>
                  <a:srgbClr val="669900"/>
                </a:solidFill>
                <a:latin typeface="Arial Unicode MS"/>
              </a:rPr>
              <a:t>основные направления внеурочной деятельности: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3915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838080" y="1600200"/>
          <a:ext cx="7925040" cy="5051520"/>
        </p:xfrm>
        <a:graphic>
          <a:graphicData uri="http://schemas.openxmlformats.org/drawingml/2006/table">
            <a:tbl>
              <a:tblPr/>
              <a:tblGrid>
                <a:gridCol w="2249640"/>
                <a:gridCol w="1042920"/>
                <a:gridCol w="1366920"/>
                <a:gridCol w="1363680"/>
                <a:gridCol w="1046160"/>
                <a:gridCol w="855720"/>
              </a:tblGrid>
              <a:tr h="929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2857680"/>
                          <a:tab algn="l" pos="5829480"/>
                          <a:tab algn="l" pos="59436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авл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2857680"/>
                          <a:tab algn="l" pos="5829480"/>
                          <a:tab algn="l" pos="59436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2857680"/>
                          <a:tab algn="l" pos="5829480"/>
                          <a:tab algn="l" pos="59436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857680"/>
                          <a:tab algn="l" pos="5829480"/>
                          <a:tab algn="l" pos="59436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857680"/>
                          <a:tab algn="l" pos="5829480"/>
                          <a:tab algn="l" pos="59436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857680"/>
                          <a:tab algn="l" pos="5829480"/>
                          <a:tab algn="l" pos="59436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857680"/>
                          <a:tab algn="l" pos="5829480"/>
                          <a:tab algn="l" pos="59436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2857680"/>
                          <a:tab algn="l" pos="5829480"/>
                          <a:tab algn="l" pos="59436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2857680"/>
                          <a:tab algn="l" pos="5829480"/>
                          <a:tab algn="l" pos="59436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ртивно-оздоровительн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2857680"/>
                          <a:tab algn="l" pos="5829480"/>
                          <a:tab algn="l" pos="59436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2857680"/>
                          <a:tab algn="l" pos="5829480"/>
                          <a:tab algn="l" pos="59436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2857680"/>
                          <a:tab algn="l" pos="5829480"/>
                          <a:tab algn="l" pos="59436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2857680"/>
                          <a:tab algn="l" pos="5829480"/>
                          <a:tab algn="l" pos="59436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7680"/>
                          <a:tab algn="l" pos="5829480"/>
                          <a:tab algn="l" pos="59436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857680"/>
                          <a:tab algn="l" pos="5829480"/>
                          <a:tab algn="l" pos="59436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2857680"/>
                          <a:tab algn="l" pos="5829480"/>
                          <a:tab algn="l" pos="59436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удожественно-эстетиче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2857680"/>
                          <a:tab algn="l" pos="5829480"/>
                          <a:tab algn="l" pos="59436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2857680"/>
                          <a:tab algn="l" pos="5829480"/>
                          <a:tab algn="l" pos="59436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2857680"/>
                          <a:tab algn="l" pos="5829480"/>
                          <a:tab algn="l" pos="59436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2857680"/>
                          <a:tab algn="l" pos="5829480"/>
                          <a:tab algn="l" pos="59436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2857680"/>
                          <a:tab algn="l" pos="5829480"/>
                          <a:tab algn="l" pos="59436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2857680"/>
                          <a:tab algn="l" pos="5829480"/>
                          <a:tab algn="l" pos="59436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учно-познавательн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2857680"/>
                          <a:tab algn="l" pos="5829480"/>
                          <a:tab algn="l" pos="59436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2857680"/>
                          <a:tab algn="l" pos="5829480"/>
                          <a:tab algn="l" pos="59436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2857680"/>
                          <a:tab algn="l" pos="5829480"/>
                          <a:tab algn="l" pos="59436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2857680"/>
                          <a:tab algn="l" pos="5829480"/>
                          <a:tab algn="l" pos="59436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2857680"/>
                          <a:tab algn="l" pos="5829480"/>
                          <a:tab algn="l" pos="59436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2857680"/>
                          <a:tab algn="l" pos="5829480"/>
                          <a:tab algn="l" pos="59436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енно-патриотиче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2857680"/>
                          <a:tab algn="l" pos="5829480"/>
                          <a:tab algn="l" pos="59436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2857680"/>
                          <a:tab algn="l" pos="5829480"/>
                          <a:tab algn="l" pos="59436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2857680"/>
                          <a:tab algn="l" pos="5829480"/>
                          <a:tab algn="l" pos="59436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2857680"/>
                          <a:tab algn="l" pos="5829480"/>
                          <a:tab algn="l" pos="59436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2857680"/>
                          <a:tab algn="l" pos="5829480"/>
                          <a:tab algn="l" pos="59436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2857680"/>
                          <a:tab algn="l" pos="5829480"/>
                          <a:tab algn="l" pos="59436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ственно-полезная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2857680"/>
                          <a:tab algn="l" pos="5829480"/>
                          <a:tab algn="l" pos="59436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2857680"/>
                          <a:tab algn="l" pos="5829480"/>
                          <a:tab algn="l" pos="59436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2857680"/>
                          <a:tab algn="l" pos="5829480"/>
                          <a:tab algn="l" pos="59436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2857680"/>
                          <a:tab algn="l" pos="5829480"/>
                          <a:tab algn="l" pos="59436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2857680"/>
                          <a:tab algn="l" pos="5829480"/>
                          <a:tab algn="l" pos="59436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2857680"/>
                          <a:tab algn="l" pos="5829480"/>
                          <a:tab algn="l" pos="59436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ктная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2857680"/>
                          <a:tab algn="l" pos="5829480"/>
                          <a:tab algn="l" pos="59436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2857680"/>
                          <a:tab algn="l" pos="5829480"/>
                          <a:tab algn="l" pos="59436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2857680"/>
                          <a:tab algn="l" pos="5829480"/>
                          <a:tab algn="l" pos="59436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2857680"/>
                          <a:tab algn="l" pos="5829480"/>
                          <a:tab algn="l" pos="59436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2857680"/>
                          <a:tab algn="l" pos="5829480"/>
                          <a:tab algn="l" pos="59436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2857680"/>
                          <a:tab algn="l" pos="5829480"/>
                          <a:tab algn="l" pos="59436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2857680"/>
                          <a:tab algn="l" pos="5829480"/>
                          <a:tab algn="l" pos="59436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2857680"/>
                          <a:tab algn="l" pos="5829480"/>
                          <a:tab algn="l" pos="59436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2857680"/>
                          <a:tab algn="l" pos="5829480"/>
                          <a:tab algn="l" pos="59436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2857680"/>
                          <a:tab algn="l" pos="5829480"/>
                          <a:tab algn="l" pos="59436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857680"/>
                          <a:tab algn="l" pos="5829480"/>
                          <a:tab algn="l" pos="59436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Прямая соединительная линия 7"/>
          <p:cNvSpPr/>
          <p:nvPr/>
        </p:nvSpPr>
        <p:spPr>
          <a:xfrm flipV="1">
            <a:off x="571680" y="1357200"/>
            <a:ext cx="207144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9900"/>
                </a:solidFill>
                <a:latin typeface="Arial Unicode MS"/>
              </a:rPr>
              <a:t>РАЗДЕЛ 4</a:t>
            </a:r>
            <a:r>
              <a:rPr b="1" lang="en-US" sz="2000" spc="-1" strike="noStrike">
                <a:solidFill>
                  <a:srgbClr val="669900"/>
                </a:solidFill>
                <a:latin typeface="Arial Unicode MS"/>
              </a:rPr>
              <a:t> Примерная программа формирования универсальных учебных действий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1447560"/>
            <a:ext cx="768996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мерная программа формирования универсальных учебных действий для начального общего образова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устанавливает ценностные ориентиры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чального образ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определяет понятие, функции, состав и характеристики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ниверсальных учебных действий в младшем школьном возрас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ыявляет связь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ниверсальных учебных действий с содержанием учебных предме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определяет услови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обеспечивающие преемственность программы формирования у обучающихся универсальных учебных действий при переходе от дошкольного к начальному и основному общему образова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иды универсальных учебных действий,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ответствующие ключевым целям общего образо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              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личностные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регулятивны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    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познавательные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коммуникати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479840" y="1420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762120" y="1600200"/>
          <a:ext cx="8001000" cy="4876920"/>
        </p:xfrm>
        <a:graphic>
          <a:graphicData uri="http://schemas.openxmlformats.org/drawingml/2006/table">
            <a:tbl>
              <a:tblPr/>
              <a:tblGrid>
                <a:gridCol w="1017360"/>
                <a:gridCol w="6983640"/>
              </a:tblGrid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 Unicode MS"/>
                          <a:ea typeface="Times New Roman"/>
                        </a:rPr>
                        <a:t>Уровень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Unicode MS"/>
                          <a:ea typeface="Times New Roman"/>
                        </a:rPr>
                        <a:t>I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 Unicode MS"/>
                          <a:ea typeface="Times New Roman"/>
                        </a:rPr>
                        <a:t> (начальные класс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Решение пробл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Ученик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Times New Roman"/>
                        <a:buChar char="-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демонстрирует понимание проблемы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Times New Roman"/>
                        <a:buChar char="-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демонстрирует понимание цели и задач деятельности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Times New Roman"/>
                        <a:buChar char="-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демонстрирует понимание последовательности действий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Times New Roman"/>
                        <a:buChar char="-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имеет общее представление о предполагаемом результате своей деятельности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Times New Roman"/>
                        <a:buChar char="-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высказывается по поводу полученного результа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Работа с информаци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Times New Roman"/>
                        <a:buChar char="-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осознает недостаток информации в процессе реализации деятельности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Times New Roman"/>
                        <a:buChar char="-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применяет предложенный учителем способ получать информацию из одного источника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Times New Roman"/>
                        <a:buChar char="-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демонстрирует понимание полученной информации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Times New Roman"/>
                        <a:buChar char="-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демонстрирует понимание выводов по определенному вопрос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6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Коммуник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Arial Unicode MS"/>
                        <a:buChar char="-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соблюдает нормы речи в простом высказывании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Arial Unicode MS"/>
                        <a:buChar char="-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соблюдает нормы изложения простого текста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Arial Unicode MS"/>
                        <a:buChar char="-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работает с вопросами на уточнение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Arial Unicode MS"/>
                        <a:buChar char="-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соблюдает процедуру при работе в групп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0" y="548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9900"/>
                </a:solidFill>
                <a:latin typeface="Arial Unicode MS"/>
              </a:rPr>
              <a:t>Требования к уровню сформированности ключевых компетентностей учащихся</a:t>
            </a:r>
            <a:br>
              <a:rPr sz="2000"/>
            </a:br>
            <a:r>
              <a:rPr b="1" lang="ru-RU" sz="2000" spc="-1" strike="noStrike">
                <a:solidFill>
                  <a:srgbClr val="669900"/>
                </a:solidFill>
                <a:latin typeface="Arial Unicode MS"/>
              </a:rPr>
              <a:t>в процессе  образовательной деятельности</a:t>
            </a:r>
            <a:br>
              <a:rPr sz="3800"/>
            </a:b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500120" y="214200"/>
            <a:ext cx="621504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669900"/>
                </a:solidFill>
                <a:latin typeface="Times New Roman"/>
              </a:rPr>
              <a:t>МИНИСТЕРСТВО ОБРАЗОВАНИЯ И НАУКИ  </a:t>
            </a:r>
            <a:br>
              <a:rPr sz="1600"/>
            </a:br>
            <a:r>
              <a:rPr b="0" lang="ru-RU" sz="1600" spc="-1" strike="noStrike">
                <a:solidFill>
                  <a:srgbClr val="669900"/>
                </a:solidFill>
                <a:latin typeface="Times New Roman"/>
              </a:rPr>
              <a:t>РОССИЙСКОЙ ФЕДЕРАЦИИ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669900"/>
                </a:solidFill>
                <a:latin typeface="Times New Roman"/>
              </a:rPr>
              <a:t>П Р И К А 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669900"/>
                </a:solidFill>
                <a:latin typeface="Times New Roman"/>
              </a:rPr>
              <a:t>№</a:t>
            </a:r>
            <a:r>
              <a:rPr b="0" lang="ru-RU" sz="1600" spc="-1" strike="noStrike">
                <a:solidFill>
                  <a:srgbClr val="669900"/>
                </a:solidFill>
                <a:latin typeface="Times New Roman"/>
              </a:rPr>
              <a:t>__</a:t>
            </a:r>
            <a:r>
              <a:rPr b="0" lang="ru-RU" sz="1600" spc="-1" strike="noStrike" u="sng">
                <a:solidFill>
                  <a:srgbClr val="669900"/>
                </a:solidFill>
                <a:uFillTx/>
                <a:latin typeface="Times New Roman"/>
              </a:rPr>
              <a:t>373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669900"/>
                </a:solidFill>
                <a:latin typeface="Times New Roman"/>
              </a:rPr>
              <a:t>                                                              </a:t>
            </a:r>
            <a:r>
              <a:rPr b="0" lang="ru-RU" sz="1600" spc="-1" strike="noStrike">
                <a:solidFill>
                  <a:srgbClr val="669900"/>
                </a:solidFill>
                <a:latin typeface="Times New Roman"/>
              </a:rPr>
              <a:t>«6»__</a:t>
            </a:r>
            <a:r>
              <a:rPr b="0" lang="ru-RU" sz="1600" spc="-1" strike="noStrike" u="sng">
                <a:solidFill>
                  <a:srgbClr val="669900"/>
                </a:solidFill>
                <a:uFillTx/>
                <a:latin typeface="Times New Roman"/>
              </a:rPr>
              <a:t>октября ____</a:t>
            </a:r>
            <a:r>
              <a:rPr b="0" lang="en-US" sz="1600" spc="-1" strike="noStrike">
                <a:solidFill>
                  <a:srgbClr val="669900"/>
                </a:solidFill>
                <a:latin typeface="Times New Roman"/>
              </a:rPr>
              <a:t>200</a:t>
            </a:r>
            <a:r>
              <a:rPr b="0" lang="ru-RU" sz="1600" spc="-1" strike="noStrike">
                <a:solidFill>
                  <a:srgbClr val="669900"/>
                </a:solidFill>
                <a:latin typeface="Times New Roman"/>
              </a:rPr>
              <a:t>9</a:t>
            </a:r>
            <a:r>
              <a:rPr b="0" lang="en-US" sz="1600" spc="-1" strike="noStrike">
                <a:solidFill>
                  <a:srgbClr val="669900"/>
                </a:solidFill>
                <a:latin typeface="Times New Roman"/>
              </a:rPr>
              <a:t>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 утверждении и введении в действие федерального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осударственного образовательного стандарта начального общего образован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соответствии с пунктом 5.2.8 Положения о Министерстве образования и науки Российской Федерации, утвержденного постановлением Правительства Российской Федерации от 15 июня 2004 г. № 280 пунктом 7 Правил разработки и утверждения федеральных государственных образовательных стандартов, утвержденных постановлением Правительства Российской Федерации от 24 февраля 2009 г. № 142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Собрание законодательства Российской Федерации, 2009, № 9, ст. 1110), приказываю:</a:t>
            </a:r>
            <a:br>
              <a:rPr sz="1400"/>
            </a:br>
            <a:r>
              <a:rPr b="0" lang="ru-RU" sz="1400" spc="-1" strike="noStrike">
                <a:solidFill>
                  <a:srgbClr val="669900"/>
                </a:solidFill>
                <a:latin typeface="Times New Roman"/>
              </a:rPr>
              <a:t>         </a:t>
            </a:r>
            <a:r>
              <a:rPr b="1" lang="ru-RU" sz="1400" spc="-1" strike="noStrike">
                <a:solidFill>
                  <a:srgbClr val="669900"/>
                </a:solidFill>
                <a:latin typeface="Times New Roman"/>
              </a:rPr>
              <a:t>1.</a:t>
            </a:r>
            <a:r>
              <a:rPr b="0" lang="ru-RU" sz="1400" spc="-1" strike="noStrike">
                <a:solidFill>
                  <a:srgbClr val="6699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669900"/>
                </a:solidFill>
                <a:latin typeface="Times New Roman"/>
              </a:rPr>
              <a:t>Утвердить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лагаемый федеральный государственный образовательный стандарт начального общего образования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1400" spc="-1" strike="noStrike">
                <a:solidFill>
                  <a:srgbClr val="669900"/>
                </a:solidFill>
                <a:latin typeface="Times New Roman"/>
              </a:rPr>
              <a:t>2.Ввести в действие с 1 января 2010 года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едеральный государственный образовательный стандарт, утвержденный настоящим приказом.</a:t>
            </a: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инистр                                                   А. Фурсенк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2133360"/>
            <a:ext cx="91440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Основная педагогическая задач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оздание и организация условий, инициирующих детское дей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6"/>
          <p:cNvSpPr/>
          <p:nvPr/>
        </p:nvSpPr>
        <p:spPr>
          <a:xfrm>
            <a:off x="6324480" y="3657600"/>
            <a:ext cx="2340000" cy="234000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Как уч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обно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сре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5"/>
          <p:cNvSpPr/>
          <p:nvPr/>
        </p:nvSpPr>
        <p:spPr>
          <a:xfrm>
            <a:off x="3384720" y="3645000"/>
            <a:ext cx="2339640" cy="23400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Ради ч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уч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цен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5"/>
          <p:cNvSpPr/>
          <p:nvPr/>
        </p:nvSpPr>
        <p:spPr>
          <a:xfrm>
            <a:off x="0" y="3608280"/>
            <a:ext cx="2340000" cy="234000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Чему уч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обно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содерж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228600" y="228600"/>
            <a:ext cx="8712360" cy="57636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c0c0c0"/>
              </a:gs>
              <a:gs pos="50000">
                <a:srgbClr val="ffffcc"/>
              </a:gs>
              <a:gs pos="100000">
                <a:srgbClr val="c0c0c0"/>
              </a:gs>
            </a:gsLst>
            <a:lin ang="5400000"/>
          </a:gradFill>
          <a:ln w="28440">
            <a:solidFill>
              <a:srgbClr val="ffffe1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00"/>
                </a:solidFill>
                <a:latin typeface="Arial"/>
              </a:rPr>
              <a:t>Системно-деятельностный под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0" y="5985000"/>
            <a:ext cx="9144000" cy="87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00"/>
                </a:solidFill>
                <a:latin typeface="Arial"/>
              </a:rPr>
              <a:t>становление ученического сообщест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00"/>
                </a:solidFill>
                <a:latin typeface="Arial"/>
              </a:rPr>
              <a:t>формирование универсальных способов дей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719280" y="3249720"/>
            <a:ext cx="7740360" cy="431640"/>
          </a:xfrm>
          <a:prstGeom prst="pie">
            <a:avLst/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ктор смещения акцентов нового станда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108000" y="981000"/>
            <a:ext cx="4032360" cy="1224000"/>
          </a:xfrm>
          <a:prstGeom prst="horizontalScroll">
            <a:avLst>
              <a:gd name="adj" fmla="val 12500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сновной результат –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личности ребенка на осн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учеб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"/>
          <p:cNvSpPr/>
          <p:nvPr/>
        </p:nvSpPr>
        <p:spPr>
          <a:xfrm>
            <a:off x="4751280" y="944640"/>
            <a:ext cx="4248360" cy="1224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e1"/>
              </a:gs>
              <a:gs pos="50000">
                <a:srgbClr val="ccffff"/>
              </a:gs>
              <a:gs pos="100000">
                <a:srgbClr val="ffffe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Начальная школа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: преобра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нешней предметн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о внутренню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1">
            <a:hlinkClick r:id="" action="ppaction://hlinkshowjump?jump=previousslide"/>
          </p:cNvPr>
          <p:cNvSpPr/>
          <p:nvPr/>
        </p:nvSpPr>
        <p:spPr>
          <a:xfrm>
            <a:off x="0" y="5815080"/>
            <a:ext cx="611280" cy="104292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1042920"/>
              <a:gd name="textAreaBottom" fmla="*/ 1003320 h 1042920"/>
            </a:gdLst>
            <a:ahLst/>
            <a:rect l="textAreaLeft" t="textAreaTop" r="textAreaRight" b="textAreaBottom"/>
            <a:pathLst>
              <a:path w="21600" h="36843">
                <a:moveTo>
                  <a:pt x="0" y="0"/>
                </a:moveTo>
                <a:lnTo>
                  <a:pt x="21600" y="0"/>
                </a:lnTo>
                <a:lnTo>
                  <a:pt x="21600" y="36843"/>
                </a:lnTo>
                <a:lnTo>
                  <a:pt x="0" y="36843"/>
                </a:lnTo>
                <a:close/>
              </a:path>
              <a:path fill="lightenLess" w="21600" h="368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6843">
                <a:moveTo>
                  <a:pt x="21600" y="0"/>
                </a:moveTo>
                <a:lnTo>
                  <a:pt x="21600" y="36843"/>
                </a:lnTo>
                <a:lnTo>
                  <a:pt x="20200" y="35443"/>
                </a:lnTo>
                <a:lnTo>
                  <a:pt x="20200" y="1400"/>
                </a:lnTo>
                <a:close/>
              </a:path>
              <a:path fill="darkenLess" w="21600" h="36843">
                <a:moveTo>
                  <a:pt x="21600" y="36843"/>
                </a:moveTo>
                <a:lnTo>
                  <a:pt x="0" y="36843"/>
                </a:lnTo>
                <a:lnTo>
                  <a:pt x="1400" y="35443"/>
                </a:lnTo>
                <a:lnTo>
                  <a:pt x="20200" y="35443"/>
                </a:lnTo>
                <a:close/>
              </a:path>
              <a:path fill="lighten" w="21600" h="36843">
                <a:moveTo>
                  <a:pt x="0" y="36843"/>
                </a:moveTo>
                <a:lnTo>
                  <a:pt x="0" y="0"/>
                </a:lnTo>
                <a:lnTo>
                  <a:pt x="1400" y="1400"/>
                </a:lnTo>
                <a:lnTo>
                  <a:pt x="1400" y="35443"/>
                </a:lnTo>
                <a:close/>
              </a:path>
              <a:path fill="darken" w="21600" h="36843">
                <a:moveTo>
                  <a:pt x="3794" y="18422"/>
                </a:moveTo>
                <a:lnTo>
                  <a:pt x="17806" y="11415"/>
                </a:lnTo>
                <a:lnTo>
                  <a:pt x="17806" y="25428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115040" cy="3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9900"/>
                </a:solidFill>
                <a:latin typeface="Arial Unicode MS"/>
              </a:rPr>
              <a:t>РАЗДЕЛ 5.</a:t>
            </a:r>
            <a:r>
              <a:rPr b="1" lang="en-US" sz="2000" spc="-1" strike="noStrike">
                <a:solidFill>
                  <a:srgbClr val="669900"/>
                </a:solidFill>
                <a:latin typeface="Arial Unicode MS"/>
              </a:rPr>
              <a:t> Примерные программы учебных предметов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900000" y="990360"/>
            <a:ext cx="8244000" cy="54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ой для разработки программ учебных предметов явля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ребования ФГОС к результата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рограммы обеспечиваю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пределение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х знаний, умений и способов деятельности, которые являются метапредметным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ыделение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только содержания, но и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идов учебной деятельности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пособы организации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ебной деятельности и сотрудничества, познавательной, творческой, художественно-эстетической и коммуникативной деятельности школь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 соответствии с ФГОС программы включаю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яснительную записку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ую характеристику учебного предмет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исание его места в учебном плане и ценностных ориентиров его содержан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личностные, метапредметные и предметные результаты освоения учебного предмет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ное содержание учебного предмет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мерное тематическое планирование с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определением основных видов учебной деятельности обучающихся;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исание материально-технического обеспечения образователь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цесс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9360">
            <a:solidFill>
              <a:srgbClr val="6699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9900"/>
                </a:solidFill>
                <a:latin typeface="Arial Unicode MS"/>
              </a:rPr>
              <a:t>РАЗДЕЛ 6</a:t>
            </a:r>
            <a:r>
              <a:rPr b="1" lang="en-US" sz="2000" spc="-1" strike="noStrike">
                <a:solidFill>
                  <a:srgbClr val="669900"/>
                </a:solidFill>
                <a:latin typeface="Arial Unicode MS"/>
              </a:rPr>
              <a:t>  Примерная программа духовно-нравственного развития и воспитания обучающихся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495680" y="1523520"/>
            <a:ext cx="464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является ориентиром для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формирования всех разделов ООПНО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концептуальной и методической основой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зработки образовательным учреждением собственной 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Структур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Цель и задачи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уховно-нравственного развития и воспит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Ценностные установки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уховно-нравственного развития и воспитания российских школьник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Основные направления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ценностные основы духовно-нравственного развития и воспит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Содержание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уховно-нравственного развития и воспитания обучающих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Совместная деятельность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школы, семьи и общественности по духовно-нравственному развитию и воспитан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Планируемые результаты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уховно-нравственного развития и воспит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676520" y="304812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228600" y="466884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0" y="1371600"/>
            <a:ext cx="29192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00"/>
                </a:solidFill>
                <a:latin typeface="Arial Unicode MS"/>
              </a:rPr>
              <a:t>Уровни воспитательных результатов: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560" y="1523880"/>
            <a:ext cx="4800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Первый уровень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приобретение школьником социальных знаний (об общественных нормах, об устройстве общества, о социально одобряемых и неодобряемых формах поведения в обществе и т.п.), первичного понимания социальной реальности и повседневной жизн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b2b2b2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Второй уровень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формирование позитивных отношений школьника к базовым ценностям общества (человек, семья, Отечество, природа, мир, знания, труд, культура), ценностного отношения к социальной реальности в цел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Третий уровень</a:t>
            </a:r>
            <a:r>
              <a:rPr b="1" i="1" lang="en-US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получение школьником опыта самостоятельного общественного дей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019920" y="449568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019920" y="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4724280" y="2209680"/>
            <a:ext cx="3452760" cy="25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r>
              <a:rPr b="1" i="1" lang="en-US" sz="2000" spc="-1" strike="noStrike">
                <a:solidFill>
                  <a:srgbClr val="669900"/>
                </a:solidFill>
                <a:latin typeface="Arial Unicode MS"/>
              </a:rPr>
              <a:t>РАЗДЕЛ 7.</a:t>
            </a:r>
            <a:r>
              <a:rPr b="1" lang="en-US" sz="2000" spc="-1" strike="noStrike">
                <a:solidFill>
                  <a:srgbClr val="669900"/>
                </a:solidFill>
                <a:latin typeface="Arial Unicode MS"/>
              </a:rPr>
              <a:t> Примерная программа формирования культуры</a:t>
            </a:r>
            <a:br>
              <a:rPr sz="2000"/>
            </a:br>
            <a:r>
              <a:rPr b="1" lang="en-US" sz="2000" spc="-1" strike="noStrike">
                <a:solidFill>
                  <a:srgbClr val="669900"/>
                </a:solidFill>
                <a:latin typeface="Arial Unicode MS"/>
              </a:rPr>
              <a:t>              здорового и безопасного образа жизни</a:t>
            </a:r>
            <a:br>
              <a:rPr sz="2000"/>
            </a:b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28600" y="1447920"/>
            <a:ext cx="4114800" cy="4876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комплексная программ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формирования знаний, установок, личностных ориентиров и норм поведения, обеспечивающих сохранение и укрепление физического и психологического здоровья обучающихся как одного из ценностных составляющих, способствующих познавательному и эмоциональному развитию ребенка, достижению планируемых результатов освоения основной образовательной программы начального общего образования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держит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базовую модель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рганизации работы образовательного учреждения по формированию у обучающихся культуры безопасного и здорового образа жиз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267080" y="466884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6954840" y="3200400"/>
            <a:ext cx="218916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11480" y="756720"/>
            <a:ext cx="628632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9900"/>
                </a:solidFill>
                <a:latin typeface="Arial Unicode MS"/>
              </a:rPr>
              <a:t>РАЗДЕЛ 8</a:t>
            </a:r>
            <a:r>
              <a:rPr b="1" lang="en-US" sz="2000" spc="-1" strike="noStrike">
                <a:solidFill>
                  <a:srgbClr val="669900"/>
                </a:solidFill>
                <a:latin typeface="Arial Unicode MS"/>
              </a:rPr>
              <a:t>  СИСТЕМА ОЦЕНКИ ДОСТИЖЕНИЯ</a:t>
            </a:r>
            <a:br>
              <a:rPr sz="2000"/>
            </a:br>
            <a:r>
              <a:rPr b="1" lang="en-US" sz="2000" spc="-1" strike="noStrike">
                <a:solidFill>
                  <a:srgbClr val="669900"/>
                </a:solidFill>
                <a:latin typeface="Arial Unicode MS"/>
              </a:rPr>
              <a:t>           ПЛАНИРУЕМЫХ РЕЗУЛЬТАТОВ</a:t>
            </a:r>
            <a:r>
              <a:rPr b="0" lang="en-US" sz="19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85440" y="1447920"/>
            <a:ext cx="768996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одержательной и критериальной базой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стемы оценки выступают планируемые результа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овые стандарты устанавлива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иентиры развития системы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ебования к содержанию и организации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ивидуальные достижения школь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00"/>
                </a:solidFill>
                <a:latin typeface="Arial"/>
              </a:rPr>
              <a:t>Оценка достижений требований стандартов может быть сведена к оценке достижений планируемых результ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4800" y="4648320"/>
            <a:ext cx="485640" cy="609480"/>
          </a:xfrm>
          <a:prstGeom prst="downArrow">
            <a:avLst>
              <a:gd name="adj1" fmla="val 50000"/>
              <a:gd name="adj2" fmla="val 3137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-6984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838080" y="533520"/>
            <a:ext cx="7771320" cy="3656520"/>
            <a:chOff x="838080" y="533520"/>
            <a:chExt cx="7771320" cy="3656520"/>
          </a:xfrm>
        </p:grpSpPr>
        <p:cxnSp>
          <p:nvCxnSpPr>
            <p:cNvPr id="230" name="_s135181"/>
            <p:cNvCxnSpPr>
              <a:stCxn id="231" idx="0"/>
              <a:endCxn id="232" idx="2"/>
            </p:cNvCxnSpPr>
            <p:nvPr/>
          </p:nvCxnSpPr>
          <p:spPr>
            <a:xfrm flipV="1" rot="16200000">
              <a:off x="5404320" y="1315440"/>
              <a:ext cx="731880" cy="2091960"/>
            </a:xfrm>
            <a:prstGeom prst="bentConnector3">
              <a:avLst>
                <a:gd name="adj1" fmla="val 984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3" name="_s135179"/>
            <p:cNvCxnSpPr>
              <a:stCxn id="234" idx="0"/>
              <a:endCxn id="232" idx="2"/>
            </p:cNvCxnSpPr>
            <p:nvPr/>
          </p:nvCxnSpPr>
          <p:spPr>
            <a:xfrm flipH="1" flipV="1" rot="5400000">
              <a:off x="3311640" y="1314720"/>
              <a:ext cx="731880" cy="2093400"/>
            </a:xfrm>
            <a:prstGeom prst="bentConnector3">
              <a:avLst>
                <a:gd name="adj1" fmla="val 984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32" name="_s135175"/>
            <p:cNvSpPr/>
            <p:nvPr/>
          </p:nvSpPr>
          <p:spPr>
            <a:xfrm>
              <a:off x="2930760" y="533520"/>
              <a:ext cx="3586680" cy="14626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Нормативная основ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при определении объекта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содержания и методов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оцен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35176"/>
            <p:cNvSpPr/>
            <p:nvPr/>
          </p:nvSpPr>
          <p:spPr>
            <a:xfrm>
              <a:off x="838080" y="2727360"/>
              <a:ext cx="3586680" cy="14626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Совокупность требован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результатам освоен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основны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общеобразовательных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рограм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35178"/>
            <p:cNvSpPr/>
            <p:nvPr/>
          </p:nvSpPr>
          <p:spPr>
            <a:xfrm>
              <a:off x="5022720" y="2727360"/>
              <a:ext cx="3586680" cy="14626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ланируемые результа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освоения основно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образовательно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рограммы начальног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образ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4876560"/>
            <a:ext cx="777240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669900"/>
                </a:solidFill>
                <a:latin typeface="Arial"/>
              </a:rPr>
              <a:t>Основная задача и критерий оценки не освоение обязательного минимума содержания образования, а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овладение системой учебных действий с изучаемым учебным материа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Arial Unicode MS"/>
              </a:rPr>
              <a:t>Оценка личностных результатов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57200" y="1447920"/>
            <a:ext cx="8304480" cy="4875840"/>
            <a:chOff x="457200" y="1447920"/>
            <a:chExt cx="8304480" cy="4875840"/>
          </a:xfrm>
        </p:grpSpPr>
        <p:cxnSp>
          <p:nvCxnSpPr>
            <p:cNvPr id="238" name="_s141326"/>
            <p:cNvCxnSpPr>
              <a:stCxn id="239" idx="1"/>
              <a:endCxn id="240" idx="2"/>
            </p:cNvCxnSpPr>
            <p:nvPr/>
          </p:nvCxnSpPr>
          <p:spPr>
            <a:xfrm rot="10800000">
              <a:off x="2947680" y="2333520"/>
              <a:ext cx="830880" cy="3546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1" name="_s141325"/>
            <p:cNvCxnSpPr>
              <a:stCxn id="242" idx="1"/>
              <a:endCxn id="240" idx="2"/>
            </p:cNvCxnSpPr>
            <p:nvPr/>
          </p:nvCxnSpPr>
          <p:spPr>
            <a:xfrm rot="10800000">
              <a:off x="2947680" y="2333520"/>
              <a:ext cx="830880" cy="2216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3" name="_s141324"/>
            <p:cNvCxnSpPr>
              <a:stCxn id="244" idx="1"/>
              <a:endCxn id="240" idx="2"/>
            </p:cNvCxnSpPr>
            <p:nvPr/>
          </p:nvCxnSpPr>
          <p:spPr>
            <a:xfrm rot="10800000">
              <a:off x="2947680" y="2333520"/>
              <a:ext cx="830880" cy="887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0" name="_s141320"/>
            <p:cNvSpPr/>
            <p:nvPr/>
          </p:nvSpPr>
          <p:spPr>
            <a:xfrm>
              <a:off x="457200" y="1447920"/>
              <a:ext cx="4982760" cy="88632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330033"/>
                  </a:solidFill>
                  <a:latin typeface="Arial"/>
                </a:rPr>
                <a:t>Объект оценки личностных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330033"/>
                  </a:solidFill>
                  <a:latin typeface="Arial"/>
                </a:rPr>
                <a:t> </a:t>
              </a:r>
              <a:r>
                <a:rPr b="0" lang="ru-RU" sz="1900" spc="-1" strike="noStrike">
                  <a:solidFill>
                    <a:srgbClr val="330033"/>
                  </a:solidFill>
                  <a:latin typeface="Arial"/>
                </a:rPr>
                <a:t>результатов – </a:t>
              </a:r>
              <a:r>
                <a:rPr b="1" i="1" lang="ru-RU" sz="1900" spc="-1" strike="noStrike">
                  <a:solidFill>
                    <a:srgbClr val="330033"/>
                  </a:solidFill>
                  <a:latin typeface="Arial"/>
                </a:rPr>
                <a:t>сформированность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900" spc="-1" strike="noStrike">
                  <a:solidFill>
                    <a:srgbClr val="330033"/>
                  </a:solidFill>
                  <a:latin typeface="Arial"/>
                </a:rPr>
                <a:t> </a:t>
              </a:r>
              <a:r>
                <a:rPr b="1" i="1" lang="ru-RU" sz="1900" spc="-1" strike="noStrike">
                  <a:solidFill>
                    <a:srgbClr val="330033"/>
                  </a:solidFill>
                  <a:latin typeface="Arial"/>
                </a:rPr>
                <a:t>универсальных действий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41321"/>
            <p:cNvSpPr/>
            <p:nvPr/>
          </p:nvSpPr>
          <p:spPr>
            <a:xfrm>
              <a:off x="3778920" y="2777760"/>
              <a:ext cx="4982760" cy="88632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 u="sng">
                  <a:solidFill>
                    <a:srgbClr val="000000"/>
                  </a:solidFill>
                  <a:uFillTx/>
                  <a:latin typeface="Arial"/>
                </a:rPr>
                <a:t>Самоопределение: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внутренняя позиция школьника;самоидентификация;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самоуважение и самооценк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141322"/>
            <p:cNvSpPr/>
            <p:nvPr/>
          </p:nvSpPr>
          <p:spPr>
            <a:xfrm>
              <a:off x="3778920" y="4107600"/>
              <a:ext cx="4982760" cy="88632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 u="sng">
                  <a:solidFill>
                    <a:srgbClr val="000000"/>
                  </a:solidFill>
                  <a:uFillTx/>
                  <a:latin typeface="Arial"/>
                </a:rPr>
                <a:t>Смыслообразование</a:t>
              </a:r>
              <a:r>
                <a:rPr b="1" lang="ru-RU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мотивация (учебная, социальная); границы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собственного знания и «незнания</a:t>
              </a: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»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41323"/>
            <p:cNvSpPr/>
            <p:nvPr/>
          </p:nvSpPr>
          <p:spPr>
            <a:xfrm>
              <a:off x="3778920" y="5437440"/>
              <a:ext cx="4982760" cy="88632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 u="sng">
                  <a:solidFill>
                    <a:srgbClr val="000000"/>
                  </a:solidFill>
                  <a:uFillTx/>
                  <a:latin typeface="Arial"/>
                </a:rPr>
                <a:t>Морально-этическая ориентация: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ориентация на выполнение морально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нравственных норм; способность к решению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моральных проблем на основе децентраци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00"/>
                </a:solidFill>
                <a:latin typeface="Arial Unicode MS"/>
              </a:rPr>
              <a:t>Оценка метапредметных результатов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533520" y="1523880"/>
            <a:ext cx="8152200" cy="5181120"/>
            <a:chOff x="533520" y="1523880"/>
            <a:chExt cx="8152200" cy="5181120"/>
          </a:xfrm>
        </p:grpSpPr>
        <p:cxnSp>
          <p:nvCxnSpPr>
            <p:cNvPr id="247" name="_s143374"/>
            <p:cNvCxnSpPr>
              <a:stCxn id="248" idx="1"/>
              <a:endCxn id="249" idx="2"/>
            </p:cNvCxnSpPr>
            <p:nvPr/>
          </p:nvCxnSpPr>
          <p:spPr>
            <a:xfrm rot="10800000">
              <a:off x="2978280" y="2464920"/>
              <a:ext cx="815760" cy="376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0" name="_s143373"/>
            <p:cNvCxnSpPr>
              <a:stCxn id="251" idx="1"/>
              <a:endCxn id="249" idx="2"/>
            </p:cNvCxnSpPr>
            <p:nvPr/>
          </p:nvCxnSpPr>
          <p:spPr>
            <a:xfrm rot="10800000">
              <a:off x="2978280" y="2464920"/>
              <a:ext cx="815760" cy="2355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2" name="_s143372"/>
            <p:cNvCxnSpPr>
              <a:stCxn id="253" idx="1"/>
              <a:endCxn id="249" idx="2"/>
            </p:cNvCxnSpPr>
            <p:nvPr/>
          </p:nvCxnSpPr>
          <p:spPr>
            <a:xfrm rot="10800000">
              <a:off x="2978280" y="2464920"/>
              <a:ext cx="815760" cy="942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9" name="_s143368"/>
            <p:cNvSpPr/>
            <p:nvPr/>
          </p:nvSpPr>
          <p:spPr>
            <a:xfrm>
              <a:off x="533520" y="1523880"/>
              <a:ext cx="4891320" cy="9417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бъект оценки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сформирован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умственных действий, направленных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на анализ и управление познавательно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деятельность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143369"/>
            <p:cNvSpPr/>
            <p:nvPr/>
          </p:nvSpPr>
          <p:spPr>
            <a:xfrm>
              <a:off x="3794400" y="2936880"/>
              <a:ext cx="4891320" cy="9417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Регулятивные: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управление своей деятель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ностью; контроль и коррекция; инициатив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ность и самостоятельно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143370"/>
            <p:cNvSpPr/>
            <p:nvPr/>
          </p:nvSpPr>
          <p:spPr>
            <a:xfrm>
              <a:off x="3794400" y="4349880"/>
              <a:ext cx="4891320" cy="9417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Коммуникативные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речевая деятельность;навыки сотрудничест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143371"/>
            <p:cNvSpPr/>
            <p:nvPr/>
          </p:nvSpPr>
          <p:spPr>
            <a:xfrm>
              <a:off x="3794400" y="5763240"/>
              <a:ext cx="4891320" cy="9417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Познавательные: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абота с информацией; работ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 учебными моделями;использование знаково-симво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лических средств, общих схем решения;выполне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логических операций сравнения,  анализа, обобщения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лассификации, установления аналогий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Arial Unicode MS"/>
              </a:rPr>
              <a:t>Оценка предметных результатов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914400" y="1617840"/>
            <a:ext cx="7771320" cy="4494600"/>
            <a:chOff x="914400" y="1617840"/>
            <a:chExt cx="7771320" cy="4494600"/>
          </a:xfrm>
        </p:grpSpPr>
        <p:cxnSp>
          <p:nvCxnSpPr>
            <p:cNvPr id="256" name="_s145420"/>
            <p:cNvCxnSpPr>
              <a:stCxn id="257" idx="1"/>
              <a:endCxn id="258" idx="2"/>
            </p:cNvCxnSpPr>
            <p:nvPr/>
          </p:nvCxnSpPr>
          <p:spPr>
            <a:xfrm rot="10800000">
              <a:off x="3245040" y="2740680"/>
              <a:ext cx="777600" cy="2810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9" name="_s145419"/>
            <p:cNvCxnSpPr>
              <a:stCxn id="260" idx="1"/>
              <a:endCxn id="258" idx="2"/>
            </p:cNvCxnSpPr>
            <p:nvPr/>
          </p:nvCxnSpPr>
          <p:spPr>
            <a:xfrm rot="10800000">
              <a:off x="3245040" y="2740680"/>
              <a:ext cx="777600" cy="112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58" name="_s145415"/>
            <p:cNvSpPr/>
            <p:nvPr/>
          </p:nvSpPr>
          <p:spPr>
            <a:xfrm>
              <a:off x="914400" y="1617840"/>
              <a:ext cx="4662720" cy="11235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Оценка планируемых  результатов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по отдельным предмета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145416"/>
            <p:cNvSpPr/>
            <p:nvPr/>
          </p:nvSpPr>
          <p:spPr>
            <a:xfrm>
              <a:off x="4023000" y="3303360"/>
              <a:ext cx="4662720" cy="11235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истема основополагающих элемент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редметных зна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45417"/>
            <p:cNvSpPr/>
            <p:nvPr/>
          </p:nvSpPr>
          <p:spPr>
            <a:xfrm>
              <a:off x="4023000" y="4988880"/>
              <a:ext cx="4662720" cy="11235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истема предметных действ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>
            <a:hlinkClick r:id="rId1"/>
          </p:cNvPr>
          <p:cNvSpPr/>
          <p:nvPr/>
        </p:nvSpPr>
        <p:spPr>
          <a:xfrm>
            <a:off x="533520" y="304920"/>
            <a:ext cx="7318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360360" y="1619280"/>
            <a:ext cx="845964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9900"/>
                </a:solidFill>
                <a:latin typeface="Arial Unicode MS"/>
              </a:rPr>
              <a:t>Федеральный государственный образовательный стандарт -</a:t>
            </a:r>
            <a:br>
              <a:rPr sz="32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истема требований, обязательных при реализации основных образовательных программ начального общего, основного общего, среднего (полного) общего образования   образовательными учреждениями, имеющими государственную аккредитацию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AutoShape 2"/>
          <p:cNvSpPr/>
          <p:nvPr/>
        </p:nvSpPr>
        <p:spPr>
          <a:xfrm>
            <a:off x="0" y="304920"/>
            <a:ext cx="9144000" cy="35856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669900"/>
              </a:gs>
              <a:gs pos="50000">
                <a:srgbClr val="ffffcc"/>
              </a:gs>
              <a:gs pos="100000">
                <a:srgbClr val="669900"/>
              </a:gs>
            </a:gsLst>
            <a:lin ang="5400000"/>
          </a:gradFill>
          <a:ln w="28440">
            <a:solidFill>
              <a:srgbClr val="ffffe1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СИСТЕМА ОЦЕНКИ ДОСТИЖЕНИЯ ПЛАНИРУЕМЫХ РЕЗУЛЬТ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3"/>
          <p:cNvSpPr/>
          <p:nvPr/>
        </p:nvSpPr>
        <p:spPr>
          <a:xfrm>
            <a:off x="304920" y="5715000"/>
            <a:ext cx="4103640" cy="7207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нутренняя оценк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учитель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ученик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ОУ и род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4"/>
          <p:cNvSpPr/>
          <p:nvPr/>
        </p:nvSpPr>
        <p:spPr>
          <a:xfrm>
            <a:off x="4896000" y="1268280"/>
            <a:ext cx="385128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Внешняя оценк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осударственные служ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5"/>
          <p:cNvSpPr/>
          <p:nvPr/>
        </p:nvSpPr>
        <p:spPr>
          <a:xfrm>
            <a:off x="3780000" y="2421000"/>
            <a:ext cx="2879640" cy="82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95294"/>
                </a:srgbClr>
              </a:gs>
              <a:gs pos="100000">
                <a:srgbClr val="ccff99">
                  <a:alpha val="98039"/>
                </a:srgbClr>
              </a:gs>
            </a:gsLst>
            <a:lin ang="2700000"/>
          </a:gra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ккредитация О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ттестация кад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6"/>
          <p:cNvSpPr/>
          <p:nvPr/>
        </p:nvSpPr>
        <p:spPr>
          <a:xfrm>
            <a:off x="6948360" y="2349360"/>
            <a:ext cx="19447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/>
              </a:gs>
              <a:gs pos="100000">
                <a:srgbClr val="ffffff"/>
              </a:gs>
            </a:gsLst>
            <a:lin ang="0"/>
          </a:gra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ониторин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разования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7"/>
          <p:cNvSpPr/>
          <p:nvPr/>
        </p:nvSpPr>
        <p:spPr>
          <a:xfrm>
            <a:off x="5435640" y="2205000"/>
            <a:ext cx="2736720" cy="0"/>
          </a:xfrm>
          <a:prstGeom prst="line">
            <a:avLst/>
          </a:prstGeom>
          <a:ln w="144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 flipH="1">
            <a:off x="6732360" y="2133720"/>
            <a:ext cx="34920" cy="34920"/>
          </a:xfrm>
          <a:prstGeom prst="line">
            <a:avLst/>
          </a:prstGeom>
          <a:ln w="1440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9"/>
          <p:cNvSpPr/>
          <p:nvPr/>
        </p:nvSpPr>
        <p:spPr>
          <a:xfrm flipH="1">
            <a:off x="6732360" y="1989000"/>
            <a:ext cx="36360" cy="250920"/>
          </a:xfrm>
          <a:prstGeom prst="line">
            <a:avLst/>
          </a:prstGeom>
          <a:ln w="144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5435640" y="2133720"/>
            <a:ext cx="36360" cy="360360"/>
          </a:xfrm>
          <a:prstGeom prst="line">
            <a:avLst/>
          </a:prstGeom>
          <a:ln w="144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1"/>
          <p:cNvSpPr/>
          <p:nvPr/>
        </p:nvSpPr>
        <p:spPr>
          <a:xfrm flipV="1">
            <a:off x="8028000" y="2133720"/>
            <a:ext cx="216000" cy="287280"/>
          </a:xfrm>
          <a:prstGeom prst="line">
            <a:avLst/>
          </a:prstGeom>
          <a:ln w="144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2"/>
          <p:cNvSpPr/>
          <p:nvPr/>
        </p:nvSpPr>
        <p:spPr>
          <a:xfrm>
            <a:off x="4643280" y="5661000"/>
            <a:ext cx="396108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копленная оценка (портфель достиже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3"/>
          <p:cNvSpPr/>
          <p:nvPr/>
        </p:nvSpPr>
        <p:spPr>
          <a:xfrm>
            <a:off x="228600" y="3733920"/>
            <a:ext cx="856944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91372"/>
                </a:srgbClr>
              </a:gs>
              <a:gs pos="50000">
                <a:srgbClr val="ccffff">
                  <a:alpha val="67058"/>
                </a:srgbClr>
              </a:gs>
              <a:gs pos="100000">
                <a:srgbClr val="000000">
                  <a:alpha val="91372"/>
                </a:srgbClr>
              </a:gs>
            </a:gsLst>
            <a:lin ang="5400000"/>
          </a:gra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 Narrow"/>
              </a:rPr>
              <a:t>  </a:t>
            </a:r>
            <a:r>
              <a:rPr b="1" lang="ru-RU" sz="2400" spc="-1" strike="noStrike">
                <a:solidFill>
                  <a:srgbClr val="cc0000"/>
                </a:solidFill>
                <a:latin typeface="Arial Narrow"/>
              </a:rPr>
              <a:t>Государственная итоговая аттестация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/</a:t>
            </a:r>
            <a:r>
              <a:rPr b="1" lang="ru-RU" sz="2400" spc="-1" strike="noStrike">
                <a:solidFill>
                  <a:srgbClr val="cc0000"/>
                </a:solidFill>
                <a:latin typeface="Arial Narrow"/>
              </a:rPr>
              <a:t>Итоговая оценка</a:t>
            </a:r>
            <a:r>
              <a:rPr b="1" lang="ru-RU" sz="2400" spc="-1" strike="noStrike">
                <a:solidFill>
                  <a:srgbClr val="330033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0033"/>
              </a:buClr>
              <a:buSzPct val="111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беспечивает связь внешней и внутренней оценки и являетс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 Narrow"/>
              </a:rPr>
              <a:t>основой для все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 Narrow"/>
              </a:rPr>
              <a:t>процедур внешней оце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0033"/>
              </a:buClr>
              <a:buSzPct val="111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строится на основе а) накопленной текущей оценки, б) оценки за итог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работы, в) оценки за подготовку и презентацию проектной работы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4"/>
          <p:cNvSpPr/>
          <p:nvPr/>
        </p:nvSpPr>
        <p:spPr>
          <a:xfrm>
            <a:off x="395280" y="1197000"/>
            <a:ext cx="2879640" cy="1944720"/>
          </a:xfrm>
          <a:prstGeom prst="wedgeRoundRectCallout">
            <a:avLst>
              <a:gd name="adj1" fmla="val 33680"/>
              <a:gd name="adj2" fmla="val 76449"/>
              <a:gd name="adj3" fmla="val 16667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762120" y="1295280"/>
            <a:ext cx="2276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Соотнош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внутренн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и внешней оце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в итоговой  оценк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ее состав завис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от ступени обу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 персонифицированную итоговую оценку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 которой используются при принятии решения о возможности или невозможности продолжения обучения на следующей ступени, в начальной школ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носятся только предметные и метапредметные 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 начальной ступени ступени обучения особое значени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родолжения образования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ме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сво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чащимися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опорной системы знаний по русскому языку и математике и овладение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ующим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метапредметными действия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ечевым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навыки осознанного чтения) и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авыки работы с информаци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ммуникативным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бходимыми для учебного сотрудничества с учителями и сверстн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078560" y="441720"/>
            <a:ext cx="7444080" cy="8146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fffcc"/>
              </a:gs>
              <a:gs pos="100000">
                <a:srgbClr val="c0c0c0"/>
              </a:gs>
            </a:gsLst>
            <a:lin ang="5400000"/>
          </a:gradFill>
          <a:ln w="28440">
            <a:solidFill>
              <a:srgbClr val="ffffe1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 Unicode MS"/>
              </a:rPr>
              <a:t>  </a:t>
            </a:r>
            <a:r>
              <a:rPr b="1" lang="en-US" sz="2000" spc="-1" strike="noStrike">
                <a:solidFill>
                  <a:srgbClr val="669900"/>
                </a:solidFill>
                <a:latin typeface="Arial Unicode MS"/>
              </a:rPr>
              <a:t>СИСТЕМА ОЦЕНКИ ДОСТИЖЕНИЯ ПЛАНИРУЕМЫХ РЕЗУЛЬТАТОВ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00"/>
                </a:solidFill>
                <a:latin typeface="Arial Unicode MS"/>
              </a:rPr>
              <a:t>Итоговая оценка  выпускника и ее использование в системе образования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тоговая оценка формируется на основе накопленной оценки по всем учебным предметам и оценок за выполнение минимум 3 контрольных работ( русский, математика и комплексная работ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основании этих оценок по каждому предмету и по программе формирования универсальных учебных действий делаются выводы о достижении планируемых результа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ыпускник овладел опорной системой знаний  и учебными действиями, необходимыми для продолжения образования на следующей ступени, и способен использовать их для решения простых учебно-познавательных и учебно-практических задач средствами данного предм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ыпускник овладел опорной системой знаний, необходимой для продолжения образования на следующей ступени на уровне осознанного произвольного овладения учебными действи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ыпускник не овладел опорной системой знаний  и учебными действиями, необходимыми для продолжения образования на следующей ступ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ешение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об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успешном освоении программы начального образования и переводе выпускника на следующую ступень общего образова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инимается педагогическим советом на основании сделанных выводов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дновременно рассматривается и утверждаетс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характеристика выпускника начальной  школ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686448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  <a:tab algn="l" pos="97632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669900"/>
                </a:solidFill>
                <a:latin typeface="Arial Unicode MS"/>
              </a:rPr>
              <a:t>Ключевые  особенности системы оценки в </a:t>
            </a:r>
            <a:br>
              <a:rPr sz="2000"/>
            </a:br>
            <a:r>
              <a:rPr b="1" lang="en-US" sz="2000" spc="-1" strike="noStrike">
                <a:solidFill>
                  <a:srgbClr val="669900"/>
                </a:solidFill>
                <a:latin typeface="Arial Unicode MS"/>
              </a:rPr>
              <a:t>   отличие от стандартов первого поколения:</a:t>
            </a:r>
            <a:br>
              <a:rPr sz="2000"/>
            </a:br>
            <a:r>
              <a:rPr b="1" lang="en-US" sz="2000" spc="-1" strike="noStrike">
                <a:solidFill>
                  <a:srgbClr val="669900"/>
                </a:solidFill>
                <a:latin typeface="Arial Unicode MS"/>
              </a:rPr>
              <a:t> 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переход к новым методологическим основам системы оценки достижения результатов образования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 - от оценки достижений обучающихся и учителей к оценке эффективной деятельности всех участников образовательного процесса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828800" y="2819160"/>
            <a:ext cx="651816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ритерии достижения – планируемые результа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ценка предметных, метапредметных, личностных результат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ценка способности решать учебно-практические задач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четание внутренней и внешней оцен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мплексный подход: использование стандартизированных работ (устных, письменных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стандартизированных работ: проектов, практических работ, портфолио, самоанализа, самооценки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ровневый подход  в инструментарии, в представлении результат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копительная система оценки индивидуальных достижен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пользование персонифицированной и неперсонифицированной информа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терпретация результатов на основе контекстной информ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82" name="Рисунок 12" descr="C:\Documents and Settings\IAntonova\Рабочий стол\Обложки Стандарты\Ped_St_Asm.jpg"/>
          <p:cNvPicPr/>
          <p:nvPr/>
        </p:nvPicPr>
        <p:blipFill>
          <a:blip r:embed="rId1"/>
          <a:stretch/>
        </p:blipFill>
        <p:spPr>
          <a:xfrm>
            <a:off x="428760" y="285840"/>
            <a:ext cx="1928520" cy="2692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3" name="Рисунок 3" descr="C:\Documents and Settings\IAntonova\Рабочий стол\Обложки Стандарты\koncep_dux-nrav_razvitiya.jpg"/>
          <p:cNvPicPr/>
          <p:nvPr/>
        </p:nvPicPr>
        <p:blipFill>
          <a:blip r:embed="rId2"/>
          <a:stretch/>
        </p:blipFill>
        <p:spPr>
          <a:xfrm>
            <a:off x="2357280" y="857160"/>
            <a:ext cx="2000520" cy="257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4" name="Picture 9" descr="vneuroc"/>
          <p:cNvPicPr/>
          <p:nvPr/>
        </p:nvPicPr>
        <p:blipFill>
          <a:blip r:embed="rId3"/>
          <a:stretch/>
        </p:blipFill>
        <p:spPr>
          <a:xfrm>
            <a:off x="6715080" y="2000160"/>
            <a:ext cx="1925640" cy="29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5" name="Picture 8" descr="vneuroch_deyat"/>
          <p:cNvPicPr/>
          <p:nvPr/>
        </p:nvPicPr>
        <p:blipFill>
          <a:blip r:embed="rId4"/>
          <a:stretch/>
        </p:blipFill>
        <p:spPr>
          <a:xfrm>
            <a:off x="4857840" y="285840"/>
            <a:ext cx="2206440" cy="314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6" name="Picture 10" descr="Проект"/>
          <p:cNvPicPr/>
          <p:nvPr/>
        </p:nvPicPr>
        <p:blipFill>
          <a:blip r:embed="rId5"/>
          <a:stretch/>
        </p:blipFill>
        <p:spPr>
          <a:xfrm>
            <a:off x="3571920" y="4214880"/>
            <a:ext cx="2000160" cy="244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7" name="Picture 12" descr="polivanova"/>
          <p:cNvPicPr/>
          <p:nvPr/>
        </p:nvPicPr>
        <p:blipFill>
          <a:blip r:embed="rId6"/>
          <a:stretch/>
        </p:blipFill>
        <p:spPr>
          <a:xfrm>
            <a:off x="1714680" y="3714840"/>
            <a:ext cx="2054160" cy="266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-720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669900"/>
                </a:solidFill>
                <a:latin typeface="Arial Unicode MS"/>
              </a:rPr>
              <a:t>С вводом ФГОС учитель начальных классов должен име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Рабочие программы по всем преподаваемым предметам (7-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Программы по внеурочной деятельности (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Программу формирования универсальных учебных действ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Программу духовно-нравственного развития и воспитания обучающих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Программу формирования культуры здорового и безопасного образа жизни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Программу коррек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4876920" y="1625760"/>
            <a:ext cx="3809880" cy="21380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685800" y="228600"/>
            <a:ext cx="1676520" cy="990720"/>
          </a:xfrm>
          <a:prstGeom prst="wedgeRoundRectCallout">
            <a:avLst>
              <a:gd name="adj1" fmla="val 7953"/>
              <a:gd name="adj2" fmla="val 93111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447920" y="228600"/>
            <a:ext cx="7142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 Unicode MS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4267080" y="4114800"/>
            <a:ext cx="441972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8"/>
          <p:cNvSpPr/>
          <p:nvPr/>
        </p:nvSpPr>
        <p:spPr>
          <a:xfrm>
            <a:off x="2488320" y="189000"/>
            <a:ext cx="3998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Исполнение станда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8"/>
          <p:cNvSpPr/>
          <p:nvPr/>
        </p:nvSpPr>
        <p:spPr>
          <a:xfrm>
            <a:off x="2438280" y="1523880"/>
            <a:ext cx="4464000" cy="1224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9900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мерная основная образователь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грамма начального обще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6"/>
          <p:cNvSpPr/>
          <p:nvPr/>
        </p:nvSpPr>
        <p:spPr>
          <a:xfrm>
            <a:off x="1143000" y="3505320"/>
            <a:ext cx="6858000" cy="1047600"/>
          </a:xfrm>
          <a:prstGeom prst="roundRect">
            <a:avLst>
              <a:gd name="adj" fmla="val 16667"/>
            </a:avLst>
          </a:prstGeom>
          <a:solidFill>
            <a:srgbClr val="669900"/>
          </a:solidFill>
          <a:ln w="28440">
            <a:solidFill>
              <a:srgbClr val="669900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e1"/>
                </a:solidFill>
                <a:latin typeface="Arial"/>
              </a:rPr>
              <a:t>Образовательное учреждение разрабатыв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e1"/>
                </a:solidFill>
                <a:latin typeface="Arial"/>
              </a:rPr>
              <a:t>самостоятельно с учетом типа и вида О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27"/>
          <p:cNvSpPr/>
          <p:nvPr/>
        </p:nvSpPr>
        <p:spPr>
          <a:xfrm rot="8574000">
            <a:off x="3580920" y="4647960"/>
            <a:ext cx="719280" cy="576000"/>
          </a:xfrm>
          <a:prstGeom prst="pie">
            <a:avLst/>
          </a:prstGeom>
          <a:noFill/>
          <a:ln w="28440">
            <a:solidFill>
              <a:srgbClr val="669900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5578560" y="5013360"/>
            <a:ext cx="3565440" cy="1655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9900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Локальные ак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 вопросам организа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осуществл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бразовательного процесс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енные уставом О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8"/>
          <p:cNvSpPr/>
          <p:nvPr/>
        </p:nvSpPr>
        <p:spPr>
          <a:xfrm>
            <a:off x="0" y="5029200"/>
            <a:ext cx="3745080" cy="1655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9900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новная образователь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грам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чального общ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бразования О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7"/>
          <p:cNvSpPr/>
          <p:nvPr/>
        </p:nvSpPr>
        <p:spPr>
          <a:xfrm rot="5400000">
            <a:off x="4271760" y="2662200"/>
            <a:ext cx="718920" cy="576360"/>
          </a:xfrm>
          <a:prstGeom prst="pie">
            <a:avLst/>
          </a:prstGeom>
          <a:noFill/>
          <a:ln w="28440">
            <a:solidFill>
              <a:srgbClr val="669900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7"/>
          <p:cNvSpPr/>
          <p:nvPr/>
        </p:nvSpPr>
        <p:spPr>
          <a:xfrm rot="2611200">
            <a:off x="4952520" y="4648320"/>
            <a:ext cx="719280" cy="576000"/>
          </a:xfrm>
          <a:prstGeom prst="pie">
            <a:avLst/>
          </a:prstGeom>
          <a:noFill/>
          <a:ln w="28440">
            <a:solidFill>
              <a:srgbClr val="669900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142640" y="360360"/>
            <a:ext cx="671508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669900"/>
                </a:solidFill>
                <a:latin typeface="Arial"/>
              </a:rPr>
              <a:t>Основная образовательная програм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669900"/>
                </a:solidFill>
                <a:latin typeface="Arial"/>
              </a:rPr>
              <a:t>начального общего образования</a:t>
            </a: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Определя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содержание и организацию образовательного процесса на ступени начального общего образов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направлена н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формирование общей культуры, духовно-нравственное, социальное, личностное и интеллектуальное развитие обучающихс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создание основы для самостоятельной реализации учебной деятельности, обеспечивающей социальную успешность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развитие творческих способностей, саморазвитие и самосовершенствовани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сохранение и укрепление здоровья обучающих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Arial Unicode MS"/>
              </a:rPr>
              <a:t>Требования к структуре</a:t>
            </a:r>
            <a:br>
              <a:rPr sz="2400"/>
            </a:br>
            <a:r>
              <a:rPr b="1" lang="en-US" sz="2400" spc="-1" strike="noStrike">
                <a:solidFill>
                  <a:srgbClr val="669900"/>
                </a:solidFill>
                <a:latin typeface="Arial Unicode MS"/>
              </a:rPr>
              <a:t>основной образовательной программы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440" y="1676160"/>
            <a:ext cx="768996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сновная образовательная программа начального общего образования должна содержать следующие раздел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ояснительная записк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ланируемые результаты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своения обучающимися основной образовательной программы начального общего образ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учебный план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чального общего образ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рограмма формирования универсальных учебных действий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 обучающихся на ступени начального общего образ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рограммы отдельных учебных предме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курс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рограмма духовно-нравственного развития, воспитания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учающихся на ступени начального общего образ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рограмма формирования культуры здорового и безопасного образа жиз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рограмма коррекционной работ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истема оценки достижения планируемых результатов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своения основной образовательной программы начального общего образования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666520" y="-325800"/>
            <a:ext cx="628668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r>
              <a:rPr b="1" i="1" lang="en-US" sz="2400" spc="-1" strike="noStrike">
                <a:solidFill>
                  <a:srgbClr val="669900"/>
                </a:solidFill>
                <a:latin typeface="Arial Unicode MS"/>
              </a:rPr>
              <a:t>РАЗДЕЛ 1</a:t>
            </a:r>
            <a:r>
              <a:rPr b="1" i="1" lang="en-US" sz="2400" spc="-1" strike="noStrike">
                <a:solidFill>
                  <a:srgbClr val="669900"/>
                </a:solidFill>
                <a:latin typeface="Arial Unicode MS"/>
              </a:rPr>
              <a:t>	</a:t>
            </a:r>
            <a:r>
              <a:rPr b="1" i="1" lang="en-US" sz="2400" spc="-1" strike="noStrike">
                <a:solidFill>
                  <a:srgbClr val="669900"/>
                </a:solidFill>
                <a:latin typeface="Arial Unicode MS"/>
              </a:rPr>
              <a:t>Пояснительная записка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1900"/>
            </a:b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440" y="1723680"/>
            <a:ext cx="76899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яснительная записка должна раскрывать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цели реализации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новной образовательной программы начального общего образования, конкретизированные в соответствии с требованиями Стандарта к результатам освоения обучающимися основной образовательной программы начального общего образ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ринципы и подходы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 формированию основной образовательной программы начального общего образования и состава участников образовательного процесса конкретного образовательного учрежд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общую характеристику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новной образовательной программы начального общего обра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664920"/>
            <a:ext cx="86104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9900"/>
                </a:solidFill>
                <a:latin typeface="Arial Unicode MS"/>
              </a:rPr>
              <a:t>РАЗДЕЛ 2.  </a:t>
            </a:r>
            <a:r>
              <a:rPr b="1" lang="en-US" sz="2400" spc="-1" strike="noStrike">
                <a:solidFill>
                  <a:srgbClr val="669900"/>
                </a:solidFill>
                <a:latin typeface="Arial Unicode MS"/>
              </a:rPr>
              <a:t>Планируемые результаты освоения обучающимися основной образовательной программы начального общего образования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нируемые результаты - систем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общенных личностно-ориентированных целе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разова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беспечивают связь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 требованиями Стандарта, образовательным процессом и системой оценки результатов освоения основной образовательной программы начального общего образова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являются содержательной и критериальной основой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разработки учебных программ и учебно-методической литературы, системы оценки качества освоения обучающимися основной образователь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8080" y="990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228600" y="1447920"/>
            <a:ext cx="2664000" cy="6840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ИЧНО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3276720" y="1523880"/>
            <a:ext cx="251928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ТА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6248520" y="1523880"/>
            <a:ext cx="269856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228600" y="2514600"/>
            <a:ext cx="2259000" cy="766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Самоопредел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9"/>
          <p:cNvSpPr/>
          <p:nvPr/>
        </p:nvSpPr>
        <p:spPr>
          <a:xfrm>
            <a:off x="152280" y="3581280"/>
            <a:ext cx="2259000" cy="7621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мыслообразов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0"/>
          <p:cNvSpPr/>
          <p:nvPr/>
        </p:nvSpPr>
        <p:spPr>
          <a:xfrm>
            <a:off x="228600" y="4572000"/>
            <a:ext cx="2335320" cy="10699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Ценностная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морально-эт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ориентац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3505320" y="2590920"/>
            <a:ext cx="2057400" cy="7617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Регулятив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2"/>
          <p:cNvSpPr/>
          <p:nvPr/>
        </p:nvSpPr>
        <p:spPr>
          <a:xfrm>
            <a:off x="3505320" y="3581280"/>
            <a:ext cx="2133360" cy="685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Коммуникатив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3"/>
          <p:cNvSpPr/>
          <p:nvPr/>
        </p:nvSpPr>
        <p:spPr>
          <a:xfrm>
            <a:off x="3505320" y="4572000"/>
            <a:ext cx="2057400" cy="83808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ознаватель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3"/>
          <p:cNvSpPr/>
          <p:nvPr/>
        </p:nvSpPr>
        <p:spPr>
          <a:xfrm>
            <a:off x="6477120" y="2514600"/>
            <a:ext cx="2143080" cy="78588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новы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учных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9"/>
          <p:cNvSpPr/>
          <p:nvPr/>
        </p:nvSpPr>
        <p:spPr>
          <a:xfrm>
            <a:off x="1219320" y="0"/>
            <a:ext cx="86421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Arial"/>
              </a:rPr>
              <a:t>Стандарты устанавливают три группы образовательных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1981080"/>
            <a:ext cx="5335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67080" y="2057400"/>
            <a:ext cx="5335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238880" y="2057400"/>
            <a:ext cx="5335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43600" y="4952880"/>
            <a:ext cx="3200400" cy="1905120"/>
          </a:xfrm>
          <a:prstGeom prst="wedgeRectCallout">
            <a:avLst>
              <a:gd name="adj1" fmla="val -48810"/>
              <a:gd name="adj2" fmla="val -8308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При этом выделяются основные образовательные результаты для каждой ступени об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1-02-23T12:04:08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