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3.gif" ContentType="image/gif"/>
  <Override PartName="/ppt/media/image11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D0E-0B52-4354-84AB-F91B7B6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19A-E8F8-4515-BCC1-9AC8A24A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354-5153-4264-B6D5-0F42B4DB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442-B857-42BD-926B-0B38AFC7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4F7E-BB3F-4401-9A31-CB0B70C3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7D4-A5EB-4D77-A97F-49A1100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E740-1D9D-436D-B578-AAC7D2DA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901-68DC-409C-8887-2DF3C6F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EB33-A5CF-4029-8334-DC78375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AEA-E5AB-47A3-AB5B-2D0BD87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5BB-3FD6-4021-9751-9FA89CE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86A-1387-4092-BD32-E12A635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FD7A-BCD9-4F7D-B361-3E4ABCF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6D8A-289F-4397-8194-221C8B5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4D2F-D547-4EA5-8F04-1339C59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8220-895E-44CF-A876-A1EA23E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AD9-E62C-47F6-8A4B-F9912095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C20-4A07-49FB-A11F-A16E474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924-8F14-4EBB-83B8-F6568D2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BD9-840A-4A75-B821-1662495D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B4D-92D3-42D8-A997-1E61D87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0B-02DD-4AEF-A2C4-AF79C62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1C4-AFCD-477C-AC44-F1FD991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0EF-DF13-49A7-90AB-4E5CAC3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6734-4FB6-4626-B67D-0C3DE9FF83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6878-4025-4946-8528-86866EFF04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актическое занят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880" y="3427200"/>
            <a:ext cx="724392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леполагание эффективной деятельности. Технологии постановки целей и их достиж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ть необходимо не затем чтобы знать, но и научиться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Требования к содержанию и формулировки цели современного образовательного учреждения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1827360"/>
          <a:ext cx="7696440" cy="3735360"/>
        </p:xfrm>
        <a:graphic>
          <a:graphicData uri="http://schemas.openxmlformats.org/drawingml/2006/table">
            <a:tbl>
              <a:tblPr/>
              <a:tblGrid>
                <a:gridCol w="3849840"/>
                <a:gridCol w="3846600"/>
              </a:tblGrid>
              <a:tr h="186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 должна быть комплекс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ировка цели должна содержать в себе модель желаемого результ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8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 должна быть оригинальной, отражая и одновременно формируя самобытный дух данной шко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и должна учитывать основные тенденции развития города, страны, мирового сообще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 rot="21152400">
            <a:off x="151920" y="30492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отивационный аспект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791320"/>
            <a:ext cx="7619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Человек с ясной целью будет продвигаться даже по самой тяжкой дороге. Человек безо всякой цели не продвинется и по самой гладкой дороге.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омас Карлейл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Умение учиться или этапы нормального обуч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676520"/>
            <a:ext cx="723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ставить цель и сразу же составить план по ее осуществлению – это гениальный навык достижения успеха.  Так будем учитьс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0160" y="3048120"/>
          <a:ext cx="7313400" cy="293184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знанная некомпетен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Оказывается надо , но не знаю ка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знанная компетен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Уже знаю как, даже умею, но с труд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осознанная некомпетен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Нет и не надо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ссознательная компетентность                             ( умею и делаю не задумываяс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495680" y="3124080"/>
            <a:ext cx="381240" cy="3812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124080"/>
            <a:ext cx="380880" cy="3812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81280" y="2743200"/>
            <a:ext cx="30099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озн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572000"/>
            <a:ext cx="381240" cy="380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72200" y="4419720"/>
            <a:ext cx="270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248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пример : Вспомните как вы учились пользоваться компьюте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тработка навыка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елесообразного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действ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Verdana"/>
              </a:rPr>
              <a:t>Логическое описание (Дедукция -от общего к частному; индукция -от частного к общему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Verdana"/>
              </a:rPr>
              <a:t>Процессуальное описание (технология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38280" y="3900600"/>
            <a:ext cx="3886200" cy="2128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3720" y="6095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Матричное описание проц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81080"/>
            <a:ext cx="1143000" cy="38102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680040 h 3810240"/>
              <a:gd name="textAreaBottom" fmla="*/ 26953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2" stAng="-5400000" swAng="-5400000"/>
                <a:lnTo>
                  <a:pt x="0" y="11424"/>
                </a:lnTo>
                <a:arcTo wR="21600" hR="7712" stAng="10800000" swAng="-2716853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83"/>
                </a:lnTo>
                <a:arcTo wR="21600" hR="7712" stAng="8083147" swAng="2413308"/>
                <a:lnTo>
                  <a:pt x="635" y="9568"/>
                </a:lnTo>
                <a:arcTo wR="21600" hR="7712" stAng="-10496455" swAng="5096455"/>
                <a:close/>
              </a:path>
              <a:path fill="darkenLess" w="21600" h="21600">
                <a:moveTo>
                  <a:pt x="21600" y="0"/>
                </a:moveTo>
                <a:arcTo wR="21600" hR="7712" stAng="-5400000" swAng="-5400000"/>
                <a:lnTo>
                  <a:pt x="0" y="7712"/>
                </a:lnTo>
                <a:arcTo wR="21600" hR="7712" stAng="10800000" swAng="-303545"/>
                <a:lnTo>
                  <a:pt x="635" y="9568"/>
                </a:lnTo>
                <a:arcTo wR="21600" hR="7712" stAng="-10496455" swAng="509645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огическая  структура эффективной (целенаправленной) деятель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71600" y="1827360"/>
          <a:ext cx="7311960" cy="4114800"/>
        </p:xfrm>
        <a:graphic>
          <a:graphicData uri="http://schemas.openxmlformats.org/drawingml/2006/table">
            <a:tbl>
              <a:tblPr/>
              <a:tblGrid>
                <a:gridCol w="3656160"/>
                <a:gridCol w="3655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Исходное (настоящее) состоя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Желаемое состояние (цель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Пути решения (задач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Средства и 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219320" y="62485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мире существует обычай предоставлять место человеку, чьи слова и действия показывают, что он знает, куда он идёт.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Наполеон Хилл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осемь способов снизить  свою эффектив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124080" y="1827360"/>
          <a:ext cx="5715000" cy="39272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ловек « Нет пробле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Ежик в туман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ловек-жер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 Вечный  мечтат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 понедельника возьмус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Ой не знаю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…не знаю, мне к умным или к красивы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арахольщ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77" name=""/>
          <p:cNvSpPr txBox="1"/>
          <p:nvPr/>
        </p:nvSpPr>
        <p:spPr>
          <a:xfrm>
            <a:off x="380880" y="1905120"/>
            <a:ext cx="2590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нор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0880" y="32004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цикл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38080" y="4343400"/>
            <a:ext cx="1371600" cy="130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 как у Вас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1295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5867280"/>
            <a:ext cx="66294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ремление к неправильно выбранной цели не принесет счастья, даже при условии ее достижения...  Уваров Влади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оцессуальное описание эффективной деятель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827360"/>
          <a:ext cx="7540200" cy="2982600"/>
        </p:xfrm>
        <a:graphic>
          <a:graphicData uri="http://schemas.openxmlformats.org/drawingml/2006/table">
            <a:tbl>
              <a:tblPr/>
              <a:tblGrid>
                <a:gridCol w="3771000"/>
                <a:gridCol w="3769200"/>
              </a:tblGrid>
              <a:tr h="14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бл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и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бор реальных данных, анализ причин, поиск корней пробл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определение направления решения, постановка общей це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5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Отчет о результата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равнение полученных результатов с ожидаемыми, корректировка направлений дальнейшего пу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Шаги к це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формулировка конкретных задач, прописывание цепочки реальных шаг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743200" y="4876920"/>
            <a:ext cx="426708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блема- конст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блема-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5627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Чаще всего люди только констатируют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94216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/з.1 неделя- отмечать все ситуации, когда люди констатируют проблему. 2 неделя- отследить переход от проблемы к 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7621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Шаги превращения проблемы в цел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95280" y="1981080"/>
          <a:ext cx="7313760" cy="2590920"/>
        </p:xfrm>
        <a:graphic>
          <a:graphicData uri="http://schemas.openxmlformats.org/drawingml/2006/table">
            <a:tbl>
              <a:tblPr/>
              <a:tblGrid>
                <a:gridCol w="3657600"/>
                <a:gridCol w="365616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шаг. Прекратить драматизацию. Сделать инвентаризацию имеющихс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шаг. Отказавшись от эмоций, опишите имеющееся положение на языке фа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шаг Формулируйте цель, ставьте адекватные задачи и начинайте работу обычным образ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шаг. Найти причины неудовлетворительного положения, найти корни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276720" y="1600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блема-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4724280"/>
            <a:ext cx="58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вадрат главных жизненных сфер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(ставим личные цели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370160" y="1981080"/>
          <a:ext cx="7313400" cy="396108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ные цели в личной жизн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ные цели в вашей профессиональной деятельнос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роение отношений в личной жизн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роение отношений в сфере проф.деятельнос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 txBox="1"/>
          <p:nvPr/>
        </p:nvSpPr>
        <p:spPr>
          <a:xfrm>
            <a:off x="3657600" y="1676520"/>
            <a:ext cx="294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метная обла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81280" y="6019920"/>
            <a:ext cx="294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ласть отноше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4120" y="3886200"/>
            <a:ext cx="29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ловая сфе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52480" y="3886200"/>
            <a:ext cx="294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чная сфе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63244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ние ставить личные цели- успех деятельности мене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авила постановки реальных  личных целе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905120"/>
          <a:ext cx="7313400" cy="365760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Цель должна быть - ваша: не друзей, не семьи - ваша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Цель должна быть реальна. Через 2 месяца дом на Канарах - нереально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Цель должна быть конкретна: если это - автомобиль, то какой марки и цвета, если это квартира - то в каком городе, районе; сколько комнат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Цель должна быть положительна: «не хочу быть бедным» - не цель, «хочу быть финансово независимым, иметь такой-то ежемесячный доход через столько-то месяцев» - это цел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1447920" y="5791320"/>
            <a:ext cx="6933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ть ли цель в том, что ты делаешь? Принадлежит ли она тебе?  Ван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ние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гните лист вдвое и опять вдво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 вашем листе появились четыре окн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каждом окне  запишите личную цель в каждой жизненной сфере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сставьте приоритеты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 по принципу Эзенхауэра). Над какой целью необходимо поработать в первую очеред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93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работать технологию формулировки цел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равнить личную цель с целью менеджера и организ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формулировать принципы  эффективной деятельн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4800600"/>
            <a:ext cx="8439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оворим о цел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сстановка приоритетов в работе по принципу Эйзенхауэра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3915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ка ваших целе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0160" y="1828800"/>
          <a:ext cx="7313400" cy="401004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16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итивно ли сформулирована ваша цель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ана ли она сенсорным языком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31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логична ли о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ответствует ли она контексту и имеет подходящий размер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 значит «экологичность цели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Arial"/>
              </a:rPr>
              <a:t>Секрет эффективного менеджмента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лжен уметь четко и быстро определять желаемое будущее, цели и задачи, зависящие от сотрудника, регулярно давать ему короткую, но эффективную обратную связь о степени достижения целей. Итак, основной секрет эффективного менеджмента по Бланшару и Джонсону – это умение правильно ставить цели. Существует международный классический стандарт постановки целей SMAR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419880" y="413388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7620120" cy="3803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5800" y="449568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ую цель люди понимают иначе, чем человек, ее указующий.  Чизхолм Фран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933480" cy="1219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52480" y="55627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Можно ли данную технологию применить к постановке цели ООП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лаго везде и повсюду зависит от соблюдения двух условий:                 1) правильного установления конечной цели всякого рода деятельности и 2) отыскания соответственных средств, ведущих к конечной цели.    ( Аристотель)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нципы эффективной деятель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истемности(принцип иерархичности целе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зульта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аправлен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ветствен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ережающего лидерст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ысшей эффективности (стоимости и достаточ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отрудничест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4952880"/>
            <a:ext cx="708804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тобы дойти до цели, надо прежде всего идти. (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норе Бальзак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436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Мы  часто   слышим  это  слово –цель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66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33cc"/>
                </a:solidFill>
                <a:latin typeface="Verdana"/>
              </a:rPr>
              <a:t>Задание 1. Предлагаю  вам  выразить  свое  отношение  к  проблеме,   и   написать  синквейн («стихотворение»,  состоящее  из  пяти  строк) по  теме  «цель». (1 мин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869000"/>
            <a:ext cx="813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инквейн (от фр. cinquains, англ. cinquain) — пятистрочная стихотворная форма, возникшая в США в начале XX века под влиянием японской поэзии. В дальнейшем стала использоваться (в последнее время, с 1997 года, и в России) в дидактических целях, как эффективный метод развития образной речи, который позволяет быстро получить результат. Ряд методистов полагает, что синквейны полезны в качестве инструмента для синтезирования сложной информации, в качестве среза оценки понятийного и словарного багажа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9334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рядок  написания  синквейн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Первая  стро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дно  ключевое  слов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определяющее  содержание  синквейн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Вторая  стро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ва  прилагательных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характеризующих  данное  понят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Третья  стро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три  глагол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показывающие  действие  понят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Четвертая  стро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роткое  предложени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 котором  автор  высказывает  свое  отнош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Пятая стро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дно  слов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обычно  существительное, через которое  человек  выражает свои  чувства, ассоциации, связанные  с  данным  поняти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616572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Что получилось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G00317_"/>
          <p:cNvPicPr/>
          <p:nvPr/>
        </p:nvPicPr>
        <p:blipFill>
          <a:blip r:embed="rId1"/>
          <a:stretch/>
        </p:blipFill>
        <p:spPr>
          <a:xfrm>
            <a:off x="152280" y="4800600"/>
            <a:ext cx="14572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16360" y="549360"/>
            <a:ext cx="3168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060640"/>
            <a:ext cx="2592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конкре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2060640"/>
            <a:ext cx="26654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чет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213000"/>
            <a:ext cx="2736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пла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3213000"/>
            <a:ext cx="2305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отив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3213000"/>
            <a:ext cx="223200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292640"/>
            <a:ext cx="784836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остичь можно лишь достижим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5084640"/>
            <a:ext cx="3816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Arial"/>
              </a:rPr>
              <a:t>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260280"/>
            <a:ext cx="1714680" cy="1285920"/>
          </a:xfrm>
          <a:prstGeom prst="rect">
            <a:avLst/>
          </a:prstGeom>
        </p:spPr>
        <p:txBody>
          <a:bodyPr wrap="none" lIns="182520" rIns="18252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квей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4" descr="AG00317_"/>
          <p:cNvPicPr/>
          <p:nvPr/>
        </p:nvPicPr>
        <p:blipFill>
          <a:blip r:embed="rId1"/>
          <a:stretch/>
        </p:blipFill>
        <p:spPr>
          <a:xfrm>
            <a:off x="0" y="4986360"/>
            <a:ext cx="14572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—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это конечный желаемый результат, который определяется в процессе планирования и регулируется функциями управл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52280"/>
            <a:ext cx="632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р уступает дорогу тому, кто знает, куда ид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льф Уолдо Эмерсо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3749760"/>
            <a:ext cx="30477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219320" y="1066680"/>
            <a:ext cx="7313400" cy="5640480"/>
            <a:chOff x="1219320" y="1066680"/>
            <a:chExt cx="7313400" cy="5640480"/>
          </a:xfrm>
        </p:grpSpPr>
        <p:sp>
          <p:nvSpPr>
            <p:cNvPr id="119" name=""/>
            <p:cNvSpPr/>
            <p:nvPr/>
          </p:nvSpPr>
          <p:spPr>
            <a:xfrm>
              <a:off x="4876920" y="3887640"/>
              <a:ext cx="3655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887640"/>
              <a:ext cx="36576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1066680"/>
              <a:ext cx="3655800" cy="28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9320" y="1066680"/>
              <a:ext cx="3657600" cy="28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1066680"/>
              <a:ext cx="7313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887640"/>
              <a:ext cx="731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19320" y="6707160"/>
              <a:ext cx="7313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1066680"/>
              <a:ext cx="0" cy="5640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1066680"/>
              <a:ext cx="0" cy="56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32720" y="1066680"/>
              <a:ext cx="0" cy="5640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657600" cy="2803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33520" y="380880"/>
            <a:ext cx="152388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хни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Verdana"/>
              </a:rPr>
              <a:t>Мои четыре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124080"/>
            <a:ext cx="304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твои четыре окна кричит вью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019920"/>
            <a:ext cx="3047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твои четыре окна летит ле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943600"/>
            <a:ext cx="304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твои четыре окна поет ос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3124080"/>
            <a:ext cx="304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вои четыре окна разбила птица-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572000"/>
            <a:ext cx="4496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твои четыре окна смотрю 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чему люди не ставят цели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5280" y="2362320"/>
          <a:ext cx="6783480" cy="3495600"/>
        </p:xfrm>
        <a:graphic>
          <a:graphicData uri="http://schemas.openxmlformats.org/drawingml/2006/table">
            <a:tbl>
              <a:tblPr/>
              <a:tblGrid>
                <a:gridCol w="3392640"/>
                <a:gridCol w="3390840"/>
              </a:tblGrid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 удосужились взять на себя ответственность за собственную жизнь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 сознают их важности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 знают, как это делается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язнь неудачи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5486400"/>
            <a:ext cx="93348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1752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Задание 2. Найдите четыре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172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Согласитесь ли  со м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652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533160"/>
            <a:ext cx="7313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сто цели в педагогической деятель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71600" y="2819520"/>
          <a:ext cx="6553080" cy="2666880"/>
        </p:xfrm>
        <a:graphic>
          <a:graphicData uri="http://schemas.openxmlformats.org/drawingml/2006/table">
            <a:tbl>
              <a:tblPr/>
              <a:tblGrid>
                <a:gridCol w="3276720"/>
                <a:gridCol w="327636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Ц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Содержа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Мет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Форм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523880" y="1752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оворя, о цели, как компоненте педагогической деятельности сначала следует отметить основные компоненты педагогического процесса вооб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867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вод: цели закономерно определяют остальные элементы педагогическ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1152400">
            <a:off x="151920" y="30492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отивационный аспект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305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3T12:05:1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