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9B1-7CEF-4CFE-97E4-8BCDF9EB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D98-3B07-41DF-AAA3-181BF0B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063-AAFB-4EBB-B04D-EAB5114C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C41-BEF2-48A4-8782-A3D7440F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F53A-5505-40E9-AC62-E2BDF601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1D5-E929-4E1C-99DD-2E1C603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ABCE-B8BF-471F-BFFD-79E634D6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BAD3-3C34-47C0-8C23-468EA3F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6959-5BBC-438D-BFBE-EBE91461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7036-756B-4A47-B59C-24C275F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D57-D63B-4BB9-8F9C-91687713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89B-010C-44ED-A05B-6B46CC27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9036-B9C4-40B5-AC7C-40515D4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48E-BBBD-4646-9E33-60A2DE0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CEC5-6EB2-471D-B93B-4A56149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C97-2C43-4087-89C5-0993BED0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079F-6F58-4CF4-99EB-5EA74C1B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C91-E132-4B15-A937-79730A6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7BF-725F-480B-A6AF-BA927A9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71A-A2E3-4D66-B7D1-92EA50B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A09-B499-4AFB-A7B9-C241FFDE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D26-1949-4496-B085-959500E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03F-9AB5-44B7-ADFF-A9B5A96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BEC-606A-4B02-A424-04E0803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0EA-9144-423B-807D-40A446AB2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4F09-5190-4C5F-B756-611425A0FE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Что такое дизорфография?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755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775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Орфографический нав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992400" cy="56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9546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Как помочь ребенку с дизорфографие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488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50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2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2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Вы можете сделать учёбу Вашего ребёнка доступной и интересной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3447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661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705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42:14Z</dcterms:created>
  <dc:creator>ЛОКО</dc:creator>
  <dc:description/>
  <dc:language>en-US</dc:language>
  <cp:lastModifiedBy>Анюта</cp:lastModifiedBy>
  <dcterms:modified xsi:type="dcterms:W3CDTF">2002-01-01T16:02:31Z</dcterms:modified>
  <cp:revision>15</cp:revision>
  <dc:subject/>
  <dc:title>Слайд 1</dc:title>
</cp:coreProperties>
</file>