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3F5-32AA-4C44-AF1B-3F23EB5C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412-CAFD-4CEC-956F-83076013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C55-0014-4F26-A0D1-9E4B8135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C46-3856-4744-B252-A2E15B45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F5F-0DF3-48FC-B1A6-55D9C59D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865-EA6C-49D0-BAC1-5843CC11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0A4-B589-4C5E-B50F-A5219A71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B4D-A326-4C17-ABAB-4F5DCB86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DCF-2AF1-47F3-9680-7E4F2E49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6E7-C7C3-43CD-999A-408FDB59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630-3C52-4445-88CF-08502249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BC7-A3A3-4870-92EE-5C083F0D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1DD9-5966-4FC4-8A08-33786674A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Афганистан  болит  в  моей  душ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SS101915"/>
          <p:cNvPicPr/>
          <p:nvPr/>
        </p:nvPicPr>
        <p:blipFill>
          <a:blip r:embed="rId1"/>
          <a:stretch/>
        </p:blipFill>
        <p:spPr>
          <a:xfrm>
            <a:off x="826920" y="1089000"/>
            <a:ext cx="770436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нейка  открыт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1020616"/>
          <p:cNvPicPr/>
          <p:nvPr/>
        </p:nvPicPr>
        <p:blipFill>
          <a:blip r:embed="rId1"/>
          <a:stretch/>
        </p:blipFill>
        <p:spPr>
          <a:xfrm>
            <a:off x="539640" y="650880"/>
            <a:ext cx="82803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ассный  час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«В лесу  прифронтово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P1020700"/>
          <p:cNvPicPr/>
          <p:nvPr/>
        </p:nvPicPr>
        <p:blipFill>
          <a:blip r:embed="rId1"/>
          <a:stretch/>
        </p:blipFill>
        <p:spPr>
          <a:xfrm>
            <a:off x="1042920" y="1189080"/>
            <a:ext cx="75628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ревнования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упп  казачьей  направл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1020771"/>
          <p:cNvPicPr/>
          <p:nvPr/>
        </p:nvPicPr>
        <p:blipFill>
          <a:blip r:embed="rId1"/>
          <a:stretch/>
        </p:blipFill>
        <p:spPr>
          <a:xfrm>
            <a:off x="755640" y="1144440"/>
            <a:ext cx="762012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ревнования  по  стрель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S103163"/>
          <p:cNvPicPr/>
          <p:nvPr/>
        </p:nvPicPr>
        <p:blipFill>
          <a:blip r:embed="rId1"/>
          <a:stretch/>
        </p:blipFill>
        <p:spPr>
          <a:xfrm>
            <a:off x="539640" y="674640"/>
            <a:ext cx="824256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треча  с  военнослужащи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S100259"/>
          <p:cNvPicPr/>
          <p:nvPr/>
        </p:nvPicPr>
        <p:blipFill>
          <a:blip r:embed="rId1"/>
          <a:stretch/>
        </p:blipFill>
        <p:spPr>
          <a:xfrm>
            <a:off x="611280" y="623880"/>
            <a:ext cx="831528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ерация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«Обелис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I:\SAM_1657.JPG"/>
          <p:cNvPicPr/>
          <p:nvPr/>
        </p:nvPicPr>
        <p:blipFill>
          <a:blip r:embed="rId1"/>
          <a:stretch/>
        </p:blipFill>
        <p:spPr>
          <a:xfrm>
            <a:off x="857160" y="1303200"/>
            <a:ext cx="74059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рои   с  н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3" descr=""/>
          <p:cNvPicPr/>
          <p:nvPr/>
        </p:nvPicPr>
        <p:blipFill>
          <a:blip r:embed="rId1"/>
          <a:stretch/>
        </p:blipFill>
        <p:spPr>
          <a:xfrm>
            <a:off x="1692360" y="1703520"/>
            <a:ext cx="6335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льчишки, мальчишки, мальчишк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664000" cy="1996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64000" y="4005360"/>
            <a:ext cx="3187800" cy="2390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403800" cy="2552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084720" y="1413000"/>
            <a:ext cx="2772000" cy="207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484360" y="2349360"/>
            <a:ext cx="367344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4:48:06Z</dcterms:created>
  <dc:creator>ЗАВУЧ</dc:creator>
  <dc:description/>
  <dc:language>en-US</dc:language>
  <cp:lastModifiedBy>Ноут</cp:lastModifiedBy>
  <dcterms:modified xsi:type="dcterms:W3CDTF">2011-02-27T19:17:51Z</dcterms:modified>
  <cp:revision>5</cp:revision>
  <dc:subject/>
  <dc:title>Классный час  «Афганистан  болит  в  моей  душе»</dc:title>
</cp:coreProperties>
</file>