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F57-B0DC-479A-905E-41A8A935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FDB-A396-408C-91C7-31E2FC6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B77-CAEA-4BD4-B13B-9D6286F3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477-BD3B-49C7-8991-929530B4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BE8D-D6C8-435E-8E8D-6BDC2951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4723-C1F7-4CE6-9B36-A3117910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9611-9F1F-4261-A27D-8EB2E18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AA66-6831-4FFD-BD54-BC8CFAC4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F540-7BFA-4E6B-85C3-1BD53CB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E58F-F459-4FD7-8D27-79B124F8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7580-BA96-4C6E-AAA5-3A928CB7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62B-1245-4527-9D25-2EB4F16E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9204-C442-45FD-8364-7A659EC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02F8-5C33-4AFE-955E-AA19C14D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50B6-1EC2-43F3-9034-F236ADAA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8D97-ED97-414A-8DA5-B8FF8C14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8D74-85B1-4A33-85D0-95EB689E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CC4-F6B5-4F99-9895-6BEC5FE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180-9DDA-40CB-A1EA-F1F3957B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F2C-790C-4C2A-80AD-9AF10907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422-7706-45EE-AD89-1571895C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F23-59A8-4B5D-9A3D-7903F06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379-E80F-4887-9576-53FAD065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661-2557-4202-87C1-87579CA2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5B18-4CCC-4D78-85DC-2573A5B59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BABA-EFE9-4984-849F-1329A6B7E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осаф Белгородский - яркий пример пути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православног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христианин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 1737 году назначен игуменом Лубенского Мгарского Спасо-Преображенского  монастыр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50292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 1744 году повелением императрицы Елизаветы посвящен в сан архимандрита и переведён наместником Троице- Сергиевой Лавр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1758960"/>
            <a:ext cx="6476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есвятая Богород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7880" y="1447920"/>
            <a:ext cx="3279600" cy="472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16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осаф Белгородский обладал даром слез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езд Иосафа Белгородского в Грайворо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693432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ли,  поставленные перед написанием данной исследовательской работы, благородные, очень актуальные и полезные в наши дн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астоящее время в Белгородской области, предпринимаются, определенные усилия, по созданию системы духовно-нравственного и патриотического воспитания, на основе национальных православных традиций. Азы этого процесса находятся в историческом прошлом Родины, народа. Чтобы почувствовать духовное богатство древней культуры и православия, необходимо взглянуть на них глазами современников, ощутить себя участником той жизни и тех событ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важно, что мы, ныне живущие, и те, кто придет нам на смену, помнили о своих истоках, о преемственности поколений, неразрывной  связи времен; чтобы честное прочтение прошлого облагораживало, при соприкосновении с былым не покидала гордость за свою малую родину. Чтобы все лучшие человеческие качества, унаследованные белгородцами почти за три века, прорастали крепкими и надежными побегами в душах и  характерах современ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ктуальност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я данной темы обусловлена развитием воспитательных функций светской школы в современных социокультурных услови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дач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итывать чувство любви и гордости к родной стран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ть на этой основе нравственные, эстетические чувства, вкусы, творческие способности и потребности эстетического преобразования окружающ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общать подрастающее поколение к знаниям о богатом наследии православн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ипоте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сследовательской рабо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без знания  исторических фактов, без интереса к истории своей местности, не может быть полноценной  и нравственной личности, гражданина, патриота, не может быть уважения к своему народу и стр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осаф Белгород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оаки́м Андре́евич Горле́нк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а рожд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 сентября 1705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та смерт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 декабря 1754 г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94200" y="1981080"/>
            <a:ext cx="354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и крещении получил имя Иоаким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06640" y="1981080"/>
            <a:ext cx="273816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78560" y="1981080"/>
            <a:ext cx="217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осаф Белгородский - покровитель Белгород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4678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 1713 году был определён в Киевскую духовную академ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1725 году в Киево - Межигорском монастыре пострижен в рясофор с именем Илларион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06T09:14:2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