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69A-5942-458A-8E35-24F47A86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75E-7DDF-433A-BA1F-9FABA92D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432-0141-4A6F-B4AA-F38A6093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C9E-A471-4EC3-9B9A-1086308A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92B6-64E6-44CF-928A-1CD2BD5A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488C-8764-4543-BA9B-2AB57C53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A2E8-9EF8-4268-A444-748D0FC6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2B1E-EF96-4F4E-82D3-DC6803CA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8438-705C-4C53-AEE2-C30EC9A6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BA7F-6FF1-49D4-9878-04E5E99C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78C3-6669-4C1F-B241-42279ECB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08D-CCF5-4811-94FC-D28F76FE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4A35-532A-4489-9FCD-D06CE1AB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92D2-18A5-4304-819E-447953D0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80E5-9D34-4857-852C-DB522822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3F3B-5168-4E33-91EE-A276B521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037F-25D3-4A8C-9445-D7179D9C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33EA8-A865-4F03-A0E8-5413D2B8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9CDD2-4D87-4606-B54C-ADEED10B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CF005-6F98-429A-9C08-F55903ED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2E31D-8429-4BD4-8D3B-97DA50C6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41FCD-5FB3-4646-9A54-CDA477D9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DA8-EDC8-48C7-9F56-1B0CCF14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03BFA-EEB8-4D9D-A2E4-4B0A8770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53471-BD92-4DF1-A5E9-84ED777B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BE070-2E9A-4FB7-B64D-ABDDF72F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5A82B-B449-4C90-9997-6A67CC73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F7CF1-B391-4115-AB49-4EF4CE32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750D6-5827-4C12-A76D-3DA9ADDA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65CB6-267D-4132-AC2F-88805743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83881-BF33-45B3-AB7B-CD9D80F2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4B4FB-F31F-408A-BB26-E1E1757B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FE7E8-12FF-4C9F-A6BE-AA2D0A5F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204-7096-4368-9176-694483BA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9C685-E25D-4274-AB53-067E6C69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C0390-19B4-44FD-B36C-D0C3CE8B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AA373-3D87-4D5E-8B11-7AC69D74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A4BFA-0B33-44ED-BDC5-0C2DA4DD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D89A4-A2B8-4486-9CAD-DEB6A5F0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CB47D-27A9-4D9E-BE47-95EFACA1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DEE8B-6FF9-49C4-B20E-C0DCD182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B765B-6B99-416F-B7C3-6F8C6FDF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B9F3E-9572-4D11-A2BD-2E163806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8AF3C3-EFCC-479D-BD45-704FD1C8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65C-A802-4EE5-ADB2-13E09E49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03880-C3BD-4643-9D02-BC702646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25FCA-10B5-4C5E-8DC9-9B562136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6533E-885F-40DA-8B27-5A36E229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D5007F-A96E-4868-A020-8B8AE124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71F66-CDAB-4A9D-98B5-1E574062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E4250-E3D9-402B-AC93-9FA9791B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C0711-7624-4734-80F8-BA69A238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4F7A4-B1FF-4632-BB50-5DAFB0A9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7C033D-BBA6-44E4-B536-B8D5BC03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B0121-544C-4395-A9BE-C86E0FF7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20B-4A46-4D9B-A472-0DAB2D39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924357-1BD4-4956-B642-1106DA26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F9133-F1A2-48D7-A68A-4ED11DCF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4DC2A-6DAD-47FD-9593-52AC0AFE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2B998-9AA8-46D2-BCD1-7C927898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834AD-E555-4933-A3C3-D6F993F3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F1014-C67B-46FB-BC6E-6D84F320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90CC1-8A99-4758-B53C-69CA395C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D0F4E2-E0F4-45AC-B3A7-49E0C8E0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BCF98-8EE3-4278-81E4-14120A40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4E356-410D-4190-88CA-A174B37B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7EC-CAB0-4FC0-9CC7-7BE4AEAC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C21D52-3CEE-4998-A396-3AEFAF01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43713A-AB16-443C-A906-555E7A2A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585AB6-25CB-488A-9797-63375725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AAE5F-BBB3-4618-B1D5-A8230F7A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DEC0C6-C4B2-49EC-A2A9-B200D566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234FF9-6E47-4B68-84BA-1A656A16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92DC6-0AFF-48C5-9251-1D60A3E3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CF419-E348-4D65-A7D0-6FFC0104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F2438C-4859-48BE-8450-FF7A91C6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DE8B63-1A2D-4926-AD19-E69A93D8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201-AEBB-40BB-BBC1-35608686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DAB65F-2222-457D-9079-A7F73D24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92771-A5E8-4501-9B3A-1BB3094E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714771-7490-45B3-9B30-B7CB06F2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C7F917-2346-495D-B672-9E562352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B1704-5006-48BB-8C75-1DB1049A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8BDB-D5A2-403D-83FF-A836C20F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BE92-8C9C-4F72-848F-E8D50121789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E736-2DD9-4658-B435-3C88AAEA0A9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41F6-F06F-4C38-85C3-BE68C7DE587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67F6-015C-46F1-94B2-519B138A0EC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A005-AFFA-43E5-94AE-21089A6F056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CC41-A84A-4DD4-8AB4-B0D47AAA2B2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EB63-48E8-40C1-84DF-C867EBD8C55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3" descr="success.jpg"/>
          <p:cNvPicPr/>
          <p:nvPr/>
        </p:nvPicPr>
        <p:blipFill>
          <a:blip r:embed="rId1"/>
          <a:stretch/>
        </p:blipFill>
        <p:spPr>
          <a:xfrm>
            <a:off x="6429240" y="40006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42720" y="242856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5f6d"/>
                </a:solidFill>
                <a:latin typeface="Bookman Old Style"/>
              </a:rPr>
              <a:t>КАК СТАТЬ </a:t>
            </a:r>
            <a:r>
              <a:rPr b="1" lang="ru-RU" sz="6600" spc="-1" strike="noStrike">
                <a:solidFill>
                  <a:srgbClr val="575f6d"/>
                </a:solidFill>
                <a:latin typeface="Bookman Old Style"/>
                <a:ea typeface="Arial"/>
              </a:rPr>
              <a:t>УСПЕШНЫМ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Рисунок 4" descr="успех.jpg"/>
          <p:cNvPicPr/>
          <p:nvPr/>
        </p:nvPicPr>
        <p:blipFill>
          <a:blip r:embed="rId2">
            <a:grayscl/>
          </a:blip>
          <a:stretch/>
        </p:blipFill>
        <p:spPr>
          <a:xfrm>
            <a:off x="1785960" y="0"/>
            <a:ext cx="292896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32968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Arial Black"/>
              </a:rPr>
              <a:t>ЧТО ТАКОЕ УСПЕХ</a:t>
            </a:r>
            <a:br>
              <a:rPr sz="4000"/>
            </a:br>
            <a:r>
              <a:rPr b="0" lang="ru-RU" sz="4000" spc="-1" strike="noStrike">
                <a:solidFill>
                  <a:srgbClr val="575f6d"/>
                </a:solidFill>
                <a:latin typeface="Arial Black"/>
              </a:rPr>
              <a:t>КАЧЕСТВА УСПЕШНОГО ЧЕЛОВЕКА</a:t>
            </a:r>
            <a:br>
              <a:rPr sz="4000"/>
            </a:br>
            <a:r>
              <a:rPr b="0" lang="ru-RU" sz="4000" spc="-1" strike="noStrike">
                <a:solidFill>
                  <a:srgbClr val="575f6d"/>
                </a:solidFill>
                <a:latin typeface="Arial Black"/>
              </a:rPr>
              <a:t>ПОЗНАЙ САМОГО СЕБЯ</a:t>
            </a:r>
            <a:br>
              <a:rPr sz="4000"/>
            </a:br>
            <a:r>
              <a:rPr b="0" lang="ru-RU" sz="4000" spc="-1" strike="noStrike">
                <a:solidFill>
                  <a:srgbClr val="575f6d"/>
                </a:solidFill>
                <a:latin typeface="Arial Black"/>
              </a:rPr>
              <a:t>ВЫБОР ЖИЗНЕННОГО ПУТИ</a:t>
            </a:r>
            <a:br>
              <a:rPr sz="4000"/>
            </a:br>
            <a:r>
              <a:rPr b="0" lang="ru-RU" sz="4000" spc="-1" strike="noStrike">
                <a:solidFill>
                  <a:srgbClr val="575f6d"/>
                </a:solidFill>
                <a:latin typeface="Arial Black"/>
              </a:rPr>
              <a:t>ФОРМУЛА УСПЕХА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Picture 4" descr="F:\Света\уч\Картинки\КИК.jpg"/>
          <p:cNvPicPr/>
          <p:nvPr/>
        </p:nvPicPr>
        <p:blipFill>
          <a:blip r:embed="rId1"/>
          <a:stretch/>
        </p:blipFill>
        <p:spPr>
          <a:xfrm>
            <a:off x="571680" y="4929120"/>
            <a:ext cx="1726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642600"/>
            <a:ext cx="7467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Arial Black"/>
              </a:rPr>
              <a:t>УСПЕХ – </a:t>
            </a:r>
            <a:r>
              <a:rPr b="1" lang="ru-RU" sz="3000" spc="-1" strike="noStrike">
                <a:solidFill>
                  <a:srgbClr val="595d63"/>
                </a:solidFill>
                <a:latin typeface="Arial Black"/>
              </a:rPr>
              <a:t>ЭТО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1. УДАЧА В ДОСТИЖЕНИИ ЧЕГО-НИБУДЬ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2. ОБЩЕСТВЕННОЕ ПРИЗНАНИЕ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3. ХОРОШИЕ РЕЗУЛЬТАТЫ В РАБОТЕ, УЧЕБЕ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Picture 2" descr="F:\Света\уч\Картинки\ус.jpg"/>
          <p:cNvPicPr/>
          <p:nvPr/>
        </p:nvPicPr>
        <p:blipFill>
          <a:blip r:embed="rId1"/>
          <a:stretch/>
        </p:blipFill>
        <p:spPr>
          <a:xfrm>
            <a:off x="857160" y="4071960"/>
            <a:ext cx="3443400" cy="2363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F:\Света\уч\Картинки\дейл карнеги.jpg"/>
          <p:cNvPicPr/>
          <p:nvPr/>
        </p:nvPicPr>
        <p:blipFill>
          <a:blip r:embed="rId2"/>
          <a:stretch/>
        </p:blipFill>
        <p:spPr>
          <a:xfrm>
            <a:off x="5286240" y="4071960"/>
            <a:ext cx="253044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7467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Arial Black"/>
              </a:rPr>
              <a:t>МНЕНИЕ ПСИХОЛОГОВ</a:t>
            </a:r>
            <a:br>
              <a:rPr sz="2900"/>
            </a:br>
            <a:br>
              <a:rPr sz="29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УСПЕШНЫЕ ЛЮДИ ЧЕСТОЛЮБИВЫ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ОНИ ХРАБРЫ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ОНИ ВЕРЯТ В СЕБЯ И СВОЕ ДЕЛО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ОНИ ПРОФЕССИОНАЛЬНЫ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ОНИ ОТВЕТСТВЕННЫ 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e75c01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2" descr="F:\Света\уч\Картинки\девки.gif"/>
          <p:cNvPicPr/>
          <p:nvPr/>
        </p:nvPicPr>
        <p:blipFill>
          <a:blip r:embed="rId1"/>
          <a:stretch/>
        </p:blipFill>
        <p:spPr>
          <a:xfrm>
            <a:off x="5000760" y="357192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Arial Black"/>
              </a:rPr>
              <a:t>МНЕНИЕ ПСИХОЛОГОВ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СТАТЬ УСПЕШНЫМ МЕШАЮТ: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- СОМНЕНИЕ В СВОИХ СИЛАХ, НЕУВЕРЕННОСТЬ В СЕБЕ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- ПРЕЖДЕВРЕМЕННОЕ РАЗОЧАРОВАНИЕ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- НЕДОСТАТОК ПОДДЕРЖКИ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- НЕЖЕЛАНИЕ 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ПЕРЕМЕН ОКРУЖАЮЩИМИ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- РЕАЛЬНЫЕ 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ВОЗМОЖНОСТИ 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(ЗДОРОВЬЕ, ВОЗРАСТ)</a:t>
            </a:r>
            <a:br>
              <a:rPr sz="29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F:\Света\уч\Картинки\обида.jpg"/>
          <p:cNvPicPr/>
          <p:nvPr/>
        </p:nvPicPr>
        <p:blipFill>
          <a:blip r:embed="rId1"/>
          <a:stretch/>
        </p:blipFill>
        <p:spPr>
          <a:xfrm>
            <a:off x="5715000" y="428616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18676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6e5a"/>
                </a:solidFill>
                <a:latin typeface="Arial Black"/>
              </a:rPr>
              <a:t>ЦЕЛЬ-</a:t>
            </a: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 ОСОЗНАННЫЙ ОБРАЗ ПРЕДВОСХИЩАЕМОГО РЕЗУЛЬТАТА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 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ИМЕЙ ЦЕЛЬ ВСЕЙ ЖИЗНИ, ЦЕЛЬ ДЛЯ ИЗВЕСТНОЙ ЭПОХИ ТВОЕЙ ЖИЗНИ,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ЦЕЛЬ ДЛЯ ИЗВЕСТНОГО ВРЕМЕНИ, ЦЕЛЬ ДЛЯ ГОДА, ЦЕЛЬ ДЛЯ МЕСЯЦА,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ДЛЯ НЕДЕЛИ, ДЛЯ ДНЯ И ДЛЯ ЧАСА, ДЛЯ МИНУТЫ, 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ЖЕРТВУЯ НИЗШИЕ ЦЕЛИ ВЫСШИМ</a:t>
            </a:r>
            <a:r>
              <a:rPr b="0" lang="ru-RU" sz="3000" spc="-1" strike="noStrike">
                <a:solidFill>
                  <a:srgbClr val="575f6d"/>
                </a:solidFill>
                <a:latin typeface="Arial Black"/>
              </a:rPr>
              <a:t>.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Arial Black"/>
              </a:rPr>
              <a:t>                                   Л.Н.ТОЛСТОЙ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575f6d"/>
                </a:solidFill>
                <a:latin typeface="Arial Black"/>
              </a:rPr>
              <a:t>Н И ОДНА БЛАГАЯ ЦЕЛЬ НЕ МОЖЕТ БЫТЬ ДОСТИГНУТА НЕДОСТОЙНЫМИ СРЕДСТВАМИ, ИНАЧЕ ИСКАЖАЕТСЯ ОЖИДАЕМЫЙ </a:t>
            </a:r>
            <a:br>
              <a:rPr sz="4000"/>
            </a:br>
            <a:r>
              <a:rPr b="0" lang="ru-RU" sz="4000" spc="-1" strike="noStrike">
                <a:solidFill>
                  <a:srgbClr val="575f6d"/>
                </a:solidFill>
                <a:latin typeface="Arial Black"/>
              </a:rPr>
              <a:t>РЕЗУЛЬТАТ 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4" descr="F:\Света\уч\Картинки\кот.jpg"/>
          <p:cNvPicPr/>
          <p:nvPr/>
        </p:nvPicPr>
        <p:blipFill>
          <a:blip r:embed="rId1"/>
          <a:stretch/>
        </p:blipFill>
        <p:spPr>
          <a:xfrm>
            <a:off x="4214880" y="3429000"/>
            <a:ext cx="38019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F:\Света\уч\Картинки\Леонид_Рошаль_.jpg"/>
          <p:cNvPicPr/>
          <p:nvPr/>
        </p:nvPicPr>
        <p:blipFill>
          <a:blip r:embed="rId1"/>
          <a:stretch/>
        </p:blipFill>
        <p:spPr>
          <a:xfrm>
            <a:off x="3143160" y="3143160"/>
            <a:ext cx="2905200" cy="32544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6e5a"/>
                </a:solidFill>
                <a:latin typeface="Arial Black"/>
              </a:rPr>
              <a:t>ФОРМУЛА УСПЕХА</a:t>
            </a:r>
            <a:br>
              <a:rPr sz="4400"/>
            </a:br>
            <a:r>
              <a:rPr b="1" lang="ru-RU" sz="5400" spc="-1" strike="noStrike">
                <a:solidFill>
                  <a:srgbClr val="595d63"/>
                </a:solidFill>
                <a:latin typeface="Arial Black"/>
              </a:rPr>
              <a:t>ХОЧУ – МОГУ – НАДО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595d63"/>
                </a:solidFill>
                <a:latin typeface="Arial Black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4" descr="F:\Света\уч\Картинки\буре.jpg"/>
          <p:cNvPicPr/>
          <p:nvPr/>
        </p:nvPicPr>
        <p:blipFill>
          <a:blip r:embed="rId2"/>
          <a:stretch/>
        </p:blipFill>
        <p:spPr>
          <a:xfrm>
            <a:off x="6143760" y="3143160"/>
            <a:ext cx="2428920" cy="3256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F:\Света\уч\Картинки\Юра.jpg"/>
          <p:cNvPicPr/>
          <p:nvPr/>
        </p:nvPicPr>
        <p:blipFill>
          <a:blip r:embed="rId3"/>
          <a:stretch/>
        </p:blipFill>
        <p:spPr>
          <a:xfrm>
            <a:off x="357120" y="3143160"/>
            <a:ext cx="25718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6e5a"/>
                </a:solidFill>
                <a:latin typeface="Arial Black"/>
              </a:rPr>
              <a:t>БУДЬТЕ УСПЕШНЫ И СЧАСТЛИВЫ! 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Picture 2" descr="F:\Света\уч\Картинки\подарить.jpg"/>
          <p:cNvPicPr/>
          <p:nvPr/>
        </p:nvPicPr>
        <p:blipFill>
          <a:blip r:embed="rId1"/>
          <a:stretch/>
        </p:blipFill>
        <p:spPr>
          <a:xfrm>
            <a:off x="210960" y="2000160"/>
            <a:ext cx="83376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20:36:09Z</dcterms:created>
  <dc:creator>Света</dc:creator>
  <dc:description/>
  <dc:language>en-US</dc:language>
  <cp:lastModifiedBy>Света</cp:lastModifiedBy>
  <dcterms:modified xsi:type="dcterms:W3CDTF">2010-12-16T22:36:27Z</dcterms:modified>
  <cp:revision>19</cp:revision>
  <dc:subject/>
  <dc:title>Слайд 1</dc:title>
</cp:coreProperties>
</file>