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684-7658-404C-88F0-48CB6E69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DF8-7865-4203-9A6D-62E6E599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5F0-CB43-4A0F-9B5B-284EB525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0B0-0B06-46E6-9032-F82991C4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98A-92BB-4031-82DC-3D57055E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AB7-0AB9-4574-B62C-0F451562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E51-D8AC-4266-B7E7-597D8456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0C0-D55F-4626-9185-F1E1E07B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85F-32F7-4BCB-B9E3-8067CFD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72F-13AB-4843-A6ED-029E82E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8A8-0517-4CCA-BFCC-0824B302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CB8-1F5A-4527-AE04-1BC30766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469F-C409-4280-AD77-5DEDBD0E4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Цель : 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рассмотреть процесс становления Древнерусского государства, охарактеризовать систему управления, а также внутреннюю и внешнюю политику первых  князей</a:t>
            </a:r>
            <a:br>
              <a:rPr sz="6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609480"/>
            <a:ext cx="784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ервые киевские князь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гиня Ольг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945 – 957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Месть Ольг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евлянам з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рть муж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olga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8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гиня Ольга Муд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ая рефор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менила систему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бора да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в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гос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места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бора дани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ро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точны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мер  дани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lga_34825_340x260" descr=""/>
          <p:cNvPicPr/>
          <p:nvPr/>
        </p:nvPicPr>
        <p:blipFill>
          <a:blip r:embed="rId1"/>
          <a:stretch/>
        </p:blipFill>
        <p:spPr>
          <a:xfrm>
            <a:off x="4038480" y="2406600"/>
            <a:ext cx="48769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гиня Ольга Свят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57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крещ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ягини Ольги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тантинополе 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ра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ятой Софи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я в православии -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л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v_kn_Olga" descr=""/>
          <p:cNvPicPr/>
          <p:nvPr/>
        </p:nvPicPr>
        <p:blipFill>
          <a:blip r:embed="rId1"/>
          <a:stretch/>
        </p:blipFill>
        <p:spPr>
          <a:xfrm>
            <a:off x="733320" y="1676520"/>
            <a:ext cx="3162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ему народна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молва нарекла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княгиню Ольг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удро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вятою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изменения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внесла в управл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Древнерусским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государством княгин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Ольга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untitled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687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зь Святослав Игоревич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57 – 97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лубоглазый силач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реднего роста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обычайно широкий 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ечах, с могучей шеей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 брил голову, оставля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шь прядь волос на лб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носил в одном ухе серьгу из двух жемчужин и рубин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sv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200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лександр Македонский Восточной Европ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рачный и свиреп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презирал люб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добства, спал п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крытым небом 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место подушки клал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 голову седл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Иду на Вы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ost-1-116268063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524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соедини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последний восточно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славянский союз -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ятич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2. Разорил зем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жских Булга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5-96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громи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лавны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зарские го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тиль, Семендер и Сарке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а Таманском полуостров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усско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мутараканское княже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OotD588600" descr=""/>
          <p:cNvPicPr/>
          <p:nvPr/>
        </p:nvPicPr>
        <p:blipFill>
          <a:blip r:embed="rId1"/>
          <a:stretch/>
        </p:blipFill>
        <p:spPr>
          <a:xfrm>
            <a:off x="636480" y="609480"/>
            <a:ext cx="2867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ходы на Дуна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7 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– война с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гар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яславец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иденц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тосл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9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тор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ход на Дуна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70-97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Русско-византийская войн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84e0d41fcf53f89cb7541532c610b19e_full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43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Чем отличалось правл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ятослава от деятельности других князей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 Что было общего в деятельности первых русских князе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ановите хронологическую последовательность правления первых русских княз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) Игорь                  Б) Святосла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) Ольга                  Г) Олег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1. Деятельность князя Олега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2. Правление князя Игоря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3. Княгиня Ольга Мудрая (Святая)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4. Походы князя Святослава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становите соответств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жду именами князей и временем правле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Олег          а) 912 – 945 гг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 Игорь        б) 882 – 912 гг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. Ольга        в) 957 – 972 гг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. Святослав г) 945 – 957 г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Восстание древлян в 945 г. было вызва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) межплеменной рознью древлян и вятич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) попыткой князя Игоря вторично взять дань с древля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) нежеланием древлян принять участие в походах князя Святосл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кажите имя князя, который всегда предупреждал своего противника о наступлении фразой «Иду на Вы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) Игорь                Б) Ол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) Рюрик               Г) Святосла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кажите имя князя, чей щит был прибит на воротах Константино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) Игорь                Б) Ол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) Рюрик               Г) Святосла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вильные ответ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, А, В, 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Б, 2А, 3Г, 4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4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опросы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ыучить новые определ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УР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6960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поддержание торговых связей с другими государствами и защита торговых путей от против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8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цели деятельности первых киевских князе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14600"/>
            <a:ext cx="7391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объединение всех восточнославянских племен под властью киевского князя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нязь Олег Вещий (882 –912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003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324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восточных славя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ожил дан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городских словен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вич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принял походы на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евлян, северян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дими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кнулся с Хазар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08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34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ходы на Визант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7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торговый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говор, который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л выгод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усских купц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11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ерв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енный догово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legveschiy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657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лег придал княжеской власти невиданный авторитет и международный престиж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mage005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886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ое значение для Древнерусского государства имела деятельность князя Олега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ие изменения в положении княжеской власти произошли в годы его правления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a6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нязь Игорь Стары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12-94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Вернул древлян по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 Ки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редотврати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асность со сторо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ченег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овершил походы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зантию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4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44 гг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4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. погиб 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лкновении с древля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78-8-2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3:26:13Z</dcterms:created>
  <dc:creator>Стас</dc:creator>
  <dc:description/>
  <dc:language>en-US</dc:language>
  <cp:lastModifiedBy>Стас</cp:lastModifiedBy>
  <dcterms:modified xsi:type="dcterms:W3CDTF">2008-02-11T17:17:28Z</dcterms:modified>
  <cp:revision>38</cp:revision>
  <dc:subject/>
  <dc:title>Презентация PowerPoint</dc:title>
</cp:coreProperties>
</file>