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A014-3089-4E29-ADAD-3D2284A8C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2D18-753C-4C45-8187-D7BCB82F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3BD0-0CF7-4527-B0A2-BAD5EA4CC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96B1-CAB9-4C57-A355-62DBD9B66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ED56-F57E-40A8-98AB-5CC750550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E264-EB1D-403F-854D-F6168036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D77E-9A87-4A71-A1E4-83F95AF7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42A2-30E9-46C8-B705-74B875B2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1BCF-B46F-4768-9713-7B97C091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2DCD-79A5-471D-9AA0-145FA432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EC62-5B02-45F2-A7B3-FFCCAFE9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D89C-B844-46EF-A193-13CD1F4A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D899-C11F-40A1-81CC-6712A1BD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0DC2-AF35-4760-A483-84734D0C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269A-2389-4D17-A4A6-CA8581D9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EC83-8BE3-403E-A517-FA6DA50CF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6141-0C60-486B-B8EA-5936FB61F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FAFD-C655-4C27-BAB7-BCF06FF5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46E4-115B-459F-BD29-7C58337E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A65B-B21B-4B90-9030-64FA58FA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069D-3BB0-4159-91D0-A27A135F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8139-9F11-48B1-9F00-78C3843C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E438-A7B6-4871-BF80-06B3B2C1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2DD2-7A84-4CC2-988A-45985CC0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F7B4-AC39-46A3-971C-BFAB191094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B747-9A90-4997-9B69-7D66AA10FE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95280" y="2637000"/>
            <a:ext cx="835344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4437000"/>
            <a:ext cx="4321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: Горкуша К. 11 «Г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«Средняя общеобразовательная школа № 30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87280" y="765000"/>
            <a:ext cx="691380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10199"/>
                </a:solidFill>
                <a:latin typeface="Impact"/>
              </a:rPr>
              <a:t>Улица родного города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10199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10199"/>
                </a:solidFill>
                <a:latin typeface="Impact"/>
              </a:rPr>
              <a:t>"Хмелева"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10199"/>
              </a:solidFill>
              <a:latin typeface="Impact"/>
              <a:ea typeface="Impact"/>
            </a:endParaRPr>
          </a:p>
        </p:txBody>
      </p:sp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32000" y="726480"/>
            <a:ext cx="590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ляев Н. Дерзкое решение лейтенанта Хмелева //Зори. – 2005. – 28 апр. – С. 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родихина Н. Берем под свою защиту //Оскольский край. – 2008. – 19июля. – С.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сильева А., Степкина С. За экологически грамотными – будущее //Зори. – 2008. – 21 ок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льман Л.Я. Старый Оскол / Л.Я. Гильман, В.В. Овчинников. – Белгород: Белгородская областная типография, 2007. – 380 с., и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рубин Д. Дайте комбинату шанс //Зори. – 1999. – 6 февр. – С. 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маева Т. Ильинская церковь. – Зори. – 1994. – 20 авг. – С. 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юсова В. Победы  юннатов  //Оскольский  край. –  2008.  –  3  июня. – С. 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син В. К отцу Владимиру за утешением //Зори. – 2002. – 27 июл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рдюк И. Имя героя на карте города //Октябрьские зори. – 1982. – 19 ян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рамы Белгородской и Старооскольской епархии /ред. архиепископ Белгородский и Старооскольский Иоанн. – Белгород, 2005. – 224 с.; и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b2b2b2"/>
                </a:solidFill>
                <a:uFillTx/>
                <a:latin typeface="Arial"/>
              </a:rPr>
              <a:t>Цели проекта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вить ученикам любовь к родному кра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казать, насколько интересно и полезно изучать историю родного края, обосновать необходимость всемерного расширения краеведческой исследовательской деятельн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Гипотеза исследования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196720"/>
            <a:ext cx="8229600" cy="39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ез знания краеведческих исторических фактов, без интереса к истории своей местности, не может быть полноценной  и нравственной личности, гражданина, патриота, не может быть уважения к своему народу и стран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Учебные темы проекта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одной край в Великой Отечественной вой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тоги и цена побе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рога ведущая к Храму (исследовани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одной край и  духовная жизн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Проект формирует компетентности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400" y="1844640"/>
            <a:ext cx="4238640" cy="3708360"/>
            <a:chOff x="41400" y="1844640"/>
            <a:chExt cx="4238640" cy="3708360"/>
          </a:xfrm>
        </p:grpSpPr>
        <p:sp>
          <p:nvSpPr>
            <p:cNvPr id="109" name="_s44064"/>
            <p:cNvSpPr/>
            <p:nvPr/>
          </p:nvSpPr>
          <p:spPr>
            <a:xfrm>
              <a:off x="41400" y="2378160"/>
              <a:ext cx="3174840" cy="3174840"/>
            </a:xfrm>
            <a:prstGeom prst="donut">
              <a:avLst>
                <a:gd name="adj" fmla="val 10000"/>
              </a:avLst>
            </a:prstGeom>
            <a:solidFill>
              <a:srgbClr val="1a0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44054"/>
            <p:cNvSpPr/>
            <p:nvPr/>
          </p:nvSpPr>
          <p:spPr>
            <a:xfrm>
              <a:off x="3643200" y="3254400"/>
              <a:ext cx="636840" cy="35244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В сфере культурно-досуговой деятельности.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44063"/>
            <p:cNvSpPr/>
            <p:nvPr/>
          </p:nvSpPr>
          <p:spPr>
            <a:xfrm>
              <a:off x="358920" y="2695680"/>
              <a:ext cx="2539800" cy="2539800"/>
            </a:xfrm>
            <a:prstGeom prst="donut">
              <a:avLst>
                <a:gd name="adj" fmla="val 12500"/>
              </a:avLst>
            </a:prstGeom>
            <a:solidFill>
              <a:srgbClr val="f1fd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44052"/>
            <p:cNvSpPr/>
            <p:nvPr/>
          </p:nvSpPr>
          <p:spPr>
            <a:xfrm>
              <a:off x="3643200" y="2901960"/>
              <a:ext cx="636840" cy="35244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В исследовательской деятельности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44062"/>
            <p:cNvSpPr/>
            <p:nvPr/>
          </p:nvSpPr>
          <p:spPr>
            <a:xfrm>
              <a:off x="676440" y="3013200"/>
              <a:ext cx="1904760" cy="1905120"/>
            </a:xfrm>
            <a:prstGeom prst="donut">
              <a:avLst>
                <a:gd name="adj" fmla="val 16666"/>
              </a:avLst>
            </a:prstGeom>
            <a:solidFill>
              <a:srgbClr val="ff8c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44045"/>
            <p:cNvSpPr/>
            <p:nvPr/>
          </p:nvSpPr>
          <p:spPr>
            <a:xfrm>
              <a:off x="3643200" y="2549520"/>
              <a:ext cx="636840" cy="35244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В сфере социально-трудовой деятельности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44061"/>
            <p:cNvSpPr/>
            <p:nvPr/>
          </p:nvSpPr>
          <p:spPr>
            <a:xfrm>
              <a:off x="993960" y="3330720"/>
              <a:ext cx="1269720" cy="1270080"/>
            </a:xfrm>
            <a:prstGeom prst="donut">
              <a:avLst>
                <a:gd name="adj" fmla="val 25000"/>
              </a:avLst>
            </a:prstGeom>
            <a:solidFill>
              <a:srgbClr val="01bd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44042"/>
            <p:cNvSpPr/>
            <p:nvPr/>
          </p:nvSpPr>
          <p:spPr>
            <a:xfrm>
              <a:off x="3643200" y="2197080"/>
              <a:ext cx="636840" cy="35244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В сфере гражданско-общественной деятельности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44060"/>
            <p:cNvSpPr/>
            <p:nvPr/>
          </p:nvSpPr>
          <p:spPr>
            <a:xfrm>
              <a:off x="1311480" y="3648240"/>
              <a:ext cx="634680" cy="635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_s44041"/>
            <p:cNvSpPr/>
            <p:nvPr/>
          </p:nvSpPr>
          <p:spPr>
            <a:xfrm>
              <a:off x="3643200" y="1844640"/>
              <a:ext cx="636840" cy="35244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В сфере самостоятельной деятельност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84720" y="3860640"/>
            <a:ext cx="2880000" cy="2089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Интересно, что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7840" y="1844280"/>
            <a:ext cx="4683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нополчанин И.И. Хмелева полковник Орлов написал о минувших боях книгу «Первая стрелковая», в которой есть глава под названием «Роту ведет Хмелев». Светлая помаять об отважном командире роты И.И. Хмелеве живет и в сердцах гомельчан. В городе Рогачеве его имя присвоено улице и школе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[1]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[1]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ердюк И. Имя героя на карте города //Октябрьские зори. – 1982. – 19 ян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rcRect l="7147" t="3034" r="4202" b="5944"/>
          <a:stretch/>
        </p:blipFill>
        <p:spPr>
          <a:xfrm>
            <a:off x="5580000" y="1484280"/>
            <a:ext cx="320508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"/>
                            </p:stCondLst>
                            <p:childTnLst>
                              <p:par>
                                <p:cTn id="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600"/>
                            </p:stCondLst>
                            <p:childTnLst>
                              <p:par>
                                <p:cTn id="1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0" t="0" r="0" b="3339"/>
          <a:stretch/>
        </p:blipFill>
        <p:spPr>
          <a:xfrm>
            <a:off x="4643280" y="1557360"/>
            <a:ext cx="4500720" cy="41036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Интересно, что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40323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лица Хмелева, дом 1 – адрес церкви Святого пророка Илии, одной из старейших церквей, сохранившихся в Старом Осколе. Она была построена в 1872 году в Ездоцкой слободе. 26 ноября 1873 года церковь была освящена. Храм строился на средства прихожан, в основном государственных крестьян, живших в слободе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храме Пророка Божия Илии действовали церковно-приходская и земская школы, в которых дети простых людей могли получить начальное образование. Сегодня храм является памятником архитектуры всероссийского знач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262560" y="5229360"/>
            <a:ext cx="28814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b2b2b2"/>
                </a:solidFill>
                <a:latin typeface="Arial"/>
              </a:rPr>
              <a:t>В Старом Осколе имя Героя носила также неполная средняя школа № 4, где он учился. На улице Хмелева на доме № 3 в 1985 году была открыта мемориальная доска, выполненная на достаточно высоком художественном уровне. В мае 2005 года в нашем городе появилась аллея славы, где среди памятников шестнадцати Героям-старооскольцам есть бюст и Ивана Ивановича Хмелева.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19280" y="40464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 нем говорят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1341000"/>
            <a:ext cx="8928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раеведение способствует выработке научно-образовательных перспектив развития своего региона, оно обогащает и одухотворяет людей, учит их любить свою родину, свой край, свое социальное, духовное и природное окруж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77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770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2T05:33:08Z</dcterms:created>
  <dc:creator>Ученик</dc:creator>
  <dc:description/>
  <dc:language>en-US</dc:language>
  <cp:lastModifiedBy>Admin</cp:lastModifiedBy>
  <dcterms:modified xsi:type="dcterms:W3CDTF">2009-02-10T18:39:31Z</dcterms:modified>
  <cp:revision>32</cp:revision>
  <dc:subject/>
  <dc:title>Представление информации </dc:title>
</cp:coreProperties>
</file>