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9FE-62CA-45D6-B27F-8261D87B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D84-04FE-4C95-9F18-47BF66AD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4D0-AB5D-4731-9C4C-AA853CD8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0E9-C7D2-4E41-8BFD-1F995D24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6DFA-B53C-436C-B20C-06723DB0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3D2F-7DBE-46F6-B6B1-399761D4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AB1C-A74E-4FE0-B2CE-703847F1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DA8D-AAE3-46D9-858F-BE9E7406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0C4D-9628-4ABA-893E-14D57D3F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ED71-BF5A-412B-843D-65AF2A9F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7E43-4F0B-43F1-AE04-7FCA2CD9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A66-E991-4C58-8C0D-D83A5B7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363F-473F-45DF-ACA1-665495DE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B918-CBBE-476E-A8B7-1A65DEC2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2C71-432A-47BA-BFE9-22BC3020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7365-E6FB-4C7C-9198-061E930E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1CDB-CF23-4D10-BFDB-FD29A8EC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9CC-E3F0-4B5B-8E1C-01E790EA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2B5-3430-4F7D-A40D-F736CC72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8D1-AAB3-4E26-9635-C5DB7CFE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87F-6B32-4C5E-9F34-FBECD2ED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375-1E05-4FDA-A734-11548264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F62-B908-46AA-9110-44656BF6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670-24D3-456B-8795-D748D88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F660-EC39-42AB-BE35-783105893C9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CCAF-E038-4724-A625-D4BA2A45835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682560" y="115920"/>
            <a:ext cx="7900920" cy="2809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рыпник Олеся уч-ся 7 «А» к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истории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ославной куль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 СОШ №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куша А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19" descr=""/>
          <p:cNvPicPr/>
          <p:nvPr/>
        </p:nvPicPr>
        <p:blipFill>
          <a:blip r:embed="rId1"/>
          <a:stretch/>
        </p:blipFill>
        <p:spPr>
          <a:xfrm>
            <a:off x="324000" y="-19080"/>
            <a:ext cx="8538840" cy="1268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540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вято-Троицкая церковь построена в 1730 г.(</a:t>
            </a: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в стиле барокко),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в 1858 г. дополнена приделами с апсидами и четырехколонным портиком со стилизованными тосканскими колоннами.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Располагается в Стрелецкой слободе (</a:t>
            </a: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сейчас в черте Старого Оскола).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коностас церкви – замечательный по архитектуре и исполнению, один из немногих сохранившихся иконостасов </a:t>
            </a: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XVIII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15" descr="IMG_0122"/>
          <p:cNvPicPr/>
          <p:nvPr/>
        </p:nvPicPr>
        <p:blipFill>
          <a:blip r:embed="rId2"/>
          <a:stretch/>
        </p:blipFill>
        <p:spPr>
          <a:xfrm>
            <a:off x="2892600" y="3925800"/>
            <a:ext cx="3358800" cy="2173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IMG_0123"/>
          <p:cNvPicPr/>
          <p:nvPr/>
        </p:nvPicPr>
        <p:blipFill>
          <a:blip r:embed="rId3"/>
          <a:stretch/>
        </p:blipFill>
        <p:spPr>
          <a:xfrm>
            <a:off x="0" y="4292640"/>
            <a:ext cx="3672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g53EsrfvLY"/>
          <p:cNvPicPr/>
          <p:nvPr/>
        </p:nvPicPr>
        <p:blipFill>
          <a:blip r:embed="rId2"/>
          <a:stretch/>
        </p:blipFill>
        <p:spPr>
          <a:xfrm>
            <a:off x="250920" y="1557360"/>
            <a:ext cx="8424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864640" cy="1243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тоиерей Филатов Андрей Иванович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одился в Белгородской области в 1969 году. С 1985 по 1990 годы проходил приходскую практику перед поступлением в Курскую Духовную семинарию в храме Архистратига Михаила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 Белгород. С 1990 по 1994 годы учился в Курской Духовной семинарии. 18 марта 1994 года рукоположен в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диакона. 19 марта 1994 года рукоположен во пресвитера. С 1995 года 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стоятель Свято-Троицкого храма г. Старый Оскол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6"/>
          <p:cNvPicPr/>
          <p:nvPr/>
        </p:nvPicPr>
        <p:blipFill>
          <a:blip r:embed="rId2"/>
          <a:stretch/>
        </p:blipFill>
        <p:spPr>
          <a:xfrm>
            <a:off x="5057640" y="1600200"/>
            <a:ext cx="3375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4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9040680" cy="131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IMG_0124"/>
          <p:cNvPicPr/>
          <p:nvPr/>
        </p:nvPicPr>
        <p:blipFill>
          <a:blip r:embed="rId2"/>
          <a:stretch/>
        </p:blipFill>
        <p:spPr>
          <a:xfrm>
            <a:off x="179280" y="1773360"/>
            <a:ext cx="4321440" cy="3811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50920" y="5950080"/>
            <a:ext cx="419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асовня Свято-Троицкой церкви, первая половина XIX в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50000" y="1125000"/>
            <a:ext cx="419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Часовня Свято-Троицкой церкви построена предположительно в первой половине XIX в. В течение нескольких десятилетий использовалась как склад. В 1994 г. была отремонтирована на средства прихода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Единственная сохранившаяся часовня в Старом Осколе, построенная в духе классицизма. Стены кирпичные, оштукатурены. Расположена рядом с перекрестком ул. Большевистская и Колхозная (в створе последней), на западной стороне ул. Большевистской. Одноэтажная, восьмигранная в плане, под невысокой граненой кровлей, завершенной главкой с крестом. Глухие грани по сторонам света украшены портиками со сдвоенными по флангам полуколоннами и завершены крутыми треугольными фронтонами. Цоколь выделен большей толщиной стены, фасады завершены профилированным карнизом. Вход в часовню арочной формы расположен с южной стороны, две грани по бокам от восточной имеют арочные окна, все остальные грани - глухие, декорированы арочными нишками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47120" cy="1328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43880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ует две легенды о явлении иконы. По одной из легенд, икона приплыла по реке Оскол. Её нашли мальчики, купавшиеся в речке, в виде двух дощечек. А когда они сложили две половинки, то дощечки невозможно было разъединить. И на сложенных дощечках проявился лик Богородицы с младенцем. По второй легенде нашли икону в часовне  возле с Свято-Троицкого храма, отнесли икону в Покровский храм(что был на улице Ленина). На следующий день икона из Покровского храма исчезла, а появилась  в Свято-Троицком храме. И так 3 дня. И решили икону оставить в Свято-Троицком храм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6" descr="8"/>
          <p:cNvPicPr/>
          <p:nvPr/>
        </p:nvPicPr>
        <p:blipFill>
          <a:blip r:embed="rId2"/>
          <a:stretch/>
        </p:blipFill>
        <p:spPr>
          <a:xfrm>
            <a:off x="5059440" y="1600200"/>
            <a:ext cx="33717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08:39:48Z</dcterms:created>
  <dc:creator>Home</dc:creator>
  <dc:description/>
  <dc:language>en-US</dc:language>
  <cp:lastModifiedBy>олег</cp:lastModifiedBy>
  <dcterms:modified xsi:type="dcterms:W3CDTF">2011-02-18T19:19:09Z</dcterms:modified>
  <cp:revision>25</cp:revision>
  <dc:subject/>
  <dc:title>Храмы Старого Оскола: Свя</dc:title>
</cp:coreProperties>
</file>