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451-8311-40C0-AC9B-0E76282C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2AD-0E10-4870-B624-1AC6DAC5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FD9-96D6-4696-AB00-86715CE9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4A0-AA75-46DD-9130-6944FA37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C52-0DB4-4D26-A445-945A04A2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A01-9483-48EC-A18E-AAB24FA6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0DA-DBC3-4E96-AE75-AF503C6E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5A3-7798-4137-89B7-8352AC9F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DEF-3F94-46DF-9E03-81D61554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964-570F-4333-A6FA-62AD6A0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16D-F421-4EE4-A32B-BF827378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CBE-93F3-43F3-A532-D9AB021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E867-7ECB-4776-BD2A-8E2045B0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0"/>
                </a:solidFill>
                <a:latin typeface="Arial"/>
              </a:rPr>
              <a:t>Фотоотчёт о мероприятиях, проведенных во время зимних каникул 2011-2012 учебного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0"/>
                </a:solidFill>
                <a:latin typeface="Arial"/>
              </a:rPr>
              <a:t>МБОУ СОШ №16 города Кропоткин муниципального образования Кавказ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0"/>
                </a:solidFill>
                <a:latin typeface="Arial"/>
              </a:rPr>
              <a:t>Новогодние представления для учащихся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95640" y="3448080"/>
            <a:ext cx="51483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0"/>
                </a:solidFill>
                <a:latin typeface="Arial"/>
              </a:rPr>
              <a:t>Поездка  родителей и учащихся школы в Домб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924360" y="32767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0"/>
                </a:solidFill>
                <a:latin typeface="Arial"/>
              </a:rPr>
              <a:t>Поездка  родителей и учащихся школы на каток в город Тихорец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933800" cy="369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48000" y="3186000"/>
            <a:ext cx="489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0"/>
                </a:solidFill>
                <a:latin typeface="Arial"/>
              </a:rPr>
              <a:t>Зимние «посиделки» - классные ча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048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0"/>
                </a:solidFill>
                <a:latin typeface="Arial"/>
              </a:rPr>
              <a:t>Встреча учащихся школы с кадетами клуба «Патрио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404964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35640" y="1628640"/>
            <a:ext cx="3287520" cy="246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924360" y="4059360"/>
            <a:ext cx="3730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9:50:34Z</dcterms:created>
  <dc:creator>База</dc:creator>
  <dc:description/>
  <dc:language>en-US</dc:language>
  <cp:lastModifiedBy>База</cp:lastModifiedBy>
  <dcterms:modified xsi:type="dcterms:W3CDTF">2012-01-15T20:38:53Z</dcterms:modified>
  <cp:revision>3</cp:revision>
  <dc:subject/>
  <dc:title>Слайд 1</dc:title>
</cp:coreProperties>
</file>