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FA9A-DF43-478B-BF74-6F3149D13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4207-35AF-4A2A-BE7F-EA667658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5C36-258F-414F-8996-407FE360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CE84-8B18-4E0C-8F51-5456C9911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EB2D-35E2-450F-8A35-B76381B3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B120-ECA6-4D26-9992-7FD0F6DE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BB32-C969-4926-8EDB-86051889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1450-D926-4C6F-AD26-FCC790D1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9300-84B1-448A-A03E-6006999B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AF09-A9C9-441F-B739-D7148A02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F2C1-7B07-4D7E-B3D9-3904B447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5EA4-F041-4692-9876-7E1639CF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3933-4B14-4D62-B79D-8A8F87B8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ECCD-A221-4945-81F3-A15505E3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A41A-CB57-4683-8D4C-A34810C9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8B0E-76E0-4B77-9F75-F12DE843F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CDFF-C2F3-4EDB-B537-5EF01B6B6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5D0B-892F-4DA6-956D-F3BE52A5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BFA6-EAB3-43ED-B1AE-98129D5D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631E-ACE7-45C8-97F8-4FED3D08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EBE6-82AD-4B0D-A5E6-01A0FECF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720A-6BB8-4853-B426-3D3416EA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0675-FDC2-4AF0-B1D8-05DB9249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17E1-3241-44AB-9DEA-44D5AC69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73D6-379C-467B-9E9F-4926EE3B7D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1E9C-9AF7-4AE3-8C34-FD36E18AF8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WIE IST DER VERKEHR IN EINER MODERNEN STADT?</a:t>
            </a:r>
            <a:br>
              <a:rPr sz="3200"/>
            </a:b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WIE ORIENTIERT MAN SICH HIER?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Новый Арбат"/>
          <p:cNvPicPr/>
          <p:nvPr/>
        </p:nvPicPr>
        <p:blipFill>
          <a:blip r:embed="rId1"/>
          <a:stretch/>
        </p:blipFill>
        <p:spPr>
          <a:xfrm>
            <a:off x="304920" y="3886200"/>
            <a:ext cx="5103720" cy="2724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46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5867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r  Verk- - r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  Verkehrsa-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l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- - en auf (Ak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 Halte - - el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r Stra  - enuber – a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 Kr- - z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s Li- -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 E- -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einer Grossstadt gibt es viele…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der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warten Menschen auf Busse, Obusse und Strassenbahn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…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elt der Verkeh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 rotem Licht der Verkehrsampel soll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e …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s gelbe Licht bedeutet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…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53280" y="990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Городской автобус МАЗ-204. фото"/>
          <p:cNvPicPr/>
          <p:nvPr/>
        </p:nvPicPr>
        <p:blipFill>
          <a:blip r:embed="rId2"/>
          <a:stretch/>
        </p:blipFill>
        <p:spPr>
          <a:xfrm>
            <a:off x="6553080" y="152280"/>
            <a:ext cx="762120" cy="571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943600" y="685800"/>
            <a:ext cx="762120" cy="561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Лучшая модель троллейбуса Лучшая модель троллейбуса завода Белкоммунмаш. Троллейбусы в Минске. Фото. Картинка"/>
          <p:cNvPicPr/>
          <p:nvPr/>
        </p:nvPicPr>
        <p:blipFill>
          <a:blip r:embed="rId4"/>
          <a:stretch/>
        </p:blipFill>
        <p:spPr>
          <a:xfrm>
            <a:off x="7391520" y="609480"/>
            <a:ext cx="838080" cy="630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город, я, любимые, без фотошопа, остановка"/>
          <p:cNvPicPr/>
          <p:nvPr/>
        </p:nvPicPr>
        <p:blipFill>
          <a:blip r:embed="rId5"/>
          <a:stretch/>
        </p:blipFill>
        <p:spPr>
          <a:xfrm>
            <a:off x="2286000" y="1219320"/>
            <a:ext cx="1371600" cy="852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1371600" y="2895480"/>
            <a:ext cx="1828800" cy="1163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1447920" y="4876920"/>
            <a:ext cx="1752480" cy="1104840"/>
          </a:xfrm>
          <a:prstGeom prst="rect">
            <a:avLst/>
          </a:prstGeom>
          <a:ln w="0">
            <a:noFill/>
          </a:ln>
        </p:spPr>
      </p:pic>
      <p:pic>
        <p:nvPicPr>
          <p:cNvPr id="112" name="zoom-000018637701" descr="yellow traffic lightфотография"/>
          <p:cNvPicPr/>
          <p:nvPr/>
        </p:nvPicPr>
        <p:blipFill>
          <a:blip r:embed="rId8"/>
          <a:stretch/>
        </p:blipFill>
        <p:spPr>
          <a:xfrm>
            <a:off x="5029200" y="5257800"/>
            <a:ext cx="1085760" cy="1447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Wir beantworten die Fragen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che Verkehrsmittel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ib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einer Grossstad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mit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ahr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e Mensch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einer Grossstad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wart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e Mensch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uf die Verkehrsmitte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h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e Mensch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ber die Stras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h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i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uerst nach rechts und nach lin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i welchem Licht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leib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i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eh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Wie fragt man nach dem Weg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937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schuldigung,……… wie komme ic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schuldigen Sie bitte, …wo ist hier…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nen Sie mir bitte sagen, ... wo befindet sich …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g mal, bitte, …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mainpic" descr="Фото: Перекресток"/>
          <p:cNvPicPr/>
          <p:nvPr/>
        </p:nvPicPr>
        <p:blipFill>
          <a:blip r:embed="rId1"/>
          <a:stretch/>
        </p:blipFill>
        <p:spPr>
          <a:xfrm>
            <a:off x="4114800" y="4160880"/>
            <a:ext cx="3505320" cy="2641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imgb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DSCN085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IFid9" descr="IMG_5165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12-22T17:43:0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