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CC93-4C6A-42B4-A701-05DCF2289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5792-1C0B-4AC8-BCA9-7F765F05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0CC7-3612-45DE-A237-C2DAC38FC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3D6D-159F-405E-AD08-46C864AB5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80FE-5C88-4B53-99DD-3E933110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9DFC-D559-4D53-AD95-4C15C695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BFE8-CF7D-46F1-A32A-02C1CB66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936A-E76F-443A-9966-23935315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61ED-4402-478C-BC52-44E39D54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DD7D-AA9E-4D96-958B-4E9FA50A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ADDE-25D1-49F8-B97E-C22B94D8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EC33-750F-47C4-8B4F-45302DAC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2F9464-95B5-4274-B42A-6F6B6DB0F095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-14400"/>
            <a:ext cx="800244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K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  <a:ea typeface="Arial"/>
              </a:rPr>
              <a:t>öln ist die vierte Stadt Deutschland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287360"/>
            <a:ext cx="6696000" cy="502308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898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ölner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 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25800" y="333360"/>
            <a:ext cx="4643640" cy="61912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34560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Orgel des k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ölnischen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 D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049640" y="333360"/>
            <a:ext cx="4645080" cy="61912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1920"/>
            <a:ext cx="829152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In der ganzen Welt ist k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ölnisches Wasser (Eau de Cologne) bekan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3898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Haus 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  <a:ea typeface="Arial"/>
              </a:rPr>
              <a:t>ölnischen Was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637240" y="1916280"/>
            <a:ext cx="3265560" cy="44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K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  <a:ea typeface="Arial"/>
              </a:rPr>
              <a:t>ölner Karneval ist sehr populär in der Wel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273800" cy="4408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669900"/>
                </a:solidFill>
                <a:latin typeface="Arial"/>
              </a:rPr>
              <a:t>K</a:t>
            </a:r>
            <a:r>
              <a:rPr b="1" lang="en-US" sz="4400" spc="-1" strike="noStrike">
                <a:solidFill>
                  <a:srgbClr val="669900"/>
                </a:solidFill>
                <a:latin typeface="Arial"/>
                <a:ea typeface="Arial"/>
              </a:rPr>
              <a:t>ölner Karne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02000" y="1413000"/>
            <a:ext cx="3671640" cy="489564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K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Arial"/>
              </a:rPr>
              <a:t>ölner Karneval ist ein lustiges F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7345440" cy="4897440"/>
          </a:xfrm>
          <a:prstGeom prst="rect">
            <a:avLst/>
          </a:prstGeom>
          <a:ln w="28440">
            <a:solidFill>
              <a:srgbClr val="ff33cc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c00ff"/>
                </a:solidFill>
                <a:latin typeface="Arial"/>
              </a:rPr>
              <a:t>Eine der sch</a:t>
            </a:r>
            <a:r>
              <a:rPr b="1" lang="en-US" sz="4000" spc="-1" strike="noStrike">
                <a:solidFill>
                  <a:srgbClr val="cc00ff"/>
                </a:solidFill>
                <a:latin typeface="Arial"/>
                <a:ea typeface="Arial"/>
              </a:rPr>
              <a:t>önsten Kirchen der Stad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3357720"/>
            <a:ext cx="3564000" cy="27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cc00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St.Martinkir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492360" y="1901880"/>
            <a:ext cx="5256360" cy="3503520"/>
          </a:xfrm>
          <a:prstGeom prst="rect">
            <a:avLst/>
          </a:prstGeom>
          <a:ln w="28440">
            <a:solidFill>
              <a:srgbClr val="cc00ff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6666ff"/>
                </a:solidFill>
                <a:latin typeface="Arial"/>
              </a:rPr>
              <a:t>Die Hotels am Ufer des Flu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6842160" cy="5133960"/>
          </a:xfrm>
          <a:prstGeom prst="rect">
            <a:avLst/>
          </a:prstGeom>
          <a:ln w="28440">
            <a:solidFill>
              <a:srgbClr val="6666ff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m Ufer des Flu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193080" cy="412740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cc00ff"/>
                </a:solidFill>
                <a:latin typeface="Arial"/>
              </a:rPr>
              <a:t>Schokoladenmuse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769080" cy="5076720"/>
          </a:xfrm>
          <a:prstGeom prst="rect">
            <a:avLst/>
          </a:prstGeom>
          <a:ln w="28440">
            <a:solidFill>
              <a:srgbClr val="cc00ff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K</a:t>
            </a:r>
            <a:r>
              <a:rPr b="1" lang="en-US" sz="4400" spc="-1" strike="noStrike">
                <a:solidFill>
                  <a:srgbClr val="ff6600"/>
                </a:solidFill>
                <a:latin typeface="Arial"/>
                <a:ea typeface="Arial"/>
              </a:rPr>
              <a:t>öl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97280" y="1197000"/>
            <a:ext cx="3889440" cy="540072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cc00ff"/>
                </a:solidFill>
                <a:latin typeface="Arial"/>
              </a:rPr>
              <a:t>Schokoladenmuse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16000" y="1349280"/>
            <a:ext cx="6624720" cy="4972320"/>
          </a:xfrm>
          <a:prstGeom prst="rect">
            <a:avLst/>
          </a:prstGeom>
          <a:ln w="28440">
            <a:solidFill>
              <a:srgbClr val="cc00ff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Arial"/>
              </a:rPr>
              <a:t>Japanischer Garte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16000" y="1268280"/>
            <a:ext cx="3835440" cy="5113440"/>
          </a:xfrm>
          <a:prstGeom prst="rect">
            <a:avLst/>
          </a:prstGeom>
          <a:ln w="28440">
            <a:solidFill>
              <a:srgbClr val="0099cc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99080" y="1268280"/>
            <a:ext cx="3836880" cy="5113440"/>
          </a:xfrm>
          <a:prstGeom prst="rect">
            <a:avLst/>
          </a:prstGeom>
          <a:ln w="28440">
            <a:solidFill>
              <a:srgbClr val="0099cc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Arial"/>
              </a:rPr>
              <a:t>Japanischer Gar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6624720" cy="4969080"/>
          </a:xfrm>
          <a:prstGeom prst="rect">
            <a:avLst/>
          </a:prstGeom>
          <a:ln w="28440">
            <a:solidFill>
              <a:srgbClr val="0099cc"/>
            </a:solidFill>
            <a:miter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Weihnachtsmark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129440" cy="5264280"/>
          </a:xfrm>
          <a:prstGeom prst="rect">
            <a:avLst/>
          </a:prstGeom>
          <a:ln w="28440">
            <a:solidFill>
              <a:srgbClr val="ff0066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Weihnachtsmar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258920" y="1370160"/>
            <a:ext cx="6762600" cy="511812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Weihnachtsmar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689520" cy="50623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öln liegt am Rhein in Nordreihnwestfall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2038320"/>
            <a:ext cx="8496000" cy="278136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Br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Arial"/>
              </a:rPr>
              <a:t>ücke Hohenzollern durch den Rhe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832360" cy="389268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915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Der ganzen Welt ist der K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  <a:ea typeface="Arial"/>
              </a:rPr>
              <a:t>ölner Dom bekannt. Er ist Wahrzeichen der Stad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4103640" cy="5473800"/>
          </a:xfrm>
          <a:prstGeom prst="rect">
            <a:avLst/>
          </a:prstGeom>
          <a:ln w="28440">
            <a:solidFill>
              <a:srgbClr val="00ff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K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ölner 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6048360" cy="4025880"/>
          </a:xfrm>
          <a:prstGeom prst="rect">
            <a:avLst/>
          </a:prstGeom>
          <a:ln w="28440">
            <a:solidFill>
              <a:srgbClr val="ff0066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K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  <a:ea typeface="Arial"/>
              </a:rPr>
              <a:t>ölner 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68360" y="1773360"/>
            <a:ext cx="4314960" cy="4392360"/>
          </a:xfrm>
          <a:prstGeom prst="rect">
            <a:avLst/>
          </a:prstGeom>
          <a:ln w="28440">
            <a:solidFill>
              <a:srgbClr val="0066ff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K</a:t>
            </a:r>
            <a:r>
              <a:rPr b="1" lang="en-US" sz="4400" spc="-1" strike="noStrike">
                <a:solidFill>
                  <a:srgbClr val="33cc33"/>
                </a:solidFill>
                <a:latin typeface="Arial"/>
                <a:ea typeface="Arial"/>
              </a:rPr>
              <a:t>ölner 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6913800" cy="5185080"/>
          </a:xfrm>
          <a:prstGeom prst="rect">
            <a:avLst/>
          </a:prstGeom>
          <a:ln w="28440">
            <a:solidFill>
              <a:srgbClr val="33cc33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683160" cy="35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K</a:t>
            </a:r>
            <a:r>
              <a:rPr b="1" lang="en-US" sz="4400" spc="-1" strike="noStrike">
                <a:solidFill>
                  <a:srgbClr val="ff00ff"/>
                </a:solidFill>
                <a:latin typeface="Arial"/>
                <a:ea typeface="Arial"/>
              </a:rPr>
              <a:t>ölner</a:t>
            </a:r>
            <a:br>
              <a:rPr sz="4400"/>
            </a:br>
            <a:r>
              <a:rPr b="1" lang="en-US" sz="4400" spc="-1" strike="noStrike">
                <a:solidFill>
                  <a:srgbClr val="ff00ff"/>
                </a:solidFill>
                <a:latin typeface="Arial"/>
                <a:ea typeface="Arial"/>
              </a:rPr>
              <a:t> 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211640" y="260280"/>
            <a:ext cx="4753080" cy="633564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3T13:36:52Z</dcterms:created>
  <dc:creator>Костян</dc:creator>
  <dc:description/>
  <dc:language>en-US</dc:language>
  <cp:lastModifiedBy>InYaz</cp:lastModifiedBy>
  <dcterms:modified xsi:type="dcterms:W3CDTF">2009-04-24T09:09:46Z</dcterms:modified>
  <cp:revision>8</cp:revision>
  <dc:subject/>
  <dc:title>Eine Reise nach Köln</dc:title>
</cp:coreProperties>
</file>