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6E0-1366-4426-BB13-76F853E4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240-FD4E-4B4C-AFF1-6E19FA9E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D1C-5471-4617-BB70-A073E99B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9C5-CFBD-4CF8-A2AD-4234A2C6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436-8FE2-4AD3-9CEA-EF30936C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B1B-8332-4F72-BA30-AAC9CB07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556-A9E1-47BC-9719-DF9482F0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78C-3BE9-48BE-B119-659B83E0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865-FB35-4947-80C9-A9445F70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86D-CF78-4253-A15A-F8290274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8D3-88FD-4766-8AA4-77EE4406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2C2-4C4B-489C-9436-50BA3819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2DCC-99CD-4138-9EFE-E9C99AB09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Arial"/>
              </a:rPr>
              <a:t>Классный час на тему: «Содру́жество Незави́симых Госуда́рств (СНГ)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:  дать понятие об СНГ; познакомить с целями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7800" y="61920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0000" y="443556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джи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195640" y="765000"/>
            <a:ext cx="2520720" cy="1681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298960" cy="2737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916360" y="4046400"/>
            <a:ext cx="2735280" cy="1649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372360" y="3860640"/>
            <a:ext cx="23050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56720" y="69228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2735280" cy="1369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1976400" cy="201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3357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социированный чл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рк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11280" y="4292640"/>
            <a:ext cx="3241800" cy="216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156360" y="4005360"/>
            <a:ext cx="25210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54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ратифицировала Устав СН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708360" y="1125360"/>
            <a:ext cx="2152800" cy="143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43640" y="549360"/>
            <a:ext cx="2400480" cy="244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3357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шла из состава СНГ в 2009 го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у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84720" y="3860640"/>
            <a:ext cx="2895840" cy="2517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195640" y="4437000"/>
            <a:ext cx="287964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бочий язык – 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русски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ана – председатель: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Российская Фед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: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8 декабря 1991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еление: 273 006 000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8748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Г было основано главами БССР, РСФСР и УССР путём подписания 8 декабря 1991 года в Вискулях (Беловежская пуща) под Брестом (Белоруссия) «Соглашения о создании Содружества Независимых Государств» (известно в СМИ как Беловежское соглаш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окументе, состоявшем из Преамбулы и 14 статей, констатировалось, что Союз ССР прекращал своё существование как субъект международного права и геополитической реальности. Однако, основываясь на исторической общности народов, связях между ними, учитывая двусторонние договоры, стремление к демократическому правовому государству, намерение развивать свои отношения на основе взаимного признания и уважения государственного суверенитета, стороны договорились об образовании Содружества Независимых Государ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Основными целями организации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трудничество в политической, экономической, экологической, гуманитарной, культурной и иных област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стороннее развитие государств-членов в рамках общего экономического пространства, межгосударственной кооперации и интегр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прав и свобод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трудничество в обеспечении международного мира и безопасности, достижение всеобщего и полного разору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заимная правовая помощ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рное разрешение споров и конфликтов между государствами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сферам совместной деятельности государств-членов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прав и основных свобод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ординация внешнеполи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трудничество в формировании и развитии общего экономического пространства, таможенной поли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трудничество в развитии систем транспорта, свя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храна здоровья и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просы социальной и миграционной поли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рьба с организованной преступност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трудничество в области оборонной политики и охраны внешних гран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Высшим органом организации явл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вет глав государств СНГ, в котором представлены все государства-члены и который обсуждает и решает принципиальные вопросы, связанные с деятельностью организации. Совет глав государств собирается на заседания два раза в год. Совет глав правительств СНГ координирует сотрудничество органов исполнительной власти государств-членов в экономической, социальной и иных областях общих интересов. Собирается четыре раза в год Все решения как в Совете глав государств, так и в Совете глав правительств, принимаются на основе консенсуса. Главы двух этих органов СНГ председательствуют поочерёдно в порядке русского алфавита названий государств-членов Содруж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576360"/>
            <a:ext cx="7619760" cy="5705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Здание Исполкома СНГ в Мин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Arial"/>
              </a:rPr>
              <a:t>Содру́жество Незави́симых Госуда́рств (СН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— региональная международная организация (международный договор), призванная регулировать отношения сотрудничества между странами, ранее входившими в состав СССР. СНГ не является надгосударственным образованием и функционирует на добровольной основ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лаг С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2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мблема С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511344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лены С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63640" y="5445000"/>
            <a:ext cx="10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ссоциированный член СН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480" y="46530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государство, покинувшее СН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0720" y="3789360"/>
            <a:ext cx="140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фактический член СН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7280" y="5157720"/>
            <a:ext cx="1790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государство, участвующе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в некоторых структура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СНГ в качестве наблюдател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Штаб-квартира: Минск, Белорус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5800" y="83520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зербайдж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3240000" cy="162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40360" y="836640"/>
            <a:ext cx="2509920" cy="273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0520" y="37879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68360" y="4294080"/>
            <a:ext cx="3456000" cy="1728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372360" y="3935520"/>
            <a:ext cx="2303280" cy="2222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03640" y="0"/>
            <a:ext cx="31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Члены СН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3440" y="62064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лору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3024000" cy="1514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12000" y="333360"/>
            <a:ext cx="2519280" cy="250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7440" y="32130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зах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484360" y="3429000"/>
            <a:ext cx="2951280" cy="163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156360" y="3429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11640" y="40320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рги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3095640" cy="1858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227640" y="30960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0160" y="299556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д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411280" y="3537000"/>
            <a:ext cx="3600720" cy="1801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516720" y="3284640"/>
            <a:ext cx="2057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8:41:00Z</dcterms:created>
  <dc:creator>Гузель</dc:creator>
  <dc:description/>
  <dc:language>en-US</dc:language>
  <cp:lastModifiedBy>Гузель</cp:lastModifiedBy>
  <dcterms:modified xsi:type="dcterms:W3CDTF">2011-02-18T17:05:21Z</dcterms:modified>
  <cp:revision>4</cp:revision>
  <dc:subject/>
  <dc:title>Содру́жество Незави́симых Госуда́рств (СНГ) — региональная международная организация (международный договор), призванная регулировать отношения сотрудничества между странами, ранее входившими в состав СССР. СНГ не является надгосударственным образованием и функционирует на добровольной основе. </dc:title>
</cp:coreProperties>
</file>