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55FC-1359-4DE2-9E95-4D85F5E8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5625-B49A-43E8-95DF-8E814F51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A828-074F-4B2A-B771-4C97559F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519D-0B8D-47F4-945E-B82D5459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46DC-B914-49BA-B86D-008689B7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0C52-D150-43F7-891B-74ADAA8C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2309-93F4-4360-B146-939C29BF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6EDE-9029-4950-A6DE-F16037FB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EA62-8D6D-44B7-9BDE-89CC4D48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1A8A-3DCA-4B93-9220-7E425383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0779-CC66-447B-8409-5544A6BD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E877-C239-417F-906B-F4F3A15D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B5D4-6B48-415F-A416-612708D4A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IMG_0100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64000" y="333360"/>
            <a:ext cx="5580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читель ИЗ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У  СОШ №1   гор. Гвардей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Рыдалова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    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рина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42920" y="0"/>
            <a:ext cx="691380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98480" y="0"/>
            <a:ext cx="574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622680" y="0"/>
            <a:ext cx="552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86043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15424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41112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48000" y="233280"/>
            <a:ext cx="5616720" cy="381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50920" y="2932200"/>
            <a:ext cx="489744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6840" y="189000"/>
            <a:ext cx="3365280" cy="4779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211640" y="3014640"/>
            <a:ext cx="475308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-54000"/>
            <a:ext cx="9252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979640" y="1916280"/>
            <a:ext cx="69120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581120" y="0"/>
            <a:ext cx="598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708360" y="115920"/>
            <a:ext cx="5256360" cy="3949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0920" y="3376440"/>
            <a:ext cx="460836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-36360"/>
            <a:ext cx="9144000" cy="69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177840"/>
            <a:ext cx="914400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71640" y="-44280"/>
            <a:ext cx="7200720" cy="69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94320" y="0"/>
            <a:ext cx="454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595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4000" y="12600"/>
            <a:ext cx="849600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87280" y="-27000"/>
            <a:ext cx="691380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343080"/>
            <a:ext cx="9144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5:25:48Z</dcterms:created>
  <dc:creator>музей</dc:creator>
  <dc:description/>
  <dc:language>en-US</dc:language>
  <cp:lastModifiedBy>Admin</cp:lastModifiedBy>
  <dcterms:modified xsi:type="dcterms:W3CDTF">2011-03-04T16:47:18Z</dcterms:modified>
  <cp:revision>8</cp:revision>
  <dc:subject/>
  <dc:title>Слайд 1</dc:title>
</cp:coreProperties>
</file>