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gif" ContentType="image/gi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8.wmf" ContentType="image/x-wmf"/>
  <Override PartName="/ppt/media/image13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5ACA-750E-429E-A392-D2F68F821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FBC-B5BA-43C4-B54E-0403A46B04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6B7-BFCF-4BEA-8BFC-831C1D650E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бъединяет все расшифрованные слова? На какие группы их можно раздел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D805-5A6E-4E6B-8A61-DE984B397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частью речи мы познакомились?  Что же такое имя существительн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я существительное – это самостоятельная часть речи, которая обозначает предмет и отвечает на вопросы: кто? Или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02B7-EC99-4D0C-B31D-C4B910C5DE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лова русского языка делятся на несколько больших групп, которые называются частями речи. Всего в русском языке 10 частей речи. К каждой части речи относятся слова, которые похожи друг на друга по нескольким призна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т общее знач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вечают на одинаковые в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динаково изменяю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динаково ведут себя в предлож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 мы начнём знакомство с частью речи, которая называется - имя существите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7700-BF11-4BCE-BF6B-C07277CCE1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же слова относятся к именам существитель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зывают предм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вечают на вопросы кто? Или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ывают мужского, среднего, женского 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меняются по числ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8DE7-BFC3-430B-AAF0-819613E09B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я людей и животных мы задаём вопрос к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4B7-3D9E-4BD3-9DF8-CFC4407924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я предметы, явления природы, события, растительный мир мы задаём вопрос чт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38D-BDEE-4A6D-9D32-F590CF1D5A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я существительное - самая значимая часть речи. Она является ведущей в грамматике, имеет род, число, падеж, склонение. Называя предметы, людей, события, явления природы, животный и растительный мир, мы даём им имя. Но между людьми и предметами, явлениями природы и событиями, животным и растительным миром существуют связи, отношения, на которые влияет время. Пространство, причины, и условия. Понять эту взаимосвязь помогают падежные формы существительных, которые связывают слова друг с другом по смыслу и делают нашу речь конкретной, вполне чёткой и краси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мы потренируемся задавать вопросы к словам одушевлённым и неодушевлённым, находить в тексте эту представительную часть речи, а так же попробуем свои силы в интеллектуальном развит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EBEC-EFDD-45FB-B657-5A003F716D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одушевлённые и неодушевлённые имена существительные. Поставьте к ним во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9AF0-50F8-42DC-ABF0-6040B54385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йте текст и выберите имена существите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A2D3-6159-44F2-807E-E98EC0C69C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аменили пары слов на какую часть речи? Как вы определили что это имя существительн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37C-2A29-4E25-80F0-4B804BC3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838-7173-449D-A2C3-647D835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D25-4720-47FA-B807-5804E83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3D4-150C-4E9A-8562-1ACD20C6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107-B873-477E-97F8-0B6DC9E7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E365-DFDA-458C-9A1C-1933B3F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CAB-1EAD-4481-B4A0-D6D09E4A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B43-2C0A-46DD-8EF4-7EA918E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33DF-07A7-42A4-B169-0969252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DE6-8AE6-4F4D-9A2A-9117908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3FFD-496D-40FA-8ADE-74458E6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441-63D2-4562-9341-9302AD6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7175-E568-4F9F-ABA6-A324614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18AF-E571-4418-A9BB-F7B92194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A3D-DED1-4308-B926-36614A48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9DB-2D3B-46C3-965F-65C6E4A7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106-D872-45D2-B037-E2638682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2FC-5587-4CA6-8851-4449A14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BBE-1B9B-42E6-B820-6DDC932B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E40-FF49-41DE-B3D8-035547E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B2B-8F71-422A-8542-285FBC8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367-5ECE-4ADD-B3F6-D6AAE25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A6B-02B7-4994-BA97-DFAA87D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DD9-D23E-4493-8A3B-7DEB76D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BAC0-EA6B-4C42-89BC-5CC04701C4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C46-0EDA-4309-AE99-0B30267488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987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Урок    русского языка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2023920"/>
            <a:ext cx="8474040" cy="26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46836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читайте зашифрованные сл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1258920" y="1628640"/>
            <a:ext cx="36036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692360" y="1700280"/>
            <a:ext cx="576000" cy="216000"/>
          </a:xfrm>
          <a:prstGeom prst="rect">
            <a:avLst/>
          </a:prstGeom>
          <a:gradFill rotWithShape="0">
            <a:gsLst>
              <a:gs pos="0">
                <a:srgbClr val="feec94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411280" y="1628640"/>
            <a:ext cx="3603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987640" y="1557360"/>
            <a:ext cx="432000" cy="43164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e40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 rot="5400000">
            <a:off x="958320" y="2362320"/>
            <a:ext cx="746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 rot="5400000">
            <a:off x="1606320" y="236196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 rot="5400000">
            <a:off x="2253960" y="236196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 rot="5400000">
            <a:off x="2901600" y="2362320"/>
            <a:ext cx="746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 rot="5400000">
            <a:off x="958320" y="3225960"/>
            <a:ext cx="746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4"/>
          <p:cNvSpPr/>
          <p:nvPr/>
        </p:nvSpPr>
        <p:spPr>
          <a:xfrm rot="5400000">
            <a:off x="958320" y="4162320"/>
            <a:ext cx="745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 rot="5400000">
            <a:off x="958320" y="5099040"/>
            <a:ext cx="746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6"/>
          <p:cNvSpPr/>
          <p:nvPr/>
        </p:nvSpPr>
        <p:spPr>
          <a:xfrm rot="5400000">
            <a:off x="958320" y="6033960"/>
            <a:ext cx="745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7"/>
          <p:cNvSpPr/>
          <p:nvPr/>
        </p:nvSpPr>
        <p:spPr>
          <a:xfrm rot="5400000">
            <a:off x="1606320" y="322560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8"/>
          <p:cNvSpPr/>
          <p:nvPr/>
        </p:nvSpPr>
        <p:spPr>
          <a:xfrm rot="5400000">
            <a:off x="1606680" y="4162320"/>
            <a:ext cx="745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 rot="5400000">
            <a:off x="1606320" y="509868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20"/>
          <p:cNvSpPr/>
          <p:nvPr/>
        </p:nvSpPr>
        <p:spPr>
          <a:xfrm rot="5400000">
            <a:off x="1606680" y="6033960"/>
            <a:ext cx="745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21"/>
          <p:cNvSpPr/>
          <p:nvPr/>
        </p:nvSpPr>
        <p:spPr>
          <a:xfrm rot="5400000">
            <a:off x="2253960" y="322560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 rot="5400000">
            <a:off x="2901600" y="3225960"/>
            <a:ext cx="746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23"/>
          <p:cNvSpPr/>
          <p:nvPr/>
        </p:nvSpPr>
        <p:spPr>
          <a:xfrm rot="5400000">
            <a:off x="2254320" y="4162320"/>
            <a:ext cx="745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24"/>
          <p:cNvSpPr/>
          <p:nvPr/>
        </p:nvSpPr>
        <p:spPr>
          <a:xfrm rot="5400000">
            <a:off x="2901600" y="4162320"/>
            <a:ext cx="745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25"/>
          <p:cNvSpPr/>
          <p:nvPr/>
        </p:nvSpPr>
        <p:spPr>
          <a:xfrm rot="5400000">
            <a:off x="2253960" y="509868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 rot="5400000">
            <a:off x="2830320" y="5098680"/>
            <a:ext cx="746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 rot="5400000">
            <a:off x="2254320" y="6033960"/>
            <a:ext cx="745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28"/>
          <p:cNvSpPr/>
          <p:nvPr/>
        </p:nvSpPr>
        <p:spPr>
          <a:xfrm rot="5400000">
            <a:off x="2830680" y="6033960"/>
            <a:ext cx="745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29"/>
          <p:cNvSpPr/>
          <p:nvPr/>
        </p:nvSpPr>
        <p:spPr>
          <a:xfrm rot="5400000">
            <a:off x="323640" y="242100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0"/>
          <p:cNvSpPr/>
          <p:nvPr/>
        </p:nvSpPr>
        <p:spPr>
          <a:xfrm rot="5400000">
            <a:off x="323640" y="328608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1"/>
          <p:cNvSpPr/>
          <p:nvPr/>
        </p:nvSpPr>
        <p:spPr>
          <a:xfrm rot="5400000">
            <a:off x="323640" y="422100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2"/>
          <p:cNvSpPr/>
          <p:nvPr/>
        </p:nvSpPr>
        <p:spPr>
          <a:xfrm rot="5400000">
            <a:off x="323640" y="515772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3"/>
          <p:cNvSpPr/>
          <p:nvPr/>
        </p:nvSpPr>
        <p:spPr>
          <a:xfrm rot="5400000">
            <a:off x="323640" y="609444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4"/>
          <p:cNvSpPr/>
          <p:nvPr/>
        </p:nvSpPr>
        <p:spPr>
          <a:xfrm rot="5400000">
            <a:off x="3996000" y="227808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35"/>
          <p:cNvSpPr/>
          <p:nvPr/>
        </p:nvSpPr>
        <p:spPr>
          <a:xfrm>
            <a:off x="4500720" y="2276640"/>
            <a:ext cx="36036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36"/>
          <p:cNvSpPr/>
          <p:nvPr/>
        </p:nvSpPr>
        <p:spPr>
          <a:xfrm>
            <a:off x="8172360" y="2276640"/>
            <a:ext cx="36036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37"/>
          <p:cNvSpPr/>
          <p:nvPr/>
        </p:nvSpPr>
        <p:spPr>
          <a:xfrm>
            <a:off x="7451640" y="3068640"/>
            <a:ext cx="36036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38"/>
          <p:cNvSpPr/>
          <p:nvPr/>
        </p:nvSpPr>
        <p:spPr>
          <a:xfrm>
            <a:off x="8604360" y="3860640"/>
            <a:ext cx="360360" cy="36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39"/>
          <p:cNvSpPr/>
          <p:nvPr/>
        </p:nvSpPr>
        <p:spPr>
          <a:xfrm>
            <a:off x="7812000" y="4653000"/>
            <a:ext cx="36036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Oval 40"/>
          <p:cNvSpPr/>
          <p:nvPr/>
        </p:nvSpPr>
        <p:spPr>
          <a:xfrm>
            <a:off x="4500720" y="3068640"/>
            <a:ext cx="36036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1"/>
          <p:cNvSpPr/>
          <p:nvPr/>
        </p:nvSpPr>
        <p:spPr>
          <a:xfrm rot="5400000">
            <a:off x="7667640" y="227808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42"/>
          <p:cNvSpPr/>
          <p:nvPr/>
        </p:nvSpPr>
        <p:spPr>
          <a:xfrm rot="5400000">
            <a:off x="3996000" y="306864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43"/>
          <p:cNvSpPr/>
          <p:nvPr/>
        </p:nvSpPr>
        <p:spPr>
          <a:xfrm rot="5400000">
            <a:off x="8099280" y="38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4"/>
          <p:cNvSpPr/>
          <p:nvPr/>
        </p:nvSpPr>
        <p:spPr>
          <a:xfrm rot="5400000">
            <a:off x="5004000" y="465300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5"/>
          <p:cNvSpPr/>
          <p:nvPr/>
        </p:nvSpPr>
        <p:spPr>
          <a:xfrm rot="5400000">
            <a:off x="7236000" y="465300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46"/>
          <p:cNvSpPr/>
          <p:nvPr/>
        </p:nvSpPr>
        <p:spPr>
          <a:xfrm rot="5400000">
            <a:off x="3996000" y="465300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7"/>
          <p:cNvSpPr/>
          <p:nvPr/>
        </p:nvSpPr>
        <p:spPr>
          <a:xfrm rot="5400000">
            <a:off x="3850920" y="38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48"/>
          <p:cNvSpPr/>
          <p:nvPr/>
        </p:nvSpPr>
        <p:spPr>
          <a:xfrm rot="5400000">
            <a:off x="6156360" y="465300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9"/>
          <p:cNvSpPr/>
          <p:nvPr/>
        </p:nvSpPr>
        <p:spPr>
          <a:xfrm rot="5400000">
            <a:off x="5651280" y="38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50"/>
          <p:cNvSpPr/>
          <p:nvPr/>
        </p:nvSpPr>
        <p:spPr>
          <a:xfrm rot="5400000">
            <a:off x="4643280" y="38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51"/>
          <p:cNvSpPr/>
          <p:nvPr/>
        </p:nvSpPr>
        <p:spPr>
          <a:xfrm rot="5400000">
            <a:off x="7235640" y="38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53"/>
          <p:cNvSpPr/>
          <p:nvPr/>
        </p:nvSpPr>
        <p:spPr>
          <a:xfrm rot="5400000">
            <a:off x="6443280" y="3860640"/>
            <a:ext cx="57636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54"/>
          <p:cNvSpPr/>
          <p:nvPr/>
        </p:nvSpPr>
        <p:spPr>
          <a:xfrm rot="5400000">
            <a:off x="6875640" y="306864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 rot="5400000">
            <a:off x="5867640" y="306864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56"/>
          <p:cNvSpPr/>
          <p:nvPr/>
        </p:nvSpPr>
        <p:spPr>
          <a:xfrm rot="5400000">
            <a:off x="4858920" y="3068280"/>
            <a:ext cx="57600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57"/>
          <p:cNvSpPr/>
          <p:nvPr/>
        </p:nvSpPr>
        <p:spPr>
          <a:xfrm rot="5400000">
            <a:off x="6732720" y="227808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 rot="5400000">
            <a:off x="5867640" y="2278080"/>
            <a:ext cx="57600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59"/>
          <p:cNvSpPr/>
          <p:nvPr/>
        </p:nvSpPr>
        <p:spPr>
          <a:xfrm rot="5400000">
            <a:off x="4858920" y="2277720"/>
            <a:ext cx="57600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b76a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5364000" y="2349360"/>
            <a:ext cx="57636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61"/>
          <p:cNvSpPr/>
          <p:nvPr/>
        </p:nvSpPr>
        <p:spPr>
          <a:xfrm>
            <a:off x="6372360" y="2276640"/>
            <a:ext cx="360360" cy="3603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2"/>
          <p:cNvSpPr/>
          <p:nvPr/>
        </p:nvSpPr>
        <p:spPr>
          <a:xfrm>
            <a:off x="7308720" y="2276640"/>
            <a:ext cx="360360" cy="360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3"/>
          <p:cNvSpPr/>
          <p:nvPr/>
        </p:nvSpPr>
        <p:spPr>
          <a:xfrm>
            <a:off x="5364000" y="3068640"/>
            <a:ext cx="57636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64"/>
          <p:cNvSpPr/>
          <p:nvPr/>
        </p:nvSpPr>
        <p:spPr>
          <a:xfrm>
            <a:off x="6443640" y="2997360"/>
            <a:ext cx="432000" cy="431640"/>
          </a:xfrm>
          <a:prstGeom prst="octagon">
            <a:avLst>
              <a:gd name="adj" fmla="val 29287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e40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5"/>
          <p:cNvSpPr/>
          <p:nvPr/>
        </p:nvSpPr>
        <p:spPr>
          <a:xfrm>
            <a:off x="4356000" y="3860640"/>
            <a:ext cx="360360" cy="360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66ffff"/>
            </a:solidFill>
            <a:miter/>
          </a:ln>
          <a:effectLst>
            <a:outerShdw dist="17819" dir="2700000" blurRad="0" rotWithShape="0">
              <a:srgbClr val="3d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5148360" y="3933720"/>
            <a:ext cx="57600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7"/>
          <p:cNvSpPr/>
          <p:nvPr/>
        </p:nvSpPr>
        <p:spPr>
          <a:xfrm>
            <a:off x="6156360" y="3860640"/>
            <a:ext cx="360360" cy="360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68"/>
          <p:cNvSpPr/>
          <p:nvPr/>
        </p:nvSpPr>
        <p:spPr>
          <a:xfrm>
            <a:off x="6948360" y="3860640"/>
            <a:ext cx="360360" cy="360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66ffff"/>
            </a:solidFill>
            <a:miter/>
          </a:ln>
          <a:effectLst>
            <a:outerShdw dist="17819" dir="2700000" blurRad="0" rotWithShape="0">
              <a:srgbClr val="3d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69"/>
          <p:cNvSpPr/>
          <p:nvPr/>
        </p:nvSpPr>
        <p:spPr>
          <a:xfrm>
            <a:off x="7740720" y="3789360"/>
            <a:ext cx="431640" cy="431640"/>
          </a:xfrm>
          <a:prstGeom prst="octagon">
            <a:avLst>
              <a:gd name="adj" fmla="val 29287"/>
            </a:avLst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  <a:effectLst>
            <a:outerShdw dist="153753" dir="2700000" blurRad="0" rotWithShape="0">
              <a:srgbClr val="5c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70"/>
          <p:cNvSpPr/>
          <p:nvPr/>
        </p:nvSpPr>
        <p:spPr>
          <a:xfrm>
            <a:off x="4572000" y="4581360"/>
            <a:ext cx="431640" cy="432000"/>
          </a:xfrm>
          <a:prstGeom prst="octagon">
            <a:avLst>
              <a:gd name="adj" fmla="val 29287"/>
            </a:avLst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e40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71"/>
          <p:cNvSpPr/>
          <p:nvPr/>
        </p:nvSpPr>
        <p:spPr>
          <a:xfrm>
            <a:off x="5580000" y="4724280"/>
            <a:ext cx="57636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2"/>
          <p:cNvSpPr/>
          <p:nvPr/>
        </p:nvSpPr>
        <p:spPr>
          <a:xfrm>
            <a:off x="6659640" y="4724280"/>
            <a:ext cx="57636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  <a:effectLst>
            <a:outerShdw dist="153753" dir="2700000" blurRad="0" rotWithShape="0">
              <a:srgbClr val="1f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3"/>
          <p:cNvSpPr/>
          <p:nvPr/>
        </p:nvSpPr>
        <p:spPr>
          <a:xfrm>
            <a:off x="4140360" y="5300640"/>
            <a:ext cx="201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С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75"/>
          <p:cNvSpPr/>
          <p:nvPr/>
        </p:nvSpPr>
        <p:spPr>
          <a:xfrm>
            <a:off x="4284720" y="5805360"/>
            <a:ext cx="158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6"/>
          <p:cNvSpPr/>
          <p:nvPr/>
        </p:nvSpPr>
        <p:spPr>
          <a:xfrm>
            <a:off x="6084720" y="5300640"/>
            <a:ext cx="165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С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77"/>
          <p:cNvSpPr/>
          <p:nvPr/>
        </p:nvSpPr>
        <p:spPr>
          <a:xfrm>
            <a:off x="6084720" y="5805360"/>
            <a:ext cx="172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О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79" descr=""/>
          <p:cNvPicPr/>
          <p:nvPr/>
        </p:nvPicPr>
        <p:blipFill>
          <a:blip r:embed="rId1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0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1" descr=""/>
          <p:cNvPicPr/>
          <p:nvPr/>
        </p:nvPicPr>
        <p:blipFill>
          <a:blip r:embed="rId20"/>
          <a:stretch/>
        </p:blipFill>
        <p:spPr>
          <a:xfrm>
            <a:off x="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7"/>
          <p:cNvSpPr/>
          <p:nvPr/>
        </p:nvSpPr>
        <p:spPr>
          <a:xfrm>
            <a:off x="4211640" y="0"/>
            <a:ext cx="3860640" cy="1844640"/>
          </a:xfrm>
          <a:custGeom>
            <a:avLst/>
            <a:gdLst>
              <a:gd name="textAreaLeft" fmla="*/ 40320 w 3860640"/>
              <a:gd name="textAreaRight" fmla="*/ 3901320 w 3860640"/>
              <a:gd name="textAreaTop" fmla="*/ 239040 h 1844640"/>
              <a:gd name="textAreaBottom" fmla="*/ 1605600 h 1844640"/>
            </a:gdLst>
            <a:ahLst/>
            <a:rect l="textAreaLeft" t="textAreaTop" r="textAreaRight" b="textAreaBottom"/>
            <a:pathLst>
              <a:path w="21600" h="21600">
                <a:moveTo>
                  <a:pt x="226" y="1400"/>
                </a:moveTo>
                <a:cubicBezTo>
                  <a:pt x="7313" y="-3560"/>
                  <a:pt x="14513" y="6360"/>
                  <a:pt x="21600" y="1400"/>
                </a:cubicBezTo>
                <a:lnTo>
                  <a:pt x="21374" y="20200"/>
                </a:lnTo>
                <a:cubicBezTo>
                  <a:pt x="14287" y="25160"/>
                  <a:pt x="7087" y="15240"/>
                  <a:pt x="0" y="20200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4211640" y="189000"/>
            <a:ext cx="0" cy="172872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340000" y="3500280"/>
            <a:ext cx="3456000" cy="30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627280" y="3933720"/>
            <a:ext cx="914400" cy="914400"/>
          </a:xfrm>
          <a:prstGeom prst="rect">
            <a:avLst/>
          </a:prstGeom>
          <a:gradFill rotWithShape="0">
            <a:gsLst>
              <a:gs pos="0">
                <a:srgbClr val="476c73"/>
              </a:gs>
              <a:gs pos="100000">
                <a:srgbClr val="99e9f9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5c8c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500720" y="4005360"/>
            <a:ext cx="914400" cy="914400"/>
          </a:xfrm>
          <a:prstGeom prst="rect">
            <a:avLst/>
          </a:prstGeom>
          <a:gradFill rotWithShape="0">
            <a:gsLst>
              <a:gs pos="0">
                <a:srgbClr val="476c73"/>
              </a:gs>
              <a:gs pos="100000">
                <a:srgbClr val="99e9f9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5c8c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857760" y="5357880"/>
            <a:ext cx="936360" cy="1201680"/>
          </a:xfrm>
          <a:prstGeom prst="rect">
            <a:avLst/>
          </a:prstGeom>
          <a:gradFill rotWithShape="0">
            <a:gsLst>
              <a:gs pos="0">
                <a:srgbClr val="bb5f03"/>
              </a:gs>
              <a:gs pos="100000">
                <a:srgbClr val="d8b402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826c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84360" y="54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так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WordArt 15"/>
          <p:cNvSpPr txBox="1"/>
          <p:nvPr/>
        </p:nvSpPr>
        <p:spPr>
          <a:xfrm>
            <a:off x="4214880" y="142920"/>
            <a:ext cx="3573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>
                    <a:alphaModFix amt="77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7a1f00"/>
                  </a:outerShdw>
                </a:effectLst>
                <a:latin typeface="Times New Roman"/>
              </a:rPr>
              <a:t>ИМЯ</a:t>
            </a:r>
            <a:endParaRPr b="1" i="1" lang="en-US" sz="2400" spc="1" strike="noStrike">
              <a:ln w="0">
                <a:noFill/>
              </a:ln>
              <a:blipFill rotWithShape="0">
                <a:blip r:embed="rId3">
                  <a:alphaModFix amt="77000"/>
                </a:blip>
                <a:srcRect/>
                <a:stretch/>
              </a:blipFill>
              <a:effectLst>
                <a:outerShdw dist="153753" dir="2700000" blurRad="0" rotWithShape="0">
                  <a:srgbClr val="7a1f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4">
                    <a:alphaModFix amt="77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7a1f00"/>
                  </a:outerShdw>
                </a:effectLst>
                <a:latin typeface="Times New Roman"/>
              </a:rPr>
              <a:t> </a:t>
            </a:r>
            <a:r>
              <a:rPr b="1" i="1" lang="en-US" sz="2400" spc="1" strike="noStrike">
                <a:ln w="0">
                  <a:noFill/>
                </a:ln>
                <a:blipFill rotWithShape="0">
                  <a:blip r:embed="rId5">
                    <a:alphaModFix amt="77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7a1f00"/>
                  </a:outerShdw>
                </a:effectLst>
                <a:latin typeface="Times New Roman"/>
              </a:rPr>
              <a:t>СУЩЕСТВИТЕЛЬНОЕ</a:t>
            </a:r>
            <a:endParaRPr b="1" i="1" lang="en-US" sz="2400" spc="1" strike="noStrike">
              <a:ln w="0">
                <a:noFill/>
              </a:ln>
              <a:blipFill rotWithShape="0">
                <a:blip r:embed="rId6">
                  <a:alphaModFix amt="77000"/>
                </a:blip>
                <a:srcRect/>
                <a:stretch/>
              </a:blipFill>
              <a:effectLst>
                <a:outerShdw dist="153753" dir="2700000" blurRad="0" rotWithShape="0">
                  <a:srgbClr val="7a1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AutoShape 7"/>
          <p:cNvSpPr/>
          <p:nvPr/>
        </p:nvSpPr>
        <p:spPr>
          <a:xfrm rot="8053200">
            <a:off x="2634480" y="2052360"/>
            <a:ext cx="2948040" cy="296388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WordArt 16"/>
          <p:cNvSpPr txBox="1"/>
          <p:nvPr/>
        </p:nvSpPr>
        <p:spPr>
          <a:xfrm rot="19736400">
            <a:off x="3779640" y="5700240"/>
            <a:ext cx="1056960" cy="65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РЕДМЕТ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7440" y="549360"/>
            <a:ext cx="6286680" cy="627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bb5f0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Части реч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012000" y="1557360"/>
            <a:ext cx="1439640" cy="180036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3059280" y="1628640"/>
            <a:ext cx="720720" cy="208764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00720" y="1700280"/>
            <a:ext cx="0" cy="316872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5364000" y="1628640"/>
            <a:ext cx="935280" cy="309564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-109440" y="2422440"/>
            <a:ext cx="345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Имя</a:t>
            </a:r>
            <a:r>
              <a:rPr b="1" lang="ru-RU" sz="3000" spc="-1" strike="noStrike">
                <a:solidFill>
                  <a:srgbClr val="3a209a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уществительно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08000" y="3789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987640" y="486900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лага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724360" y="458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дло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2123640" y="1557360"/>
            <a:ext cx="1079640" cy="144000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30072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стоим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33"/>
          <p:cNvSpPr/>
          <p:nvPr/>
        </p:nvSpPr>
        <p:spPr>
          <a:xfrm rot="21035400">
            <a:off x="5367240" y="2392200"/>
            <a:ext cx="2427480" cy="936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a08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31"/>
          <p:cNvSpPr/>
          <p:nvPr/>
        </p:nvSpPr>
        <p:spPr>
          <a:xfrm rot="18990000">
            <a:off x="4649400" y="1419120"/>
            <a:ext cx="23875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32"/>
          <p:cNvSpPr/>
          <p:nvPr/>
        </p:nvSpPr>
        <p:spPr>
          <a:xfrm rot="5400000">
            <a:off x="3489120" y="1149120"/>
            <a:ext cx="19494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30"/>
          <p:cNvSpPr/>
          <p:nvPr/>
        </p:nvSpPr>
        <p:spPr>
          <a:xfrm rot="3350400">
            <a:off x="2199240" y="1276920"/>
            <a:ext cx="230364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35"/>
          <p:cNvSpPr/>
          <p:nvPr/>
        </p:nvSpPr>
        <p:spPr>
          <a:xfrm rot="1207800">
            <a:off x="1266480" y="2163600"/>
            <a:ext cx="2351160" cy="10083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4a08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то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29"/>
          <p:cNvSpPr/>
          <p:nvPr/>
        </p:nvSpPr>
        <p:spPr>
          <a:xfrm rot="20824800">
            <a:off x="1314360" y="3405240"/>
            <a:ext cx="21304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34"/>
          <p:cNvSpPr/>
          <p:nvPr/>
        </p:nvSpPr>
        <p:spPr>
          <a:xfrm rot="19366800">
            <a:off x="1947600" y="4325400"/>
            <a:ext cx="210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27"/>
          <p:cNvSpPr/>
          <p:nvPr/>
        </p:nvSpPr>
        <p:spPr>
          <a:xfrm rot="6345000">
            <a:off x="3133080" y="4808160"/>
            <a:ext cx="20336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36"/>
          <p:cNvSpPr/>
          <p:nvPr/>
        </p:nvSpPr>
        <p:spPr>
          <a:xfrm rot="3540000">
            <a:off x="4384080" y="4653360"/>
            <a:ext cx="19476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8"/>
          <p:cNvSpPr/>
          <p:nvPr/>
        </p:nvSpPr>
        <p:spPr>
          <a:xfrm rot="1123800">
            <a:off x="5237280" y="3751200"/>
            <a:ext cx="22716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26"/>
          <p:cNvSpPr/>
          <p:nvPr/>
        </p:nvSpPr>
        <p:spPr>
          <a:xfrm>
            <a:off x="3492360" y="2637000"/>
            <a:ext cx="1944720" cy="165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WordArt 37"/>
          <p:cNvSpPr txBox="1"/>
          <p:nvPr/>
        </p:nvSpPr>
        <p:spPr>
          <a:xfrm>
            <a:off x="3564000" y="2997360"/>
            <a:ext cx="180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м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уществительно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3"/>
          <p:cNvSpPr/>
          <p:nvPr/>
        </p:nvSpPr>
        <p:spPr>
          <a:xfrm>
            <a:off x="3851280" y="2276640"/>
            <a:ext cx="216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6000840" y="1785960"/>
            <a:ext cx="795240" cy="64296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2627280" y="3714840"/>
            <a:ext cx="1015920" cy="57780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4643280" y="3643200"/>
            <a:ext cx="71640" cy="78588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0"/>
          <p:cNvSpPr/>
          <p:nvPr/>
        </p:nvSpPr>
        <p:spPr>
          <a:xfrm flipH="1" flipV="1">
            <a:off x="2857320" y="1928520"/>
            <a:ext cx="1081080" cy="57636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786280" y="3857760"/>
            <a:ext cx="946440" cy="79524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Рисунок 12" descr="deti-54.gif"/>
          <p:cNvPicPr/>
          <p:nvPr/>
        </p:nvPicPr>
        <p:blipFill>
          <a:blip r:embed="rId1"/>
          <a:stretch/>
        </p:blipFill>
        <p:spPr>
          <a:xfrm>
            <a:off x="928800" y="428760"/>
            <a:ext cx="933480" cy="1857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Deti57.gif"/>
          <p:cNvPicPr/>
          <p:nvPr/>
        </p:nvPicPr>
        <p:blipFill>
          <a:blip r:embed="rId2"/>
          <a:stretch/>
        </p:blipFill>
        <p:spPr>
          <a:xfrm>
            <a:off x="6715080" y="571680"/>
            <a:ext cx="1143000" cy="1660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g34025.gif"/>
          <p:cNvPicPr/>
          <p:nvPr/>
        </p:nvPicPr>
        <p:blipFill>
          <a:blip r:embed="rId3"/>
          <a:stretch/>
        </p:blipFill>
        <p:spPr>
          <a:xfrm>
            <a:off x="3571920" y="4500720"/>
            <a:ext cx="1893960" cy="20001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09.gif"/>
          <p:cNvPicPr/>
          <p:nvPr/>
        </p:nvPicPr>
        <p:blipFill>
          <a:blip r:embed="rId4"/>
          <a:stretch/>
        </p:blipFill>
        <p:spPr>
          <a:xfrm>
            <a:off x="500040" y="4286160"/>
            <a:ext cx="2214720" cy="1685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7" descr="AG00013_.GIF"/>
          <p:cNvPicPr/>
          <p:nvPr/>
        </p:nvPicPr>
        <p:blipFill>
          <a:blip r:embed="rId5"/>
          <a:stretch/>
        </p:blipFill>
        <p:spPr>
          <a:xfrm>
            <a:off x="7215120" y="5000760"/>
            <a:ext cx="15303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132000" y="2924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2484360" y="3500280"/>
            <a:ext cx="1511280" cy="93528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 flipH="1" flipV="1">
            <a:off x="2916000" y="1844280"/>
            <a:ext cx="1152360" cy="86364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5003640" y="1844280"/>
            <a:ext cx="935280" cy="79236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4716360" y="3573360"/>
            <a:ext cx="142920" cy="115092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5292720" y="3357720"/>
            <a:ext cx="1511280" cy="79200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3853080" y="2637000"/>
            <a:ext cx="143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Чт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80" descr="BD07304_"/>
          <p:cNvPicPr/>
          <p:nvPr/>
        </p:nvPicPr>
        <p:blipFill>
          <a:blip r:embed="rId1"/>
          <a:stretch/>
        </p:blipFill>
        <p:spPr>
          <a:xfrm>
            <a:off x="4140360" y="4797360"/>
            <a:ext cx="2016000" cy="1884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3" descr="AG00001_.GIF"/>
          <p:cNvPicPr/>
          <p:nvPr/>
        </p:nvPicPr>
        <p:blipFill>
          <a:blip r:embed="rId2"/>
          <a:stretch/>
        </p:blipFill>
        <p:spPr>
          <a:xfrm>
            <a:off x="7000920" y="357120"/>
            <a:ext cx="1857240" cy="2144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4" descr="Snowmen1.wmf"/>
          <p:cNvPicPr/>
          <p:nvPr/>
        </p:nvPicPr>
        <p:blipFill>
          <a:blip r:embed="rId3"/>
          <a:stretch/>
        </p:blipFill>
        <p:spPr>
          <a:xfrm>
            <a:off x="6500880" y="4214880"/>
            <a:ext cx="185112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Cherry.wmf"/>
          <p:cNvPicPr/>
          <p:nvPr/>
        </p:nvPicPr>
        <p:blipFill>
          <a:blip r:embed="rId4"/>
          <a:stretch/>
        </p:blipFill>
        <p:spPr>
          <a:xfrm>
            <a:off x="1000080" y="4429080"/>
            <a:ext cx="1906560" cy="17254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6" descr="a1в.gif"/>
          <p:cNvPicPr/>
          <p:nvPr/>
        </p:nvPicPr>
        <p:blipFill>
          <a:blip r:embed="rId5"/>
          <a:stretch/>
        </p:blipFill>
        <p:spPr>
          <a:xfrm>
            <a:off x="500040" y="571680"/>
            <a:ext cx="2257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500040"/>
            <a:ext cx="629100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Что же такое существительное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ова, которые отвечают на вопрос кто? или что? называются именами существительны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ществительные, которые называют людей и животных, отвечают на вопрос кто? Все остальные существительные отвечают на вопрос 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755640" y="260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ыпиши в два столби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55640" y="1125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т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227640" y="112536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13080" y="155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60036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852720" y="242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84720" y="5661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чи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456000" y="32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56400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ол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276720" y="4149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рау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421080" y="465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уч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3708360" y="51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529080" y="2924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351 -0.00185 L -0.28351 -0.00185 E">
                                      <p:cBhvr>
                                        <p:cTn id="239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368 -0.00162 L -0.28368 -0.00162 E">
                                      <p:cBhvr>
                                        <p:cTn id="2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931 0.00879 L -0.28351 0.00879 E">
                                      <p:cBhvr>
                                        <p:cTn id="24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351 -0.00185 L -0.28351 -0.00185 E">
                                      <p:cBhvr>
                                        <p:cTn id="25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351 -0.00185 L -0.28351 -0.00185 E">
                                      <p:cBhvr>
                                        <p:cTn id="25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132 0.00879 L -0.29132 0.00879 E">
                                      <p:cBhvr>
                                        <p:cTn id="25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7066 0.00416 L 0.32066 0.00416 E">
                                      <p:cBhvr>
                                        <p:cTn id="26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7083 -0.00185 L 0.32083 -0.00185 E">
                                      <p:cBhvr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7882 0.00879 L 0.32882 0.00879 E">
                                      <p:cBhvr>
                                        <p:cTn id="27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7882 -0.00185 L 0.32882 -0.00185 E">
                                      <p:cBhvr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79280" y="189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дчеркни имена существительны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рт. Днём сильно греет солнце. Звенит капель. Громко чирикают воробьи. А ночью ударит мороз. Вдруг закрутит вьюга. Повалит хлопьями сне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684360" y="2276640"/>
            <a:ext cx="172692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6786720" y="2357280"/>
            <a:ext cx="172692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2643120" y="2786040"/>
            <a:ext cx="172728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900000" y="3357720"/>
            <a:ext cx="172728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929200" y="3500280"/>
            <a:ext cx="172728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2428920" y="4071960"/>
            <a:ext cx="172728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1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Line 13"/>
          <p:cNvSpPr/>
          <p:nvPr/>
        </p:nvSpPr>
        <p:spPr>
          <a:xfrm>
            <a:off x="6786720" y="4714920"/>
            <a:ext cx="1285560" cy="4608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474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539640" y="26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мени пары слов одним слов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468360" y="1197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мёрзшая вода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468360" y="1916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вижение воздуха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95280" y="2708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льная буря на море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9528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льный ветер со снегом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395280" y="4005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льный ветер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24000" y="4581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енастье с громом и молнией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395280" y="51577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ход солнца -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214200" y="607212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508720" y="11253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лова для справок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6877080" y="155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ка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716436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р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7236000" y="2924280"/>
            <a:ext cx="107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ихр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7093080" y="2492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роз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7164360" y="3789360"/>
            <a:ext cx="12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ете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7020000" y="3357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штор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7215120" y="51436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метел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7236000" y="4724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лё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30" descr=""/>
          <p:cNvPicPr/>
          <p:nvPr/>
        </p:nvPicPr>
        <p:blipFill>
          <a:blip r:embed="rId1"/>
          <a:stretch/>
        </p:blipFill>
        <p:spPr>
          <a:xfrm>
            <a:off x="571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4745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2:47:52Z</dcterms:created>
  <dc:creator>IT Academy</dc:creator>
  <dc:description/>
  <dc:language>en-US</dc:language>
  <cp:lastModifiedBy>XTreme</cp:lastModifiedBy>
  <dcterms:modified xsi:type="dcterms:W3CDTF">2011-03-05T17:26:35Z</dcterms:modified>
  <cp:revision>28</cp:revision>
  <dc:subject/>
  <dc:title>Части речи </dc:title>
</cp:coreProperties>
</file>