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8EC-DEE0-4C78-84F1-860828A2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6D3-482D-4DB1-A59E-C49754CA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41F-49C4-4DAB-ACB8-DA498345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2FE-CF73-4A9B-BF89-BF7506A8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C9C-C5C4-41D3-B412-6128CB52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8D3-BE14-4DD1-8282-0E43D3E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B8C-1153-414D-9368-0A520B2B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0E2-E2C1-4904-AC06-48991E63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8C2-45A1-49C7-B11F-3D4019C2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55B-0C1C-4E7B-86AC-26D8A43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F93-6F4A-481B-9A89-06F434C5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D6E-4576-45BF-887D-AA93A1D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F3E-F85E-483B-815D-F2E49FBB6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9&amp;ed=1&amp;text=&#1090;&#1088;&#1080;&#1076;&#1072;&#1082;&#1085;&#1072;&amp;spsite=fake-015-878305.ru&amp;img_url=stat17.privet.ru/lr/0934eb4ed786f6e399b3cb901a5e3bff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search?p=3&amp;ed=1&amp;text=&#1082;&#1072;&#1083;&#1100;&#1084;&#1072;&#1088;&#1099;&amp;spsite=fake-001-1114326.ru&amp;img_url=www.ask1.org/upload/kalmar1.jpg&amp;rpt=simage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16&amp;ed=1&amp;text=&#1086;&#1089;&#1100;&#1084;&#1080;&#1085;&#1086;&#1075;&#1080;&amp;spsite=fake-035-681906.ru&amp;img_url=clmndaro.tripod.com/octopus.jpg&amp;rpt=simage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yandex.ru/search?p=1&amp;ed=1&amp;text=&#1084;&#1086;&#1083;&#1083;&#1102;&#1089;&#1082;%20&#1075;&#1088;&#1077;&#1073;&#1077;&#1096;&#1086;&#1082;&amp;spsite=fake-040-949508.ru&amp;img_url=ru.trinixy.ru/pics2/20071109/podb/1/rakushka_01.jpg&amp;rpt=simage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images.yandex.ru/search?p=8&amp;ed=1&amp;text=&#1089;&#1083;&#1080;&#1079;&#1085;&#1080;&amp;spsite=fake-031-331116.ru&amp;img_url=www.apartmenttherapy.com/uimages/sf/4.24.09%20slugs%202.jpg&amp;rpt=simage" TargetMode="External"/><Relationship Id="rId11" Type="http://schemas.openxmlformats.org/officeDocument/2006/relationships/image" Target="../media/image10.jpeg"/><Relationship Id="rId12" Type="http://schemas.openxmlformats.org/officeDocument/2006/relationships/hyperlink" Target="http://images.yandex.ru/search?p=18&amp;ed=1&amp;text=&#1089;&#1083;&#1080;&#1079;&#1085;&#1080;&amp;spsite=forest.geoman.ru&amp;img_url=forest.geoman.ru/forest/item/f00/s02/e0002903/pic/000000.jpg&amp;rpt=simage" TargetMode="External"/><Relationship Id="rId13" Type="http://schemas.openxmlformats.org/officeDocument/2006/relationships/image" Target="../media/image11.jpeg"/><Relationship Id="rId14" Type="http://schemas.openxmlformats.org/officeDocument/2006/relationships/hyperlink" Target="http://images.yandex.ru/search?p=8&amp;ed=1&amp;text=&#1084;&#1086;&#1083;&#1083;&#1102;&#1089;&#1082;%20&#1075;&#1088;&#1077;&#1073;&#1077;&#1096;&#1086;&#1082;&amp;spsite=www.klopp.ru&amp;img_url=klopp.ru/uploads/posts/2008-02/thumbs/1201823179_11.jpg&amp;rpt=simage" TargetMode="External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search?p=12&amp;ed=1&amp;text=&#1085;&#1072;&#1089;&#1077;&#1082;&#1086;&#1084;&#1099;&#1077;%20&#1074;%20&#1082;&#1072;&#1088;&#1090;&#1080;&#1085;&#1082;&#1072;&#1093;&amp;spsite=fake-031-817318.ru&amp;img_url=photobucket.com/albums/h174/aenocyon/insects_all_600.jpg&amp;rpt=simage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yandex.ru/search?p=3&amp;ed=1&amp;text=&#1087;&#1072;&#1091;&#1082;&#1086;&#1086;&#1073;&#1088;&#1072;&#1079;&#1085;&#1099;&#1077;&amp;spsite=fake-040-2909467.ru&amp;img_url=static.vet.apteka.uz/images/0_05060206.jpg&amp;rpt=simage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mages.yandex.ru/search?p=0&amp;ed=1&amp;text=&#1088;&#1099;&#1073;&#1072;%20-%20&#1093;&#1080;&#1088;&#1091;&#1088;&#1075;&amp;spsite=www.uralweb.ru&amp;img_url=i94.ltalk.ru/90/98/59890/25/1649925/surgeonfish.jpeg&amp;rpt=simag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88;&#1080;&#1090;&#1086;&#1085;&#1099;&amp;spsite=fake-048-780987.ru&amp;img_url=kizhi.karelia.ru/nature/4_fauna/amfibii_catalog/img/cristatus.jpg&amp;rpt=simage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428840" y="28584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тавр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обин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347840" y="1427040"/>
            <a:ext cx="6491160" cy="3230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857920" y="500076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рофимова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28760" y="13572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юдям известно уже более 1 500 000 разных видов животных. По некоторым признакам ученые распредели животных на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571760" y="42876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я знаю о животн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643040" y="392904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ак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1" descr="j0282747"/>
          <p:cNvPicPr/>
          <p:nvPr/>
        </p:nvPicPr>
        <p:blipFill>
          <a:blip r:embed="rId1"/>
          <a:stretch/>
        </p:blipFill>
        <p:spPr>
          <a:xfrm>
            <a:off x="1000080" y="371484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j0282747"/>
          <p:cNvPicPr/>
          <p:nvPr/>
        </p:nvPicPr>
        <p:blipFill>
          <a:blip r:embed="rId2"/>
          <a:stretch/>
        </p:blipFill>
        <p:spPr>
          <a:xfrm>
            <a:off x="5715000" y="3714840"/>
            <a:ext cx="12970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Прямоугольник 1"/>
          <p:cNvGrpSpPr/>
          <p:nvPr/>
        </p:nvGrpSpPr>
        <p:grpSpPr>
          <a:xfrm>
            <a:off x="2895480" y="755640"/>
            <a:ext cx="3273480" cy="914400"/>
            <a:chOff x="2895480" y="755640"/>
            <a:chExt cx="3273480" cy="914400"/>
          </a:xfrm>
        </p:grpSpPr>
        <p:pic>
          <p:nvPicPr>
            <p:cNvPr id="5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95480" y="755640"/>
              <a:ext cx="3273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28960" y="785880"/>
              <a:ext cx="3214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2"/>
          <p:cNvSpPr/>
          <p:nvPr/>
        </p:nvSpPr>
        <p:spPr>
          <a:xfrm>
            <a:off x="3071880" y="85716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 flipH="1">
            <a:off x="1928520" y="1571400"/>
            <a:ext cx="100080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6"/>
          <p:cNvCxnSpPr/>
          <p:nvPr/>
        </p:nvCxnSpPr>
        <p:spPr>
          <a:xfrm flipH="1">
            <a:off x="3357360" y="1643040"/>
            <a:ext cx="216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8"/>
          <p:cNvCxnSpPr/>
          <p:nvPr/>
        </p:nvCxnSpPr>
        <p:spPr>
          <a:xfrm flipH="1">
            <a:off x="4214520" y="1642680"/>
            <a:ext cx="216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0"/>
          <p:cNvCxnSpPr/>
          <p:nvPr/>
        </p:nvCxnSpPr>
        <p:spPr>
          <a:xfrm>
            <a:off x="5070960" y="1642680"/>
            <a:ext cx="7236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2"/>
          <p:cNvCxnSpPr/>
          <p:nvPr/>
        </p:nvCxnSpPr>
        <p:spPr>
          <a:xfrm>
            <a:off x="5786280" y="1642680"/>
            <a:ext cx="50112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4"/>
          <p:cNvCxnSpPr/>
          <p:nvPr/>
        </p:nvCxnSpPr>
        <p:spPr>
          <a:xfrm>
            <a:off x="6143400" y="1642680"/>
            <a:ext cx="15721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Прямоугольник 15"/>
          <p:cNvSpPr/>
          <p:nvPr/>
        </p:nvSpPr>
        <p:spPr>
          <a:xfrm>
            <a:off x="1643040" y="2786040"/>
            <a:ext cx="571680" cy="300024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3071880" y="3000240"/>
            <a:ext cx="642960" cy="292896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4000680" y="3071880"/>
            <a:ext cx="571320" cy="285732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5000760" y="3000240"/>
            <a:ext cx="642960" cy="278604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6072120" y="3071880"/>
            <a:ext cx="642960" cy="278604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0"/>
          <p:cNvSpPr/>
          <p:nvPr/>
        </p:nvSpPr>
        <p:spPr>
          <a:xfrm>
            <a:off x="7572240" y="2786040"/>
            <a:ext cx="571680" cy="285768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5"/>
          <p:cNvSpPr/>
          <p:nvPr/>
        </p:nvSpPr>
        <p:spPr>
          <a:xfrm rot="16200000">
            <a:off x="112320" y="40309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6"/>
          <p:cNvSpPr/>
          <p:nvPr/>
        </p:nvSpPr>
        <p:spPr>
          <a:xfrm rot="16200000">
            <a:off x="1754280" y="41382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ы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7"/>
          <p:cNvSpPr/>
          <p:nvPr/>
        </p:nvSpPr>
        <p:spPr>
          <a:xfrm rot="16200000">
            <a:off x="2754720" y="42094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земнов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8"/>
          <p:cNvSpPr/>
          <p:nvPr/>
        </p:nvSpPr>
        <p:spPr>
          <a:xfrm rot="16200000">
            <a:off x="3617640" y="41684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есмыкающие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9"/>
          <p:cNvSpPr/>
          <p:nvPr/>
        </p:nvSpPr>
        <p:spPr>
          <a:xfrm rot="16200000">
            <a:off x="5183280" y="41382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0"/>
          <p:cNvSpPr/>
          <p:nvPr/>
        </p:nvSpPr>
        <p:spPr>
          <a:xfrm rot="16200000">
            <a:off x="6755760" y="394344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млекопитаю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32"/>
          <p:cNvCxnSpPr/>
          <p:nvPr/>
        </p:nvCxnSpPr>
        <p:spPr>
          <a:xfrm flipH="1">
            <a:off x="2642400" y="1643040"/>
            <a:ext cx="42948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Прямоугольник 33"/>
          <p:cNvSpPr/>
          <p:nvPr/>
        </p:nvSpPr>
        <p:spPr>
          <a:xfrm>
            <a:off x="2500200" y="2857680"/>
            <a:ext cx="428760" cy="300024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4"/>
          <p:cNvSpPr/>
          <p:nvPr/>
        </p:nvSpPr>
        <p:spPr>
          <a:xfrm rot="16200000">
            <a:off x="1611360" y="37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оллю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571760" y="642960"/>
            <a:ext cx="65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Моллюс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http://im4-tub.yandex.net/i?id=73854717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50004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http://im8-tub.yandex.net/i?id=130271811-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500040"/>
            <a:ext cx="2000520" cy="1571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http://im8-tub.yandex.net/i?id=156846062-0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15080" y="25718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im2-tub.yandex.net/i?id=79417927-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71920" y="1214280"/>
            <a:ext cx="200016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i-tmb-0x" descr="http://im8-tub.yandex.net/i?id=17502745-04"/>
          <p:cNvPicPr/>
          <p:nvPr/>
        </p:nvPicPr>
        <p:blipFill>
          <a:blip r:embed="rId9"/>
          <a:stretch/>
        </p:blipFill>
        <p:spPr>
          <a:xfrm>
            <a:off x="3500280" y="3714840"/>
            <a:ext cx="21434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http://im8-tub.yandex.net/i?id=179342064-0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86280" y="507204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http://im7-tub.yandex.net/i?id=47083248-0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00040" y="464328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0" descr="http://im8-tub.yandex.net/i?id=142617833-03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42960" y="2714760"/>
            <a:ext cx="2214720" cy="1357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642960" y="2143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ридак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57192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гребеш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14240" y="42148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гребеш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786120" y="5143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ули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6572160" y="2071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альм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71508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осьмин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5786280" y="6357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лиз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-tmb-0x" descr="http://im6-tub.yandex.net/i?id=18415959-06"/>
          <p:cNvPicPr/>
          <p:nvPr/>
        </p:nvPicPr>
        <p:blipFill>
          <a:blip r:embed="rId1"/>
          <a:stretch/>
        </p:blipFill>
        <p:spPr>
          <a:xfrm>
            <a:off x="3357720" y="928800"/>
            <a:ext cx="2428560" cy="2643120"/>
          </a:xfrm>
          <a:prstGeom prst="rect">
            <a:avLst/>
          </a:prstGeom>
          <a:ln w="0">
            <a:noFill/>
          </a:ln>
        </p:spPr>
      </p:pic>
      <p:pic>
        <p:nvPicPr>
          <p:cNvPr id="91" name="i-tmb-0x" descr="http://im3-tub.yandex.net/i?id=102967855-04"/>
          <p:cNvPicPr/>
          <p:nvPr/>
        </p:nvPicPr>
        <p:blipFill>
          <a:blip r:embed="rId2"/>
          <a:stretch/>
        </p:blipFill>
        <p:spPr>
          <a:xfrm>
            <a:off x="428760" y="714240"/>
            <a:ext cx="2643120" cy="2000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http://im0-tub.yandex.net/i?id=177117174-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857160"/>
            <a:ext cx="2714400" cy="2071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786040" y="28584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секом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500200" y="350028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аукообраз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6" descr="http://im2-tub.yandex.net/i?id=73039311-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4240" y="4429080"/>
            <a:ext cx="3357720" cy="2214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http://15.media.tumblr.com/BcFjJpa7Cn5l9z9hildbPN6to1_400.jpg"/>
          <p:cNvPicPr/>
          <p:nvPr/>
        </p:nvPicPr>
        <p:blipFill>
          <a:blip r:embed="rId7"/>
          <a:stretch/>
        </p:blipFill>
        <p:spPr>
          <a:xfrm>
            <a:off x="4857840" y="4143240"/>
            <a:ext cx="3357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357280" y="142920"/>
            <a:ext cx="47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рыб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-tmb-0x" descr="http://im8-tub.yandex.net/i?id=63716414-00"/>
          <p:cNvPicPr/>
          <p:nvPr/>
        </p:nvPicPr>
        <p:blipFill>
          <a:blip r:embed="rId1"/>
          <a:stretch/>
        </p:blipFill>
        <p:spPr>
          <a:xfrm>
            <a:off x="2786040" y="378612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http://im8-tub.yandex.net/i?id=7547553-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214280"/>
            <a:ext cx="3500280" cy="2143440"/>
          </a:xfrm>
          <a:prstGeom prst="rect">
            <a:avLst/>
          </a:prstGeom>
          <a:ln w="0">
            <a:noFill/>
          </a:ln>
        </p:spPr>
      </p:pic>
      <p:pic>
        <p:nvPicPr>
          <p:cNvPr id="100" name="i-tmb-0x" descr="http://im6-tub.yandex.net/i?id=76254490-02"/>
          <p:cNvPicPr/>
          <p:nvPr/>
        </p:nvPicPr>
        <p:blipFill>
          <a:blip r:embed="rId4"/>
          <a:stretch/>
        </p:blipFill>
        <p:spPr>
          <a:xfrm>
            <a:off x="5286240" y="1071720"/>
            <a:ext cx="3000600" cy="2428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28760" y="32860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ыба - хир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286240" y="34290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ыба - м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071880" y="63579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итовая аку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214720" y="5000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емновод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2" descr="http://im6-tub.yandex.net/i?id=40091460-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285920"/>
            <a:ext cx="357192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http://im7-tub.yandex.net/i?id=94397396-04"/>
          <p:cNvPicPr/>
          <p:nvPr/>
        </p:nvPicPr>
        <p:blipFill>
          <a:blip r:embed="rId3"/>
          <a:stretch/>
        </p:blipFill>
        <p:spPr>
          <a:xfrm>
            <a:off x="4857840" y="1357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http://im2-tub.yandex.net/i?id=6583898-05"/>
          <p:cNvPicPr/>
          <p:nvPr/>
        </p:nvPicPr>
        <p:blipFill>
          <a:blip r:embed="rId4"/>
          <a:stretch/>
        </p:blipFill>
        <p:spPr>
          <a:xfrm>
            <a:off x="4786200" y="4143240"/>
            <a:ext cx="335772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i-tmb-0x" descr="http://im3-tub.yandex.net/i?id=193135671-00"/>
          <p:cNvPicPr/>
          <p:nvPr/>
        </p:nvPicPr>
        <p:blipFill>
          <a:blip r:embed="rId5"/>
          <a:stretch/>
        </p:blipFill>
        <p:spPr>
          <a:xfrm>
            <a:off x="785880" y="4000680"/>
            <a:ext cx="3071880" cy="2214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1214280" y="3643200"/>
            <a:ext cx="62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рит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85880" y="6215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яг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5572080" y="62150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жа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2:42:40Z</dcterms:created>
  <dc:creator>Home</dc:creator>
  <dc:description/>
  <dc:language>en-US</dc:language>
  <cp:lastModifiedBy>Home</cp:lastModifiedBy>
  <dcterms:modified xsi:type="dcterms:W3CDTF">2010-04-22T16:06:22Z</dcterms:modified>
  <cp:revision>13</cp:revision>
  <dc:subject/>
  <dc:title>Слайд 1</dc:title>
</cp:coreProperties>
</file>