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C62E-15CC-411D-AEFB-35CB1DAF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0970-4E5C-4CFE-A460-3CD75A04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8A0C-2E0E-483F-A120-DC1335DF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AE93-BDD3-4272-84EB-6AD74837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6133-058C-4F3A-8801-8E05F072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C7C2-2105-4FC4-AF38-58C5EA0D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19A5-B86E-4495-ABF7-535CAC34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D2F8-A79C-440A-8312-3F683AC2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2257-562E-47E4-924E-6405B537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F29F-1F69-43B4-8B8A-B68BF52D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C741-7778-4D60-A838-EEF65BE6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B721-E9A4-47B7-A888-323BA6DD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6EC3-92B0-40B2-99E1-9440B79F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23CD-7FB7-4335-99E4-56C6970E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3958-9711-422D-AB84-FC68FFF8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5B65-8DBD-4C3B-8FBA-7CDD346B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BD73-97E0-4F1F-ADED-A416F173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AC79-6792-4398-BCD8-AD8ED394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C0A7-37A6-4585-8B4C-B9CC565F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2215-C1C5-49EB-8203-9F3A99F0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FA85-B704-480B-BDF7-5697B797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57D1-5B05-4B6D-AB72-04626697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49F3-302D-4EC7-8E19-E88E1224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0B69-74A4-4C25-86F1-A0216FAE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8E7C-934B-4BE5-AB2D-DD2DF5E24D90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E423-03AE-4384-BAC1-F353F2CBE4A5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06472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ecff"/>
                </a:solidFill>
                <a:latin typeface="Arial"/>
              </a:rPr>
              <a:t>Информационно-смысловой анализ текста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мысловые отношения между предложениям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338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ahoma"/>
              </a:rPr>
              <a:t>4. Дополнение и уточнение данной информац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ahoma"/>
              </a:rPr>
              <a:t>5. Иллюстрация, выделение частного случая, пояснени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7960" y="1598760"/>
            <a:ext cx="40338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ff99ff"/>
                </a:solidFill>
                <a:latin typeface="Arial"/>
                <a:ea typeface="Tahoma"/>
              </a:rPr>
              <a:t>Также, при этом, причем, вместе с тем, кроме того, более того, между прочим, в част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ff99ff"/>
                </a:solidFill>
                <a:latin typeface="Arial"/>
                <a:ea typeface="Tahoma"/>
              </a:rPr>
              <a:t>Например, так, именно, даже, лишь, ведь, особенно, другими словами, иначе говор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мысловые отношения между предложениям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338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ahoma"/>
              </a:rPr>
              <a:t>6. Порядок перечислени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ahoma"/>
              </a:rPr>
              <a:t>7. Обобщение, вывод, итог предыдущей информац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ahoma"/>
              </a:rPr>
              <a:t>8. Ссылка  на предыдущую или последующую информац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7960" y="1598760"/>
            <a:ext cx="40338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6. </a:t>
            </a:r>
            <a:r>
              <a:rPr b="0" lang="ru-RU" sz="2400" spc="-1" strike="noStrike">
                <a:solidFill>
                  <a:srgbClr val="ff99ff"/>
                </a:solidFill>
                <a:latin typeface="Arial"/>
                <a:ea typeface="Tahoma"/>
              </a:rPr>
              <a:t>Во-первых, затем, далее, наконец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ff"/>
                </a:solidFill>
                <a:latin typeface="Arial"/>
              </a:rPr>
              <a:t>7. </a:t>
            </a:r>
            <a:r>
              <a:rPr b="0" lang="ru-RU" sz="2400" spc="-1" strike="noStrike">
                <a:solidFill>
                  <a:srgbClr val="ff99ff"/>
                </a:solidFill>
                <a:latin typeface="Arial"/>
                <a:ea typeface="Tahoma"/>
              </a:rPr>
              <a:t>Таким образом, итак, короче, короче говоря, вообще, словом, вообще говоря, следовательн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ff"/>
                </a:solidFill>
                <a:latin typeface="Arial"/>
              </a:rPr>
              <a:t>8. </a:t>
            </a:r>
            <a:r>
              <a:rPr b="0" lang="ru-RU" sz="2400" spc="-1" strike="noStrike">
                <a:solidFill>
                  <a:srgbClr val="ff99ff"/>
                </a:solidFill>
                <a:latin typeface="Arial"/>
                <a:ea typeface="Tahoma"/>
              </a:rPr>
              <a:t>Как было сказано, как говорилось, как видно, в соответствии с этим, в отличие от этого, согласно этом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5400" y="272520"/>
            <a:ext cx="8226360" cy="58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ecff"/>
                </a:solidFill>
                <a:latin typeface="Arial"/>
              </a:rPr>
              <a:t>ПРИМЕР 1.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А 6. Какое предложение должно быть первым в тексте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. до н.э. новые стеклодувные мастерские возникли в отдаленных римских провинциях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Техника выдувания стекла позволила удешевить процесс изготовления бокалов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зобрели оконное стекло в Древнем Риме в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. до н.э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Лучшие римские стеклодувы использовали кварцевый песок из Египта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5400" y="272520"/>
            <a:ext cx="8226360" cy="58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(1)... (2)Это открытие произвело настоящую революцию в римской архитектуре. (3)Новые храмы теперь освещались естественным светом, льющимся сквозь прозрачные или мозаичные стёкла. (4)В Древнем Риме стекольщики служили даже в армии: учёные предполагают, что в солдатских казармах окна были застеклены. (5)А один специалист по сельскому хозяйству рекомендовал защищать растения весной от плохой погоды с помощью листового стекла. (6)... римляне додумались до теплицы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5400" y="272520"/>
            <a:ext cx="8226360" cy="58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А 7. Какое из приведенных ниже слов (сочетаний слов) должно быть на месте пропуска в предложении 6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 отличие от него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этому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И еще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Так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5400" y="272520"/>
            <a:ext cx="8226360" cy="58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ecff"/>
                </a:solidFill>
                <a:latin typeface="Arial"/>
              </a:rPr>
              <a:t>ПРИМЕР 2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(1)... (2)А вот, например, человек и морская свинка утратили эту способность в ходе эволюции. (3)Так что людям необходимо получать вместе с пищей по  50-100 мг витамина С в сутки. (4)«Аскорбинка» участвует во всех видах обмена веществ, обеспечивая нормальную эластичность и проницаемость капилляров, способствуя укреплению костной ткани зубов. (5)При недостатке витамина С у человека развивается цинга: дёсны становятся слабыми и начинают кровоточить, так как из-за отсутствия в организме аскорбиновой кислоты не образуются волокна соединительной ткани. (6)... цинга часто поражала мореплавателей, долгое время лишённых свежих овощей и фруктов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А 6. Какое из приведенных ниже предложений должно быть первым в этом тексте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96428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Аскорбиновая кислота, или витамин С, участвует в организме во многих ферментативных реакциях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Витамин С участвует в синтезе белка соединительной ткани животных – коллаген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На фармацевтических фабриках аскорбиновую кислоту получают из дешевого доступного сырья – глюкоз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Организмы растений и многих животных умеют сами производить аскорбиновую кислоту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иск основной информации (А 27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aeaea"/>
                </a:solidFill>
                <a:latin typeface="Arial"/>
                <a:ea typeface="Tahoma"/>
              </a:rPr>
              <a:t>Развитие существующих ядерных технологий делает наш мир все более опасным. Радиоэкологическое просвещение населения должно быть непременной частью всех образовательных программ. Это особо касается Уральского региона, где значительная часть людей живет в условиях повышенного фона ионизирующей радиации и на радиоактивно загрязненных территориях. Радиоэкологические знания позволят избежать тех негативных последствий, которые связаны с дополнительным облучением и поступлением радионуклеидов в организм с продуктами питания и водой.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5400" y="272520"/>
            <a:ext cx="8226360" cy="58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  <a:ea typeface="Tahoma"/>
              </a:rPr>
              <a:t>В каком из приведенных ниже предложений верно передана главная информация, содержащаяся в текст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  <a:ea typeface="Tahoma"/>
              </a:rPr>
              <a:t>1)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    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  <a:ea typeface="Tahoma"/>
              </a:rPr>
              <a:t>На Урале многие живут в условиях повышенного фона радиации и на радиоактивно загрязненных территориях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  <a:ea typeface="Tahoma"/>
              </a:rPr>
              <a:t>2)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    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  <a:ea typeface="Tahoma"/>
              </a:rPr>
              <a:t>Радиоэкологические знания позволят избежать негативных последствий.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  <a:ea typeface="Tahoma"/>
              </a:rPr>
              <a:t>)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    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  <a:ea typeface="Tahoma"/>
              </a:rPr>
              <a:t>Радиоэкологическое просвещение населения должно быть непременной частью всех образовательных программ, особенно в Уральском регионе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ahom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  <a:ea typeface="Tahoma"/>
              </a:rPr>
              <a:t>4)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    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  <a:ea typeface="Tahoma"/>
              </a:rPr>
              <a:t>Развитие существующих ядерных технологий делает наш мир все более опасны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5400" y="272520"/>
            <a:ext cx="8226360" cy="58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Упражнения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. Выявление основной мысл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«Стараясь о счастье других, мы находим свое собственное»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(Платон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) Человек должен, не думая о себе, отдавать все свои силы на благо других люде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2) Целью жизни каждого человека является его собственное счасть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3) Только делая добро людям, можно обрести и собственное счасть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4) Счастье каждый понимает по-своему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редства связи между предложениями в текс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Лексические (повтор слова, синонимы, однокоренные слова и т.д.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рфологические (совпадение видо-временных форм, местоимения, частицы, вводные слова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интаксические (вопросно-ответная форма, параллелизм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5400" y="272520"/>
            <a:ext cx="8226360" cy="58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Анализ аргументо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овое лекарственное средство очень эффективно, потому что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 нем много говорят по радио, телевидению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роведены клинические испытания, результаты которых подтвердили эффективность нового препарат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Это лекарство не может не быть эффективным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Это лекарство помогло одной моей знакомо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5400" y="272520"/>
            <a:ext cx="8226360" cy="58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3. Построение аргументаци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сположите тезисы в логической последовательности, чтобы получилось предложение, выражающее основную мысл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«Величайшие истины – самые простые» (Л. Толстой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) Простота, ясность формы свидетельствуют о ясности смысла какой-либо истин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2) Сложные истины не всегда бывают великим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3) Истины бывают сложными и простым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4) Настоящие истины отличаются своей безыскусностью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5400" y="272520"/>
            <a:ext cx="8226360" cy="58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4. Определение выводов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пределите, что является следствием из данного высказывания. Используйте метод подстановки слов 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следовательно, поэтому, значит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Мир питается крупицами истины и большим количеством лжи» (Р. Роллан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Мир никогда не питается правдо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еправда – основная «духовная пища» человечеств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Ложь есть самая необходимая пища человечества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5400" y="272520"/>
            <a:ext cx="8226360" cy="58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5. Построение логически связного текста.  Постройте связный текст из приведенных ниже предложени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«</a:t>
            </a: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Человек ясно выражается, когда им владеет мысль, но еще яснее, когда он владеет мыслью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» (В. Белинский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) Человек знает, о чем говорит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2) Он не может быть косноязычны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3) Важно не увлечься какой-либо идеей, но и разобраться в ее сущ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4) Кто-то увлечен определенной идее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5) Кто-то может стать прекрасным ораторо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А) 5, так как 4, и 3, но если 1, то 2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) 3, поэтому 1, и 2, но если 4, то 5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) 1, поэтому 2, но 3, если 4, то 5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5400" y="272520"/>
            <a:ext cx="8226360" cy="58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ecff"/>
                </a:solidFill>
                <a:latin typeface="Arial"/>
              </a:rPr>
              <a:t>В какой последовательности нужно расположить предложения, чтобы получился связный текст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А. Хищные птицы тоже обходятся без воды, но это понятно, потому что они получают много влаги из пищи, антилопы же питаются только травой, не изобилующей влаго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. Оказывается, природа позаботилась о том, чтобы необходимая для организма вода образовывалась в теле антилопы в процессе обмена веществ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. Известно, что для млекопитающих вода важнее пищ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. Однако газели и антилопы, которые живут в пустыне, не пьют воды в течение всей жизн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763640" y="981000"/>
            <a:ext cx="47530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пехов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Виды связи между предложениям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338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Цепная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тор ключевого слова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амена его синонимом, местоимением или однокоренным слово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76920" y="1904760"/>
            <a:ext cx="40780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араллельная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динаковый порядок слов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динаковые грамматические формы слов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анафоры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иторические вопросы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Цепная связ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это такой вид связи, при котором каждое последующее предложение является продолжением предыдущего и подготавливает последующе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Я увидел </a:t>
            </a:r>
            <a:r>
              <a:rPr b="1" i="1" lang="ru-RU" sz="2800" spc="-1" strike="noStrike">
                <a:solidFill>
                  <a:srgbClr val="eaeaea"/>
                </a:solidFill>
                <a:latin typeface="Arial"/>
              </a:rPr>
              <a:t>улицу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, уходящую в горы. </a:t>
            </a:r>
            <a:r>
              <a:rPr b="1" i="1" lang="ru-RU" sz="2800" spc="-1" strike="noStrike">
                <a:solidFill>
                  <a:srgbClr val="eaeaea"/>
                </a:solidFill>
                <a:latin typeface="Arial"/>
              </a:rPr>
              <a:t>Ее 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во всю длину перекрывал глухой, почти черный навес из </a:t>
            </a:r>
            <a:r>
              <a:rPr b="1" i="1" lang="ru-RU" sz="2800" spc="-1" strike="noStrike">
                <a:solidFill>
                  <a:srgbClr val="eaeaea"/>
                </a:solidFill>
                <a:latin typeface="Arial"/>
              </a:rPr>
              <a:t>виноградных лоз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. Большие зрелые кисти </a:t>
            </a:r>
            <a:r>
              <a:rPr b="1" i="1" lang="ru-RU" sz="2800" spc="-1" strike="noStrike">
                <a:solidFill>
                  <a:srgbClr val="eaeaea"/>
                </a:solidFill>
                <a:latin typeface="Arial"/>
              </a:rPr>
              <a:t>винограда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 висели низко над улице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Параллельная связ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это такой вид связи, при которой предложения содержат перечисление, противопоставление связанных друг с другом действий, явлен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Буря бушевала над Петербургом. Редкий дождь хлестал в окна. Нева вспухала на глазах и переливалась черех гранит. Люди пробегали вдоль домов, придерживая шляпы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5400" y="272520"/>
            <a:ext cx="8226360" cy="58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В 7. Среди предложений 15-22 найдите такое, которое соединяется с предыдущим с помощью союза, лексического повтора и антонимов.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(17)Чего жаждет человек, когда у него духовное томление? (18)Обычно желания делят на высокие и низкие, добрые и дурные. (19)Но разделим их по иному принципу: на конечные и бесконечные. (20)Конечные желания могут быть осуществлены к такому-то числу; это желания приобрести, получить, достичь, стать... (21)Но никогда не исполнятся полностью, не исчерпают себя желания бесконечные — назовём их стремлениями: «священный сердца жар, к высокому стремленье» (Пушкин)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5400" y="272520"/>
            <a:ext cx="8226360" cy="58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В 7. Среди предложений 2-6 найдите такое, которое связано с предыдущим  с помощью только указательного местоим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(2) — Пожалуйста, — вполне серьёзно говорит он крохе, — можешь гулять, но поставь в известность меня или маму. (3)Сие — не выдумка фельетониста, но подлинный, ненароком подслушанный разговор. (4)Или серьёзно пишут в статье о работе экипажа космической станции: «Производился забор (!) проб выдыхаемого воздуха». (5)Этот забор не залетел бы в космос, если бы не стеснялись сказать попросту: космонавты брали пробы. (6)Но нет, несолидно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мысловые отношения между предложениям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338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ahoma"/>
              </a:rPr>
              <a:t>1. Причинно-следственные и условно-следственные отношения между частями информац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7960" y="1598760"/>
            <a:ext cx="40338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Arial"/>
              </a:rPr>
              <a:t>И, поэтому, отсюда, тем самым, в результате, следовательно, значит, в силу этого, вследствие этого, в зависимости от этого, благодаря этому, в связи с этим, при этому условии, в таком случае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мысловые отношения между предложениям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338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ahoma"/>
              </a:rPr>
              <a:t>2. Временная соотнесенность частей информац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3. Сопоставление и противопоставление частей информац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ahom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7960" y="1598760"/>
            <a:ext cx="40338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ff99ff"/>
                </a:solidFill>
                <a:latin typeface="Arial"/>
              </a:rPr>
              <a:t>Вначале, сначала, прежде всего, в то же время, наряду с, ранее, впоследствии, в заключение, далее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ff99ff"/>
                </a:solidFill>
                <a:latin typeface="Arial"/>
              </a:rPr>
              <a:t>Так (же), таким (же) образом, аналогично если…то, тогда как, в то время как, с одной стороны, но, однако, зато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5:05:39Z</dcterms:created>
  <dc:creator>Божья коровка</dc:creator>
  <dc:description/>
  <dc:language>en-US</dc:language>
  <cp:lastModifiedBy>www.PHILka.RU</cp:lastModifiedBy>
  <dcterms:modified xsi:type="dcterms:W3CDTF">2010-10-30T15:32:27Z</dcterms:modified>
  <cp:revision>19</cp:revision>
  <dc:subject/>
  <dc:title>Анализ текста</dc:title>
</cp:coreProperties>
</file>