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150-C4A8-4F03-8699-52034621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FAB-58D0-4C0B-8CBF-C4B929E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7A7-16FC-4CD6-A397-748D7483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32A-FAC9-483E-9435-4DA590BF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819A-7BD2-408E-84C5-B23420E5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CCA-6AAF-4B46-9B4E-C1D2C08F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D9F-4E29-4CBC-BF9B-0CB1DF4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B2E7-8271-418F-97D1-A6448ABE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C92-DC70-4D35-A1DE-1CB2D78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E148-7E15-42F2-81AA-C09872E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6F46-B831-4C51-9AC4-7550DFA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836-A1C1-4D8F-9E8B-7C9B7B2A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49B-3931-4901-91F2-82592D0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E8C-64AC-4E4E-8996-2466D94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7375-1F5E-4DA2-A57D-7591842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6954-235D-4482-93A8-177A8AB1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F1F2-2B86-4994-8936-7D789E36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6D3-5BC1-40DB-9D3E-0E6DFABD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25A-67EB-49C9-9485-0BBB437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92F-1D60-40C8-BC86-145DF40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C5E-3127-4CAF-8D7C-F8810683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ED9-A933-416A-9BCE-DD6D2EE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CBD-E41B-4076-8E2D-D499165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9CD-5B7B-4AC3-98BE-9FD36FD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9264-A978-417A-8687-7C98E107C8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3EB4-CEA6-4FAA-BFED-EDF2A50016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Классификация ошибок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части С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ечевы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1) Неоправданное повторение слова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Геро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рассказа не задумывается над своим поступком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Геро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даже не понимает всей глубины содеянн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2) Ошибки в употреблении антонимов в построении антитезы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В третьей части текста звучит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е весёлы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но и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е мажорны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моти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3) Бедность и однообразие синтаксических конструкций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огда писатель пришёл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в редакцию, его принял редактор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огда они поговорил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писатель отправился в гостиниц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Грамматические ошибки 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ошибки в структуре языковой единицы; нарушение любой грамматической н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Ошибочное словообразование.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рудолюби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ый,  на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мехать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2) Ошибочное образование формы существительного.</a:t>
            </a: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Многие чуд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техники. Не хватает врем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3) Ошибочное образование формы прилагательного.</a:t>
            </a: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олее интересн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ее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рамматически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4) Ошибочное образование формы числительного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ятистами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рубл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5) Ошибочное образование формы местоимения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Ихнего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пафос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6) Ошибки в образовании личных форм глаголов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м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двигает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чувство сострад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7) Неправильное употребление временных форм глаголов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Эта книг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даёт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знания об истории календаря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учит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делать расчё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рамматически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8) Ошибки в образовании действительных и страдательных причастий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учейки воды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текаемые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вниз, поразили авт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9) Ошибки в образовании деепричастий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ышев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на сцену.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иш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о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10) Неправильное образование наречий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Автор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ут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был не пра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11) Нарушение согласования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Я знаком с группой ребят, увлекающи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мися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джаз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рамматически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2. Нарушение управления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Повествует читател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 Сделать свою правду более красив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ую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3) Нарушение связи между подлежащим и сказуемым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Главное, чему я хочу уделить внимание, это художественн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о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сторон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произ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4) Нарушение способа выражения сказуемого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Мы были рады, счастливы и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весёлые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Грамматические ошиб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5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Ошибки в построении предложения с деепричастным оборотом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Читая текст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возникает такое чувств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6)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Ошибки в построении предложения с причастным оборотом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Дорожка была покрыт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оваливающимся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снегом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д ногам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7) Ошибки в построении сложного предложения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Эт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нига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научила меня ценить друзей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оторую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я прочла ещё в детстве. Ум автор текста понимает не только как просвещённость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о 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с понятием «умный» связывает вольнодумств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Грамматические ошиб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8) Ошибки, связанные с употреблением частиц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Хорошо было бы, если бы на картине стоял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ы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подпись художн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9) Нарушение границ предложения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Было уж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здно. Когда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он опомн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828800" y="838080"/>
            <a:ext cx="5715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хов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е!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Виды ошибо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Ф а к т и ч е с к и 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Э т и ч е с к и 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Л о г и ч е с к и 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Р е ч е в ы 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Г р а м м а т и ч е с к и 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Фактические ошибки 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разновидность неязыковых ошибок, заключающаяся в том, что пишущий, недостаточно хорошо владея информацией по обсуждаемой теме, приводит факты, противоречащие действи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пример: «Столица США – Нью-Йорк»,«Ленский вернулся в своё имение из Англии», «Маяковский – вдохновитель народа в борьбе с интервенцией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Такие ошибки отражают низкий уровень зна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Этические ошибки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особый вид ошибок; высказывания, унижающие человеческое достоинство, выражающие высокомерное и циничное отношение к человеческой личности, недоброжелательность, проявления речевой агрессии, жаргонные слова и оборо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пример: «Этот текст меня бесит», «Судя по тому, что говорит автор, он маньяк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Логические ошибки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нарушение логической правильности речи, возникающее в результате нарушения законов логики как в пределах одного суждения, так и на уровне целого тек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Сопоставление (противопоставление) двух логически неоднородных (различных по объёму и содержанию) понятий в предложен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Подмена одного суждения друг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Предметом повествования являются времена достаточно отдалённые, что позволяет предположить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не чересчур молодой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возраст автора.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Однако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темпераментностью страницы привлекают к себе вним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ечевые и грамматические ошиб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Эти виды ошибок для многих учащихся трудны в разгранич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Отличие: речевые ошибки чаще всего не слышны при чтении, их можно обнаружить только в контексте, а грамматические выделяются из общего строя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ечевые ошибки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связанные с неразвитостью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1) Употребление слова в несвойственном ему значении.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Мы был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шокированы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прекрасной игрой актёр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2) Неразличение оттенков значения, вносимых в слово приставкой и суффиксом.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Моё отношение к этой проблеме н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менялось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 Были приняты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эффектные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мер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3)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Неразличение синонимов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Имя этого поэт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накомо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во многих стран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ечевы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Неразличение паронимов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аких случая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зглядываю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в словар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5) Употребление слов иной стилевой окраски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Автор, обращаясь к этой проблеме, пытается направить людей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емного в другую колею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6) Разрушение образной структуры фразеологизмов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Этому, безусловно, талантливому писателю Зощенк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алец в рот не клади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7) Неоправданное употребление просторечных слов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Таким людям всегда удаётся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объегорить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руг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ечевы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8) Нарушение лексической сочетаемости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втор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увеличивает впечатление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 Автор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спользует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художественны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обенност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9) Употребление лишних слов, в том числе плеоназм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олодой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юноша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чен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прекрас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10) Употребление рядом или близко однокоренных слов (тавтология)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В этом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сказе рассказывается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о событиях древност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0-11-11T16:37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