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B43-5614-4131-9CDE-54F039BC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B86-C3F8-437A-86BD-84B7A661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58F-039A-44DD-A07F-34FE39DE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322-3B4F-46E9-A4F3-71A6521F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CCDC-060A-4529-A538-0DB5F4A1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D9BA-F1A3-4DEA-B3B2-62646FBB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DA18-98B4-4FA2-997E-30ECF4AD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347D-E45D-4D3C-9F3D-9BD3395E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ED55-687F-41AF-93B4-BDBFEC6D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033E-67F0-4403-8454-F4536ED0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9D24-4FAA-4B25-8DBE-DEDEC6F8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03C-A321-438F-B382-24063190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3F47-FA9B-46C7-9014-612B7293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2959-0585-4D16-A72E-A8EE99F3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26F1-AFE7-4DF2-B855-C496AF25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7B9E-E8D0-4D19-B32E-CBDAB2B2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947C-10CB-43AE-84F5-2F9914EE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63B-DF76-44A0-8967-54BAAF07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880-F0ED-4E1C-B1F0-BC77E066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DBA-4EFA-49D0-9777-9AA6873E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B09-5E22-4A37-AE56-C2A625F1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834-AB52-4307-AA49-F9E759E0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B49-54EA-4FEF-B9E3-E6939DF2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8865-2A16-459D-A8B1-4B1F4A44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45FD-CD83-4818-9B8B-25661D9D40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81D5-C0C1-4438-8993-BF2EF1F6FBF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Если хочешь быть здоров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Цель: знать о  том, что здоровье включает в себя двигательную активность, правила личной гигиены и гигиену питания;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уметь правильно распределять время работы и отдых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раница 13. «Берегите зубы!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абота в тетрадях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раница 7, №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457200"/>
            <a:ext cx="5562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33"/>
            </a:solidFill>
            <a:miter/>
          </a:ln>
          <a:effectLst>
            <a:outerShdw dist="107932" dir="189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Какие бывают продук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2060640"/>
            <a:ext cx="3581280" cy="825480"/>
          </a:xfrm>
          <a:prstGeom prst="wedgeRectCallout">
            <a:avLst>
              <a:gd name="adj1" fmla="val 53675"/>
              <a:gd name="adj2" fmla="val -69657"/>
            </a:avLst>
          </a:prstGeom>
          <a:solidFill>
            <a:srgbClr val="ffe5ff"/>
          </a:solidFill>
          <a:ln w="9360">
            <a:solidFill>
              <a:srgbClr val="0000cc"/>
            </a:solidFill>
            <a:miter/>
          </a:ln>
          <a:effectLst>
            <a:outerShdw dist="107932" dir="189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Растительного происхо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59320" y="2795760"/>
            <a:ext cx="2895840" cy="825480"/>
          </a:xfrm>
          <a:prstGeom prst="wedgeRectCallout">
            <a:avLst>
              <a:gd name="adj1" fmla="val -46060"/>
              <a:gd name="adj2" fmla="val -72143"/>
            </a:avLst>
          </a:prstGeom>
          <a:solidFill>
            <a:srgbClr val="ffe5ff"/>
          </a:solidFill>
          <a:ln w="9360">
            <a:solidFill>
              <a:srgbClr val="0000cc"/>
            </a:solidFill>
            <a:miter/>
          </a:ln>
          <a:effectLst>
            <a:outerShdw dist="107932" dir="189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Животн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763120" y="6553080"/>
            <a:ext cx="380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24360" y="5445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етрадь, страница 6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-304920" y="-237960"/>
            <a:ext cx="9753840" cy="7333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2843280" y="260280"/>
            <a:ext cx="3819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культминутк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81216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кончи правил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стит зубы надо два раза в день: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д едой нужно обязательно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 время еды нельзя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икогда не ешь немытые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ет при письме должен падать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 rot="5400000">
            <a:off x="-1504800" y="2809800"/>
            <a:ext cx="579132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пословиц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6858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24000" y="260280"/>
            <a:ext cx="3353040" cy="13816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Болен – лечись, 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2050920" y="1268280"/>
            <a:ext cx="3419640" cy="138168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50000">
                <a:srgbClr val="ffffff"/>
              </a:gs>
              <a:gs pos="100000">
                <a:srgbClr val="ff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Быстрого и ловког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0920" y="2852640"/>
            <a:ext cx="3424320" cy="13816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Здоровье не купиш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24000" y="4365720"/>
            <a:ext cx="3276720" cy="10159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м да здоровь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95640" y="5516640"/>
            <a:ext cx="3276360" cy="10159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Чистая вод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620640"/>
            <a:ext cx="3419280" cy="10159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…для хвори б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763120" y="6553080"/>
            <a:ext cx="380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08720" y="1628640"/>
            <a:ext cx="3424320" cy="1015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…его разум да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5508720" y="2781360"/>
            <a:ext cx="3384360" cy="8254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…здоров – берег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3" action="ppaction://hlinksldjump"/>
          </p:cNvPr>
          <p:cNvSpPr/>
          <p:nvPr/>
        </p:nvSpPr>
        <p:spPr>
          <a:xfrm>
            <a:off x="5508720" y="3500280"/>
            <a:ext cx="3384360" cy="1381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…болезнь не догон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4" action="ppaction://hlinksldjump"/>
          </p:cNvPr>
          <p:cNvSpPr/>
          <p:nvPr/>
        </p:nvSpPr>
        <p:spPr>
          <a:xfrm>
            <a:off x="5508720" y="5013360"/>
            <a:ext cx="3311280" cy="101592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50000">
                <a:srgbClr val="ffffff"/>
              </a:gs>
              <a:gs pos="100000">
                <a:srgbClr val="ff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…дороже вс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тог урока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ие правила нужно соблюдать, чтобы сохранить здоровье?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66760" y="511200"/>
            <a:ext cx="8610480" cy="908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оровь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1224000"/>
            <a:ext cx="9144000" cy="5634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448080" y="4971960"/>
            <a:ext cx="3936960" cy="1166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личной 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94160" y="2070000"/>
            <a:ext cx="4394160" cy="649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ная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48080" y="3448080"/>
            <a:ext cx="4530600" cy="649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а 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763120" y="6553080"/>
            <a:ext cx="380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07960" y="1143000"/>
            <a:ext cx="812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280" y="2060280"/>
            <a:ext cx="68706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Что нужно делать для того, чтобы быть здоровым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66760" y="511200"/>
            <a:ext cx="8610480" cy="908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оровь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224000"/>
            <a:ext cx="9144000" cy="5634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448080" y="4971960"/>
            <a:ext cx="3936960" cy="1166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личной 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94160" y="2070000"/>
            <a:ext cx="4394160" cy="649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ная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48080" y="3448080"/>
            <a:ext cx="4530600" cy="649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а 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763120" y="6553080"/>
            <a:ext cx="380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2370600" y="875880"/>
            <a:ext cx="2742480" cy="1753200"/>
            <a:chOff x="2370600" y="875880"/>
            <a:chExt cx="2742480" cy="1753200"/>
          </a:xfrm>
        </p:grpSpPr>
        <p:sp>
          <p:nvSpPr>
            <p:cNvPr id="161" name=""/>
            <p:cNvSpPr/>
            <p:nvPr/>
          </p:nvSpPr>
          <p:spPr>
            <a:xfrm rot="390600">
              <a:off x="2460240" y="963000"/>
              <a:ext cx="1511280" cy="96372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90600">
              <a:off x="4205880" y="1898280"/>
              <a:ext cx="782640" cy="6886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90600">
              <a:off x="3258720" y="2058120"/>
              <a:ext cx="935280" cy="42876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390600">
              <a:off x="2435760" y="1019520"/>
              <a:ext cx="2611440" cy="130644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098160" y="4292640"/>
            <a:ext cx="2894040" cy="2234880"/>
            <a:chOff x="3098160" y="4292640"/>
            <a:chExt cx="2894040" cy="2234880"/>
          </a:xfrm>
        </p:grpSpPr>
        <p:sp>
          <p:nvSpPr>
            <p:cNvPr id="166" name=""/>
            <p:cNvSpPr/>
            <p:nvPr/>
          </p:nvSpPr>
          <p:spPr>
            <a:xfrm rot="11936400">
              <a:off x="4254120" y="5339520"/>
              <a:ext cx="1511280" cy="96372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1936400">
              <a:off x="3441240" y="4400640"/>
              <a:ext cx="782640" cy="6886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1936400">
              <a:off x="4221720" y="4689000"/>
              <a:ext cx="935280" cy="42876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936400">
              <a:off x="3239280" y="4832280"/>
              <a:ext cx="2611440" cy="130644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70920" y="1556280"/>
            <a:ext cx="2855520" cy="2799360"/>
            <a:chOff x="970920" y="1556280"/>
            <a:chExt cx="2855520" cy="2799360"/>
          </a:xfrm>
        </p:grpSpPr>
        <p:sp>
          <p:nvSpPr>
            <p:cNvPr id="171" name=""/>
            <p:cNvSpPr/>
            <p:nvPr/>
          </p:nvSpPr>
          <p:spPr>
            <a:xfrm rot="18787200">
              <a:off x="1087920" y="2760120"/>
              <a:ext cx="1511280" cy="96372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8787200">
              <a:off x="2916360" y="2264400"/>
              <a:ext cx="782640" cy="6886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787200">
              <a:off x="2344320" y="3111480"/>
              <a:ext cx="935280" cy="42876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8787200">
              <a:off x="1034280" y="2302560"/>
              <a:ext cx="2611440" cy="130644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826640" y="3318120"/>
            <a:ext cx="1903320" cy="2890080"/>
            <a:chOff x="1826640" y="3318120"/>
            <a:chExt cx="1903320" cy="2890080"/>
          </a:xfrm>
        </p:grpSpPr>
        <p:sp>
          <p:nvSpPr>
            <p:cNvPr id="176" name=""/>
            <p:cNvSpPr/>
            <p:nvPr/>
          </p:nvSpPr>
          <p:spPr>
            <a:xfrm rot="15354000">
              <a:off x="1994040" y="4872960"/>
              <a:ext cx="1511280" cy="96372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5354000">
              <a:off x="2618640" y="3437280"/>
              <a:ext cx="782640" cy="6886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5354000">
              <a:off x="2877480" y="4371480"/>
              <a:ext cx="935280" cy="42876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5354000">
              <a:off x="1472400" y="4129200"/>
              <a:ext cx="2611440" cy="130644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281840" y="569880"/>
            <a:ext cx="2750040" cy="2900160"/>
            <a:chOff x="4281840" y="569880"/>
            <a:chExt cx="2750040" cy="2900160"/>
          </a:xfrm>
        </p:grpSpPr>
        <p:sp>
          <p:nvSpPr>
            <p:cNvPr id="181" name=""/>
            <p:cNvSpPr/>
            <p:nvPr/>
          </p:nvSpPr>
          <p:spPr>
            <a:xfrm rot="2773800">
              <a:off x="4642200" y="971280"/>
              <a:ext cx="1511280" cy="96372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773800">
              <a:off x="5559480" y="2604960"/>
              <a:ext cx="782640" cy="6886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773800">
              <a:off x="4793760" y="2201400"/>
              <a:ext cx="935280" cy="42876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773800">
              <a:off x="4350960" y="1311120"/>
              <a:ext cx="2611440" cy="130644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828040" y="1963800"/>
            <a:ext cx="2002320" cy="2833560"/>
            <a:chOff x="5828040" y="1963800"/>
            <a:chExt cx="2002320" cy="2833560"/>
          </a:xfrm>
        </p:grpSpPr>
        <p:sp>
          <p:nvSpPr>
            <p:cNvPr id="186" name=""/>
            <p:cNvSpPr/>
            <p:nvPr/>
          </p:nvSpPr>
          <p:spPr>
            <a:xfrm rot="6157800">
              <a:off x="6433920" y="2400120"/>
              <a:ext cx="1511280" cy="96372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157800">
              <a:off x="5857920" y="3826080"/>
              <a:ext cx="782640" cy="6886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6157800">
              <a:off x="5844600" y="3086640"/>
              <a:ext cx="935280" cy="42876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6157800">
              <a:off x="5601600" y="2727000"/>
              <a:ext cx="2611440" cy="130644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688640" y="3867480"/>
            <a:ext cx="2966040" cy="2167560"/>
            <a:chOff x="4688640" y="3867480"/>
            <a:chExt cx="2966040" cy="2167560"/>
          </a:xfrm>
        </p:grpSpPr>
        <p:sp>
          <p:nvSpPr>
            <p:cNvPr id="191" name=""/>
            <p:cNvSpPr/>
            <p:nvPr/>
          </p:nvSpPr>
          <p:spPr>
            <a:xfrm rot="9519000">
              <a:off x="6015960" y="4424760"/>
              <a:ext cx="1511280" cy="96372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9519000">
              <a:off x="4786920" y="4502520"/>
              <a:ext cx="782640" cy="6886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9519000">
              <a:off x="5466240" y="4199040"/>
              <a:ext cx="935280" cy="42876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9519000">
              <a:off x="4894920" y="4297680"/>
              <a:ext cx="2611440" cy="130644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24000" y="333360"/>
            <a:ext cx="2865240" cy="65088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тренняя за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46560" y="203040"/>
            <a:ext cx="4462560" cy="75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движные игры на перемен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69200" y="2271600"/>
            <a:ext cx="2379600" cy="192780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ыполнение различных домашних дел, требующих мышечных уси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80120" y="4748040"/>
            <a:ext cx="2617920" cy="133164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ктивное участие в спортивных секциях и круж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0" y="5634000"/>
            <a:ext cx="2774880" cy="133164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мообслуживание и общественно - полезный тру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8880" y="5087880"/>
            <a:ext cx="2247840" cy="997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изминутки на уро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2276640"/>
            <a:ext cx="2019240" cy="137988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орога в школу и из школы пеш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1000" y="2873520"/>
            <a:ext cx="3042000" cy="994680"/>
          </a:xfrm>
          <a:prstGeom prst="ellipse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вигательная 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63120" y="6553080"/>
            <a:ext cx="380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96000" y="1052640"/>
            <a:ext cx="3171960" cy="7117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движные игры во дво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1268280"/>
            <a:ext cx="2870280" cy="7117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х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3789360"/>
            <a:ext cx="2152800" cy="89388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ыжные прогулки и 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Осень – 2008 год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07960" y="1143000"/>
            <a:ext cx="812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-243000"/>
            <a:ext cx="687060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Осень – 2008 год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12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763120" y="6553080"/>
            <a:ext cx="380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438280"/>
            <a:ext cx="3048120" cy="2653560"/>
          </a:xfrm>
          <a:prstGeom prst="wedgeRectCallout">
            <a:avLst>
              <a:gd name="adj1" fmla="val 64004"/>
              <a:gd name="adj2" fmla="val -69750"/>
            </a:avLst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10800000"/>
          </a:gradFill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блюдения режима питания. Есть в определенное время 4 -5 раз в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2421000"/>
            <a:ext cx="3460680" cy="1800360"/>
          </a:xfrm>
          <a:prstGeom prst="wedgeRectCallout">
            <a:avLst>
              <a:gd name="adj1" fmla="val -51597"/>
              <a:gd name="adj2" fmla="val -69050"/>
            </a:avLst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10800000"/>
          </a:gradFill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ять, если есть возможность, больше овощей и фру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26920" y="692280"/>
            <a:ext cx="7490160" cy="17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9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66ff66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85"/>
                  </a:outerShdw>
                </a:effectLst>
                <a:latin typeface="Arial"/>
              </a:rPr>
              <a:t>гигиена питания: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66ff66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ffff85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47640" y="2943360"/>
            <a:ext cx="5848560" cy="1510920"/>
          </a:xfrm>
          <a:prstGeom prst="ellipse">
            <a:avLst/>
          </a:prstGeom>
          <a:gradFill rotWithShape="0">
            <a:gsLst>
              <a:gs pos="0">
                <a:srgbClr val="ffff85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ила личной гигие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0" y="1628640"/>
            <a:ext cx="2206440" cy="1596960"/>
            <a:chOff x="0" y="1628640"/>
            <a:chExt cx="2206440" cy="1596960"/>
          </a:xfrm>
        </p:grpSpPr>
        <p:sp>
          <p:nvSpPr>
            <p:cNvPr id="219" name=""/>
            <p:cNvSpPr/>
            <p:nvPr/>
          </p:nvSpPr>
          <p:spPr>
            <a:xfrm>
              <a:off x="0" y="1857240"/>
              <a:ext cx="1369800" cy="106344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0" y="0"/>
                  </a:moveTo>
                  <a:lnTo>
                    <a:pt x="863" y="526"/>
                  </a:lnTo>
                  <a:lnTo>
                    <a:pt x="863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1628640"/>
              <a:ext cx="2206440" cy="136836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0" y="144"/>
                  </a:moveTo>
                  <a:lnTo>
                    <a:pt x="336" y="0"/>
                  </a:lnTo>
                  <a:lnTo>
                    <a:pt x="1151" y="479"/>
                  </a:lnTo>
                  <a:lnTo>
                    <a:pt x="1390" y="335"/>
                  </a:lnTo>
                  <a:lnTo>
                    <a:pt x="1390" y="766"/>
                  </a:lnTo>
                  <a:lnTo>
                    <a:pt x="576" y="862"/>
                  </a:lnTo>
                  <a:lnTo>
                    <a:pt x="863" y="67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4400" y="2844360"/>
              <a:ext cx="1292040" cy="38124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0" y="96"/>
                  </a:moveTo>
                  <a:lnTo>
                    <a:pt x="814" y="0"/>
                  </a:lnTo>
                  <a:lnTo>
                    <a:pt x="814" y="144"/>
                  </a:lnTo>
                  <a:lnTo>
                    <a:pt x="0" y="24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477120" y="1832040"/>
            <a:ext cx="2206440" cy="1596960"/>
            <a:chOff x="6477120" y="1832040"/>
            <a:chExt cx="2206440" cy="1596960"/>
          </a:xfrm>
        </p:grpSpPr>
        <p:sp>
          <p:nvSpPr>
            <p:cNvPr id="223" name=""/>
            <p:cNvSpPr/>
            <p:nvPr/>
          </p:nvSpPr>
          <p:spPr>
            <a:xfrm>
              <a:off x="7313760" y="2060640"/>
              <a:ext cx="1369800" cy="106344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863" y="0"/>
                  </a:moveTo>
                  <a:lnTo>
                    <a:pt x="0" y="526"/>
                  </a:lnTo>
                  <a:lnTo>
                    <a:pt x="0" y="670"/>
                  </a:lnTo>
                  <a:lnTo>
                    <a:pt x="863" y="143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77120" y="1832040"/>
              <a:ext cx="2206440" cy="136836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1390" y="144"/>
                  </a:moveTo>
                  <a:lnTo>
                    <a:pt x="1054" y="0"/>
                  </a:lnTo>
                  <a:lnTo>
                    <a:pt x="239" y="479"/>
                  </a:lnTo>
                  <a:lnTo>
                    <a:pt x="0" y="335"/>
                  </a:lnTo>
                  <a:lnTo>
                    <a:pt x="0" y="766"/>
                  </a:lnTo>
                  <a:lnTo>
                    <a:pt x="814" y="862"/>
                  </a:lnTo>
                  <a:lnTo>
                    <a:pt x="527" y="670"/>
                  </a:lnTo>
                  <a:lnTo>
                    <a:pt x="139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77120" y="3047760"/>
              <a:ext cx="1292040" cy="38124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814" y="96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814" y="240"/>
                  </a:lnTo>
                  <a:lnTo>
                    <a:pt x="814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57200" y="4046400"/>
            <a:ext cx="2736720" cy="2430360"/>
            <a:chOff x="457200" y="4046400"/>
            <a:chExt cx="2736720" cy="2430360"/>
          </a:xfrm>
        </p:grpSpPr>
        <p:sp>
          <p:nvSpPr>
            <p:cNvPr id="227" name=""/>
            <p:cNvSpPr/>
            <p:nvPr/>
          </p:nvSpPr>
          <p:spPr>
            <a:xfrm>
              <a:off x="1063440" y="4798800"/>
              <a:ext cx="1751040" cy="1677960"/>
            </a:xfrm>
            <a:custGeom>
              <a:avLst/>
              <a:gdLst/>
              <a:ahLst/>
              <a:rect l="l" t="t" r="r" b="b"/>
              <a:pathLst>
                <a:path w="1103" h="1057">
                  <a:moveTo>
                    <a:pt x="0" y="794"/>
                  </a:moveTo>
                  <a:lnTo>
                    <a:pt x="0" y="1057"/>
                  </a:lnTo>
                  <a:lnTo>
                    <a:pt x="1103" y="159"/>
                  </a:lnTo>
                  <a:lnTo>
                    <a:pt x="1103" y="0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00080" y="4046400"/>
              <a:ext cx="381240" cy="501480"/>
            </a:xfrm>
            <a:custGeom>
              <a:avLst/>
              <a:gdLst/>
              <a:ahLst/>
              <a:rect l="l" t="t" r="r" b="b"/>
              <a:pathLst>
                <a:path w="240" h="316">
                  <a:moveTo>
                    <a:pt x="240" y="157"/>
                  </a:moveTo>
                  <a:lnTo>
                    <a:pt x="240" y="316"/>
                  </a:lnTo>
                  <a:lnTo>
                    <a:pt x="0" y="122"/>
                  </a:lnTo>
                  <a:lnTo>
                    <a:pt x="0" y="0"/>
                  </a:lnTo>
                  <a:lnTo>
                    <a:pt x="240" y="157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" y="4046400"/>
              <a:ext cx="2736720" cy="2012760"/>
            </a:xfrm>
            <a:custGeom>
              <a:avLst/>
              <a:gdLst/>
              <a:ahLst/>
              <a:rect l="l" t="t" r="r" b="b"/>
              <a:pathLst>
                <a:path w="1724" h="1268">
                  <a:moveTo>
                    <a:pt x="0" y="792"/>
                  </a:moveTo>
                  <a:lnTo>
                    <a:pt x="1149" y="157"/>
                  </a:lnTo>
                  <a:lnTo>
                    <a:pt x="909" y="0"/>
                  </a:lnTo>
                  <a:lnTo>
                    <a:pt x="1676" y="51"/>
                  </a:lnTo>
                  <a:lnTo>
                    <a:pt x="1724" y="686"/>
                  </a:lnTo>
                  <a:lnTo>
                    <a:pt x="1485" y="474"/>
                  </a:lnTo>
                  <a:lnTo>
                    <a:pt x="382" y="1268"/>
                  </a:lnTo>
                  <a:lnTo>
                    <a:pt x="0" y="79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5303520"/>
              <a:ext cx="606240" cy="1173240"/>
            </a:xfrm>
            <a:custGeom>
              <a:avLst/>
              <a:gdLst/>
              <a:ahLst/>
              <a:rect l="l" t="t" r="r" b="b"/>
              <a:pathLst>
                <a:path w="382" h="739">
                  <a:moveTo>
                    <a:pt x="0" y="0"/>
                  </a:moveTo>
                  <a:lnTo>
                    <a:pt x="382" y="476"/>
                  </a:lnTo>
                  <a:lnTo>
                    <a:pt x="382" y="739"/>
                  </a:lnTo>
                  <a:lnTo>
                    <a:pt x="0" y="2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14480" y="4798800"/>
              <a:ext cx="379440" cy="620640"/>
            </a:xfrm>
            <a:custGeom>
              <a:avLst/>
              <a:gdLst/>
              <a:ahLst/>
              <a:rect l="l" t="t" r="r" b="b"/>
              <a:pathLst>
                <a:path w="239" h="391">
                  <a:moveTo>
                    <a:pt x="0" y="0"/>
                  </a:moveTo>
                  <a:lnTo>
                    <a:pt x="0" y="159"/>
                  </a:lnTo>
                  <a:lnTo>
                    <a:pt x="239" y="391"/>
                  </a:lnTo>
                  <a:lnTo>
                    <a:pt x="239" y="2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492880" y="4046400"/>
            <a:ext cx="2736720" cy="2430360"/>
            <a:chOff x="5492880" y="4046400"/>
            <a:chExt cx="2736720" cy="2430360"/>
          </a:xfrm>
        </p:grpSpPr>
        <p:sp>
          <p:nvSpPr>
            <p:cNvPr id="233" name=""/>
            <p:cNvSpPr/>
            <p:nvPr/>
          </p:nvSpPr>
          <p:spPr>
            <a:xfrm>
              <a:off x="5872320" y="4798800"/>
              <a:ext cx="1751040" cy="1677960"/>
            </a:xfrm>
            <a:custGeom>
              <a:avLst/>
              <a:gdLst/>
              <a:ahLst/>
              <a:rect l="l" t="t" r="r" b="b"/>
              <a:pathLst>
                <a:path w="1103" h="1057">
                  <a:moveTo>
                    <a:pt x="1103" y="794"/>
                  </a:moveTo>
                  <a:lnTo>
                    <a:pt x="1103" y="1057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1103" y="794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5480" y="4046400"/>
              <a:ext cx="381240" cy="501480"/>
            </a:xfrm>
            <a:custGeom>
              <a:avLst/>
              <a:gdLst/>
              <a:ahLst/>
              <a:rect l="l" t="t" r="r" b="b"/>
              <a:pathLst>
                <a:path w="240" h="316">
                  <a:moveTo>
                    <a:pt x="0" y="157"/>
                  </a:moveTo>
                  <a:lnTo>
                    <a:pt x="0" y="316"/>
                  </a:lnTo>
                  <a:lnTo>
                    <a:pt x="240" y="122"/>
                  </a:lnTo>
                  <a:lnTo>
                    <a:pt x="240" y="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92880" y="4046400"/>
              <a:ext cx="2736720" cy="2012760"/>
            </a:xfrm>
            <a:custGeom>
              <a:avLst/>
              <a:gdLst/>
              <a:ahLst/>
              <a:rect l="l" t="t" r="r" b="b"/>
              <a:pathLst>
                <a:path w="1724" h="1268">
                  <a:moveTo>
                    <a:pt x="1724" y="792"/>
                  </a:moveTo>
                  <a:lnTo>
                    <a:pt x="575" y="157"/>
                  </a:lnTo>
                  <a:lnTo>
                    <a:pt x="815" y="0"/>
                  </a:lnTo>
                  <a:lnTo>
                    <a:pt x="48" y="51"/>
                  </a:lnTo>
                  <a:lnTo>
                    <a:pt x="0" y="686"/>
                  </a:lnTo>
                  <a:lnTo>
                    <a:pt x="239" y="474"/>
                  </a:lnTo>
                  <a:lnTo>
                    <a:pt x="1342" y="1268"/>
                  </a:lnTo>
                  <a:lnTo>
                    <a:pt x="1724" y="79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23360" y="5303520"/>
              <a:ext cx="606240" cy="1173240"/>
            </a:xfrm>
            <a:custGeom>
              <a:avLst/>
              <a:gdLst/>
              <a:ahLst/>
              <a:rect l="l" t="t" r="r" b="b"/>
              <a:pathLst>
                <a:path w="382" h="739">
                  <a:moveTo>
                    <a:pt x="382" y="0"/>
                  </a:moveTo>
                  <a:lnTo>
                    <a:pt x="0" y="476"/>
                  </a:lnTo>
                  <a:lnTo>
                    <a:pt x="0" y="739"/>
                  </a:lnTo>
                  <a:lnTo>
                    <a:pt x="382" y="237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92880" y="4798800"/>
              <a:ext cx="379440" cy="620640"/>
            </a:xfrm>
            <a:custGeom>
              <a:avLst/>
              <a:gdLst/>
              <a:ahLst/>
              <a:rect l="l" t="t" r="r" b="b"/>
              <a:pathLst>
                <a:path w="239" h="391">
                  <a:moveTo>
                    <a:pt x="239" y="0"/>
                  </a:moveTo>
                  <a:lnTo>
                    <a:pt x="239" y="159"/>
                  </a:lnTo>
                  <a:lnTo>
                    <a:pt x="0" y="391"/>
                  </a:lnTo>
                  <a:lnTo>
                    <a:pt x="0" y="212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768760" y="899280"/>
            <a:ext cx="2535120" cy="2237040"/>
            <a:chOff x="2768760" y="899280"/>
            <a:chExt cx="2535120" cy="2237040"/>
          </a:xfrm>
        </p:grpSpPr>
        <p:sp>
          <p:nvSpPr>
            <p:cNvPr id="239" name=""/>
            <p:cNvSpPr/>
            <p:nvPr/>
          </p:nvSpPr>
          <p:spPr>
            <a:xfrm rot="1159200">
              <a:off x="2931480" y="1311480"/>
              <a:ext cx="1369800" cy="106344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0" y="0"/>
                  </a:moveTo>
                  <a:lnTo>
                    <a:pt x="863" y="526"/>
                  </a:lnTo>
                  <a:lnTo>
                    <a:pt x="863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159200">
              <a:off x="2932920" y="1225440"/>
              <a:ext cx="2206440" cy="136836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0" y="144"/>
                  </a:moveTo>
                  <a:lnTo>
                    <a:pt x="336" y="0"/>
                  </a:lnTo>
                  <a:lnTo>
                    <a:pt x="1151" y="479"/>
                  </a:lnTo>
                  <a:lnTo>
                    <a:pt x="1390" y="335"/>
                  </a:lnTo>
                  <a:lnTo>
                    <a:pt x="1390" y="766"/>
                  </a:lnTo>
                  <a:lnTo>
                    <a:pt x="576" y="862"/>
                  </a:lnTo>
                  <a:lnTo>
                    <a:pt x="863" y="67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159200">
              <a:off x="3582720" y="2551680"/>
              <a:ext cx="1292040" cy="38124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0" y="96"/>
                  </a:moveTo>
                  <a:lnTo>
                    <a:pt x="814" y="0"/>
                  </a:lnTo>
                  <a:lnTo>
                    <a:pt x="814" y="144"/>
                  </a:lnTo>
                  <a:lnTo>
                    <a:pt x="0" y="24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2982960" y="184320"/>
            <a:ext cx="4687920" cy="509400"/>
          </a:xfrm>
          <a:prstGeom prst="roundRect">
            <a:avLst>
              <a:gd name="adj" fmla="val 1666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хаживать за зуб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3160" y="777960"/>
            <a:ext cx="2549520" cy="1320120"/>
          </a:xfrm>
          <a:prstGeom prst="roundRect">
            <a:avLst>
              <a:gd name="adj" fmla="val 1666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ыть руки перед ед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75240" y="963720"/>
            <a:ext cx="3684600" cy="1724760"/>
          </a:xfrm>
          <a:prstGeom prst="roundRect">
            <a:avLst>
              <a:gd name="adj" fmla="val 1666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реже одного раза в неделю мыться горячей вод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760" y="4867200"/>
            <a:ext cx="3068640" cy="1936080"/>
          </a:xfrm>
          <a:prstGeom prst="roundRect">
            <a:avLst>
              <a:gd name="adj" fmla="val 1666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хаживать за ногтями и волос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80200" y="4799160"/>
            <a:ext cx="2863800" cy="1969560"/>
          </a:xfrm>
          <a:prstGeom prst="roundRect">
            <a:avLst>
              <a:gd name="adj" fmla="val 1666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держать в чистоте одежду и обувь, помещение, где ты живё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763120" y="6553080"/>
            <a:ext cx="380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2771640" y="476280"/>
            <a:ext cx="3753000" cy="22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минут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54886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8:10:10Z</dcterms:created>
  <dc:creator>ГУЗЕЛЬ</dc:creator>
  <dc:description/>
  <dc:language>en-US</dc:language>
  <cp:lastModifiedBy>ГУЗЕЛЬ</cp:lastModifiedBy>
  <dcterms:modified xsi:type="dcterms:W3CDTF">2009-02-07T19:41:54Z</dcterms:modified>
  <cp:revision>8</cp:revision>
  <dc:subject/>
  <dc:title>Если хочешь быть здоров.</dc:title>
</cp:coreProperties>
</file>