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D72-E61D-4225-806B-15B07A86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256-49A3-45D3-86BF-7B7B510E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4A5-012B-4C83-BE14-C3306820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3FC-E037-4CB3-A5CB-248EC2FC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B9A-5477-4F30-AD64-8CC198E0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A62-8938-4D59-AD35-6425E0EE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206-423A-479D-946A-93A2EE37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546-74C9-41EE-BF39-9F031E33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3F6-2319-4C5C-9684-95E92F0F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C68-8E9D-4D3D-9C49-13C8682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B3D-C997-4CF0-A356-BE97EE1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DE5-36E1-4084-9336-C1147F3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5BD2-478C-476A-A6CB-1C6C7A9C5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544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2:34:28Z</dcterms:created>
  <dc:creator>База</dc:creator>
  <dc:description/>
  <dc:language>en-US</dc:language>
  <cp:lastModifiedBy>База</cp:lastModifiedBy>
  <dcterms:modified xsi:type="dcterms:W3CDTF">2011-03-10T02:34:28Z</dcterms:modified>
  <cp:revision>1</cp:revision>
  <dc:subject/>
  <dc:title>Слайд 1</dc:title>
</cp:coreProperties>
</file>