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464-7ED7-4686-A945-D95BA820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389-BD11-4F59-9AB2-F3F9DC6B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221-87D4-439E-9E8E-454049CA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7C5-B689-4C79-8904-646791AA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6EAA-B343-4A0C-BB39-CE9E06A7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3A72-5BFA-4D3C-8132-171D3631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371B-0F3E-4949-B61A-2467720A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22C7-68B8-43AE-A2C3-B5AD896B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4446-A50A-41C7-A699-DFA864CE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4266-14A2-4C33-A3C5-309D272A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0726-3B0B-4713-9C3B-EC8FE68E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052-EB75-4547-8736-E2B2D260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8C17-1D87-48DE-A82C-B8AFE0E9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A1E2-5EFF-4FD9-A5FB-6AF7E6B4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8E40-26B9-4CEE-833A-C34A3F16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E0DD-CD1D-4282-9E4A-86FAE8AF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15DE-5B4C-47AA-A2DD-9F6DDCD6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C577D-B3A3-46AB-B686-CE3E3D1F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25637-6D71-4209-B6C6-733732E8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C55EC-479E-4053-94DF-6D824B26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FA9BE-0045-4F99-8637-6CD36C4D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35102-C0AA-41FA-B961-06FA3536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10E-4F7F-448E-A66F-5338E1F8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94D7-1C67-4AC9-B4AC-17754561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9C00-7AB6-48AD-A4D5-9C80F7B0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72CB-4D94-4D8F-B570-4E3EBD13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8C01A-1CC3-48AB-8B00-FBBB88E9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E0D4D-3C21-4D9B-A5D2-F4DE6502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4EE57-0532-4D52-BFF5-4C349CC5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1ECC-16C6-4B8A-B74B-13FA0CB1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8F041-94EA-48A9-8DDA-05299C9D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CAD54-783C-489C-9BF5-0A4AA48E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1D893-6ABC-4B09-9159-9CC3229A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B97-D606-4718-BBC1-883FE0D9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437A-5E7F-4C47-AE3D-70830A7D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3B233-E75E-4602-9792-1503A442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2D8E4-948E-4B62-9FAF-69C695BB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3C4F1-5E8B-48F5-B97B-5140F93C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F663F-6947-49EF-B53F-1B52AB6B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B369E-1384-428C-BE1C-80CFA4AF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F1E9A-EE35-46E4-9F9B-3EC342A1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E344B-7E90-4DF8-B642-86946C2F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95D8E-8445-42F1-8B6C-DBAFD27A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96FF9-4293-456B-A77E-28758D2D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0A6-9F7F-4454-AB74-F3353F16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E7F0B-D206-4484-8D7A-8B469982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FB889-40DF-4BEC-91C9-B7965D9B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23CB6-9601-49E3-A13B-268B7967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4D687-0FC3-4E94-AF03-A110264E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AC7D8-D9A0-43BC-B988-E2E10BF6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55185-DA72-4797-BEBD-A06503EC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F8627-48AB-4D74-AE33-9B31DCE5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C5045-64B1-43FC-9469-6C3E12ED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FE4B4-3800-4E87-9A44-48F11616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6EECA-E428-4323-8AB5-8AA9C375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092-C833-45C9-9D0C-B5EA7CF9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FA6A3-F0EE-4AB0-B955-61D3C753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6F5D-D7E6-49FE-A83B-34C57FCC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BEC-752F-46F7-A4B7-A68EF19F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BA5-3FFA-4A47-8219-CD871972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5AF1-8A80-4AD4-91E3-0F79DA634DA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1A11-9C73-4E1C-BE86-972FF3A43ED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32CF-364B-4483-8DAF-715BC8A9B4A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6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50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182A-C008-4848-8730-A1195DFD841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E64A-D1A9-429B-97E9-276A59D7E58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penclass.ru/lessons/115423" TargetMode="External"/><Relationship Id="rId3" Type="http://schemas.openxmlformats.org/officeDocument/2006/relationships/hyperlink" Target="http://www.openclass.ru/lessons/115423" TargetMode="External"/><Relationship Id="rId4" Type="http://schemas.openxmlformats.org/officeDocument/2006/relationships/hyperlink" Target="http://www.openclass.ru/lessons/115423" TargetMode="External"/><Relationship Id="rId5" Type="http://schemas.openxmlformats.org/officeDocument/2006/relationships/hyperlink" Target="http://www.openclass.ru/lessons/115423" TargetMode="External"/><Relationship Id="rId6" Type="http://schemas.openxmlformats.org/officeDocument/2006/relationships/hyperlink" Target="http://www.openclass.ru/lessons/115423" TargetMode="External"/><Relationship Id="rId7" Type="http://schemas.openxmlformats.org/officeDocument/2006/relationships/hyperlink" Target="http://www.openclass.ru/lessons/115423" TargetMode="External"/><Relationship Id="rId8" Type="http://schemas.openxmlformats.org/officeDocument/2006/relationships/hyperlink" Target="http://www.openclass.ru/dig-resource/116998" TargetMode="External"/><Relationship Id="rId9" Type="http://schemas.openxmlformats.org/officeDocument/2006/relationships/hyperlink" Target="http://www.openclass.ru/dig-resource/116998" TargetMode="External"/><Relationship Id="rId10" Type="http://schemas.openxmlformats.org/officeDocument/2006/relationships/hyperlink" Target="http://www.openclass.ru/dig-resource/116998" TargetMode="External"/><Relationship Id="rId11" Type="http://schemas.openxmlformats.org/officeDocument/2006/relationships/hyperlink" Target="http://www.openclass.ru/dig-resource/116998" TargetMode="External"/><Relationship Id="rId12" Type="http://schemas.openxmlformats.org/officeDocument/2006/relationships/hyperlink" Target="http://www.openclass.ru/dig-resource/116998" TargetMode="External"/><Relationship Id="rId13" Type="http://schemas.openxmlformats.org/officeDocument/2006/relationships/hyperlink" Target="http://www.openclass.ru/dig-resource/116998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penclass.ru/community/88393" TargetMode="External"/><Relationship Id="rId3" Type="http://schemas.openxmlformats.org/officeDocument/2006/relationships/hyperlink" Target="http://www.openclass.ru/community/88393" TargetMode="External"/><Relationship Id="rId4" Type="http://schemas.openxmlformats.org/officeDocument/2006/relationships/hyperlink" Target="http://www.openclass.ru/community/88393" TargetMode="External"/><Relationship Id="rId5" Type="http://schemas.openxmlformats.org/officeDocument/2006/relationships/hyperlink" Target="http://www.openclass.ru/community/88393" TargetMode="External"/><Relationship Id="rId6" Type="http://schemas.openxmlformats.org/officeDocument/2006/relationships/hyperlink" Target="http://www.openclass.ru/community/88393" TargetMode="External"/><Relationship Id="rId7" Type="http://schemas.openxmlformats.org/officeDocument/2006/relationships/hyperlink" Target="http://www.openclass.ru/community/88393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997560" y="1076760"/>
            <a:ext cx="7606080" cy="15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МАОУ </a:t>
            </a:r>
            <a:br>
              <a:rPr sz="32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«СРЕДНЯЯ ОБЩЕОБРАЗОВАТЕЛЬНАЯ ШКОЛА №1 имени Н.А.НЕКРАСОВА»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                                            г. ЧУДОВО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006666"/>
                </a:solidFill>
                <a:latin typeface="Arial"/>
              </a:rPr>
              <a:t>Портфолио</a:t>
            </a:r>
            <a:r>
              <a:rPr b="0" lang="ru-RU" sz="33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Текст 29"/>
          <p:cNvGraphicFramePr/>
          <p:nvPr/>
        </p:nvGraphicFramePr>
        <p:xfrm>
          <a:off x="457200" y="3052800"/>
          <a:ext cx="4038480" cy="21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Текст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52800"/>
                    <a:ext cx="403848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Результативность обучения учащихся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по русскому языку и литературе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за 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2009-2010</a:t>
            </a: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 учебный год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826920" y="1468440"/>
          <a:ext cx="7859880" cy="4481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1468440"/>
                    <a:ext cx="785988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Результативность обучения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 учащихся</a:t>
            </a: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по информатик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0" name="Текст 29"/>
          <p:cNvGraphicFramePr/>
          <p:nvPr/>
        </p:nvGraphicFramePr>
        <p:xfrm>
          <a:off x="395280" y="1935000"/>
          <a:ext cx="8280360" cy="438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1" name="Текст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935000"/>
                    <a:ext cx="828036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Результативность участия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в профессиональных конкурсах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-2009 учебный год – Конкурс ИКТ учителей района –   Диплом за участ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-2010 учебный год – Конкурс ИКТ учителей района – Лауреат 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Награды и дости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28004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ётный работник общего образов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Юбилейная медал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В память 1150-летия Великого Новгород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Визитная карточ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7624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ЛИТ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мила Алексеевна 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русского языка, литературы и информати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ж работы – 38 л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шая К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гогическое кредо: учить все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иков по мере их возможностей и способностей, учить не мыслям, а мыслит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 традиционные технологии, проблемного и развивающего обуч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3960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Образование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196640"/>
            <a:ext cx="7859880" cy="51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шее. Благовещенский государственный педагогический институт имени М.И.Калинина, 1972 го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рсы повышения квалифик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50920" y="2781360"/>
          <a:ext cx="8713800" cy="3294000"/>
        </p:xfrm>
        <a:graphic>
          <a:graphicData uri="http://schemas.openxmlformats.org/drawingml/2006/table">
            <a:tbl>
              <a:tblPr/>
              <a:tblGrid>
                <a:gridCol w="446040"/>
                <a:gridCol w="3557520"/>
                <a:gridCol w="1522440"/>
                <a:gridCol w="1243080"/>
                <a:gridCol w="865080"/>
                <a:gridCol w="1079640"/>
              </a:tblGrid>
              <a:tr h="78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 кур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од прох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видет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ль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ременные развивающие технологии на уроках русского языка и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Ц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ирование организационно-педагогических условий предпрофильной подготовки и профильно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Ц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е технологии в деятельности учителя-предме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Ц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ременные подходы преподавания курса «Информатика и ИК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Ц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Дидактические разработки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980640"/>
            <a:ext cx="8686800" cy="53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роки-лекции по информатике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www.openclass.ru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6"/>
              </a:rPr>
              <a:t>lessons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7"/>
              </a:rPr>
              <a:t>/115423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ы счисл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0"/>
              </a:rPr>
              <a:t>www.openclass.ru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2"/>
              </a:rPr>
              <a:t>dig-resource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3"/>
              </a:rPr>
              <a:t>/11699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ллюстративный материал по МХК: Развитие русской культ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openclass.ru/dig-resource/11699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Некрасовской неделе: «Я лиру посвятил народу своему…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неклассная работа: Деятельность и общение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openclass.ru/dig-resource/13737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вреде кур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пекты открытых урок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роки по развитию речи: Времена го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Групповая работа на уроках литературы в старших классах по темам: Лирика А.А.Блока, С.А.Есенина, Анализ эпизода по роману А.А.Фадеева «Разгром», повести М.А.Булгакова «Собачье сердце», А.Н.Толстого «Петр Первый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Метод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0" y="1413000"/>
          <a:ext cx="9144000" cy="5444640"/>
        </p:xfrm>
        <a:graphic>
          <a:graphicData uri="http://schemas.openxmlformats.org/drawingml/2006/table">
            <a:tbl>
              <a:tblPr/>
              <a:tblGrid>
                <a:gridCol w="295200"/>
                <a:gridCol w="1468440"/>
                <a:gridCol w="1728720"/>
                <a:gridCol w="1943280"/>
                <a:gridCol w="1468440"/>
                <a:gridCol w="2239920"/>
              </a:tblGrid>
              <a:tr h="109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а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орма сотрудни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ид и уровень методической служ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раткий вывод об эффективности учас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3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обация учебника русского языка под редакцией С.И.Львов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уждение те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ьное, районное МО, переписка с учителями в сообществе «Открытый класс»: сообщество учителей литературы -</a:t>
                      </a:r>
                      <a:r>
                        <a:rPr b="0" lang="ru-RU" sz="1400" spc="-1" strike="noStrike" u="sng">
                          <a:solidFill>
                            <a:srgbClr val="e2d700"/>
                          </a:solidFill>
                          <a:uFillTx/>
                          <a:latin typeface="Arial"/>
                          <a:hlinkClick r:id="rId2"/>
                        </a:rPr>
                        <a:t>http</a:t>
                      </a:r>
                      <a:r>
                        <a:rPr b="0" lang="ru-RU" sz="1400" spc="-1" strike="noStrike" u="sng">
                          <a:solidFill>
                            <a:srgbClr val="e2d700"/>
                          </a:solidFill>
                          <a:uFillTx/>
                          <a:latin typeface="Arial"/>
                          <a:hlinkClick r:id="rId3"/>
                        </a:rPr>
                        <a:t>://</a:t>
                      </a:r>
                      <a:r>
                        <a:rPr b="0" lang="ru-RU" sz="1400" spc="-1" strike="noStrike" u="sng">
                          <a:solidFill>
                            <a:srgbClr val="e2d700"/>
                          </a:solidFill>
                          <a:uFillTx/>
                          <a:latin typeface="Arial"/>
                          <a:hlinkClick r:id="rId4"/>
                        </a:rPr>
                        <a:t>www.openclass.ru</a:t>
                      </a:r>
                      <a:r>
                        <a:rPr b="0" lang="ru-RU" sz="1400" spc="-1" strike="noStrike" u="sng">
                          <a:solidFill>
                            <a:srgbClr val="e2d700"/>
                          </a:solidFill>
                          <a:uFillTx/>
                          <a:latin typeface="Arial"/>
                          <a:hlinkClick r:id="rId5"/>
                        </a:rPr>
                        <a:t>/</a:t>
                      </a:r>
                      <a:r>
                        <a:rPr b="0" lang="ru-RU" sz="1400" spc="-1" strike="noStrike" u="sng">
                          <a:solidFill>
                            <a:srgbClr val="e2d700"/>
                          </a:solidFill>
                          <a:uFillTx/>
                          <a:latin typeface="Arial"/>
                          <a:hlinkClick r:id="rId6"/>
                        </a:rPr>
                        <a:t>community</a:t>
                      </a:r>
                      <a:r>
                        <a:rPr b="0" lang="ru-RU" sz="1400" spc="-1" strike="noStrike" u="sng">
                          <a:solidFill>
                            <a:srgbClr val="e2d700"/>
                          </a:solidFill>
                          <a:uFillTx/>
                          <a:latin typeface="Arial"/>
                          <a:hlinkClick r:id="rId7"/>
                        </a:rPr>
                        <a:t>/8839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ПК -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openclass.ru/community/103338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 длится второй год, проводится диагностика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есная работа по развитию речи, межпредметным связям, изучения тем «Культура речи», «Словообразовани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914400" y="0"/>
            <a:ext cx="822960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457200" y="1197000"/>
          <a:ext cx="8507520" cy="5486400"/>
        </p:xfrm>
        <a:graphic>
          <a:graphicData uri="http://schemas.openxmlformats.org/drawingml/2006/table">
            <a:tbl>
              <a:tblPr/>
              <a:tblGrid>
                <a:gridCol w="1257480"/>
                <a:gridCol w="2431800"/>
                <a:gridCol w="1579680"/>
                <a:gridCol w="1293840"/>
                <a:gridCol w="1944720"/>
              </a:tblGrid>
              <a:tr h="14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онкурса,       предмет олимпиа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заявленных участников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2009-2010  учебный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 – олимпиада по русскому язы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 – конкурс чтец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 – «Русский медвежоно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2, 3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 – 1,5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2010-2011 учебный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 классы – олимпиада по русскому язы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 классы – конкурс чтец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 классы - «Русский медвежоно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 классы – «Золотое рун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 – 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 –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 – 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 –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 –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 –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 –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 – 1, 2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 – 1, 2, 3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 – 2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 – 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– 1,2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 – 9 мест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1"/>
          <p:cNvSpPr/>
          <p:nvPr/>
        </p:nvSpPr>
        <p:spPr>
          <a:xfrm>
            <a:off x="0" y="378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Внеклассн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9280" y="1413000"/>
          <a:ext cx="8496360" cy="4867200"/>
        </p:xfrm>
        <a:graphic>
          <a:graphicData uri="http://schemas.openxmlformats.org/drawingml/2006/table">
            <a:tbl>
              <a:tblPr/>
              <a:tblGrid>
                <a:gridCol w="1114560"/>
                <a:gridCol w="2082600"/>
                <a:gridCol w="2435400"/>
                <a:gridCol w="1297080"/>
                <a:gridCol w="1566720"/>
              </a:tblGrid>
              <a:tr h="659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с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зы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а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ая викторина в рамках Некрасовской неде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вать учащимся  интерес к творчеству Н.А.Некр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чается активность ребя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а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ая игра  по повести А.С.Пушкина «Дубровский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мировать у учащихся внимательное отношение к детали в художественном произведении,  её роли в идейно-образной структуре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вершенствовать навыки этичного межличностного обще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проводилась в форме соревнования команд. Ученики показали знание текста и стремление к побед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96984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468360" y="1557360"/>
          <a:ext cx="8424720" cy="4459320"/>
        </p:xfrm>
        <a:graphic>
          <a:graphicData uri="http://schemas.openxmlformats.org/drawingml/2006/table">
            <a:tbl>
              <a:tblPr/>
              <a:tblGrid>
                <a:gridCol w="1181160"/>
                <a:gridCol w="1257120"/>
                <a:gridCol w="1109880"/>
                <a:gridCol w="1203120"/>
                <a:gridCol w="1368360"/>
                <a:gridCol w="863640"/>
                <a:gridCol w="1441440"/>
              </a:tblGrid>
              <a:tr h="136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чащихся, обучающихся на «4» и «5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чащихся, подтвердивших хорошие и отличные отметки при переходе в следующий клас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по предм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независимой эксперти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 учебный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шность  - 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- 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 учебный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лит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-2011 учебный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 кла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лит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 учебный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 кла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 учебный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10 кла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-2011 учебный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 кла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Результативность обучения учащихся (за три года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Результативность обучения учащихся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 по русскому языку и литературе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за 2008-2009 учебный год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2" name="Текст 29"/>
          <p:cNvGraphicFramePr/>
          <p:nvPr/>
        </p:nvGraphicFramePr>
        <p:xfrm>
          <a:off x="826920" y="1628640"/>
          <a:ext cx="7345440" cy="4372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3" name="Текст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628640"/>
                    <a:ext cx="734544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05:49:22Z</dcterms:created>
  <dc:creator>user</dc:creator>
  <dc:description/>
  <dc:language>en-US</dc:language>
  <cp:lastModifiedBy>Пользователь</cp:lastModifiedBy>
  <dcterms:modified xsi:type="dcterms:W3CDTF">2011-02-24T07:14:35Z</dcterms:modified>
  <cp:revision>25</cp:revision>
  <dc:subject/>
  <dc:title>МАОУ «Средняя общеобразовательная школа №1 им. Н.А.Некрасова» </dc:title>
</cp:coreProperties>
</file>