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32C-F4EB-47B2-9375-83DE85E4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3EE-A004-467F-995C-9CBB6A8C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8B3-3BFD-4484-B451-C195CF46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671-AA7D-4B40-887E-4F1210E8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B202-421A-4CAE-9033-9C6ED08A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B0E4-724F-4FCC-8CB0-B777A745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0045-1338-4565-9387-278C7427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F1C6-C7F0-40C7-863F-519C2213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8AA7-F133-489B-A436-B1EC7C3F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-92520"/>
            <a:ext cx="8383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BCB6-A9F8-412F-8E38-60AB9751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511D-3A70-44F3-917F-36298230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879-C6DA-42F9-ACC1-20451240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4B1E-523D-48F5-B6C2-986B7BDA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401B-B434-423D-8649-2935DD6F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EB6A-F9BB-4710-A70E-F184F008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2916-0C1E-478B-8A81-F5A3BAB4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140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140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9F34-FEAB-4201-ABA6-7630413A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D97-5E6F-41E0-B499-459A2D1A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0E4-FE3A-497D-9BFB-81266DAD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CC3-7BE9-47C6-BBB9-5F960C7A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92520"/>
            <a:ext cx="8383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95A6-E33F-4300-923E-977FBC67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0D2-21DC-414C-A0D3-1A166914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D15-93AB-4C0D-A747-6CF33DB6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A57-1222-4F5E-8509-E084EAE4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D54341-CAAC-40A0-8E56-C5AE5E2E666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EDD455-87CB-48C8-A883-F776C73C6041}" type="slidenum">
              <a:rPr b="0" lang="en-GB" sz="1400" spc="-1" strike="noStrike">
                <a:solidFill>
                  <a:srgbClr val="ffffff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Arial Black"/>
              </a:rPr>
              <a:t>Тема урока:</a:t>
            </a:r>
            <a:r>
              <a:rPr b="1" lang="en-GB" sz="4800" spc="-1" strike="noStrike">
                <a:solidFill>
                  <a:srgbClr val="cc0099"/>
                </a:solidFill>
                <a:latin typeface="Arial Black"/>
              </a:rPr>
              <a:t> </a:t>
            </a:r>
            <a:br>
              <a:rPr sz="4800"/>
            </a:br>
            <a:r>
              <a:rPr b="1" lang="en-GB" sz="4400" spc="-1" strike="noStrike">
                <a:solidFill>
                  <a:srgbClr val="cc0099"/>
                </a:solidFill>
                <a:latin typeface="Arial Black"/>
              </a:rPr>
              <a:t>«Расчет и построение чертежа фартука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53560" y="2519280"/>
            <a:ext cx="80074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) Способствовать формированию и развитию навыков по построению и оформлению чертежей швейных издел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) Ознакомить учащихся с приемами расчета конструкции, правилами и последовательностью выполнения чертежа фартук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) Способствовать развитию пространственного мышления и воображения у дет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Arial Black"/>
              </a:rPr>
              <a:t>Построение  фартука</a:t>
            </a:r>
            <a:br>
              <a:rPr sz="4000"/>
            </a:b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(боковой срез нагрудника)</a:t>
            </a: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519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7. (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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  В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и Т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соединить прям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лин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279600" cy="4800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H="1">
            <a:off x="7234200" y="1757520"/>
            <a:ext cx="162000" cy="1131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52440"/>
            <a:ext cx="838512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99"/>
                </a:solidFill>
                <a:latin typeface="Arial Black"/>
              </a:rPr>
              <a:t>Построение  фартука</a:t>
            </a:r>
            <a:br>
              <a:rPr sz="4000"/>
            </a:b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(положение кармана)</a:t>
            </a: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.  ТК = 7 см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895480"/>
            <a:ext cx="180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387600" cy="4953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077320" y="3124080"/>
            <a:ext cx="1440" cy="495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240"/>
            <a:ext cx="83851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Arial Black"/>
              </a:rPr>
              <a:t>Построение  фартука</a:t>
            </a:r>
            <a:br>
              <a:rPr sz="4000"/>
            </a:b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(положение точки начала кармана)</a:t>
            </a: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.    КК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= 7 см 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988560" y="3505320"/>
            <a:ext cx="38412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260880" cy="4800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7770960" y="4038480"/>
            <a:ext cx="574560" cy="1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Arial Black"/>
              </a:rPr>
              <a:t>Построение  фартука</a:t>
            </a:r>
            <a:br>
              <a:rPr sz="4000"/>
            </a:b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(построение кармана)</a:t>
            </a: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 От (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) К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по 14 с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1. Соединить в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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893680" y="2438280"/>
            <a:ext cx="460440" cy="1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2438280"/>
            <a:ext cx="180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573880" y="1295280"/>
            <a:ext cx="3360600" cy="4953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H="1">
            <a:off x="6703560" y="3733920"/>
            <a:ext cx="1032120" cy="1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3733920"/>
            <a:ext cx="1800" cy="1028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440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Arial Black"/>
              </a:rPr>
              <a:t>Построение пояса</a:t>
            </a:r>
            <a:br>
              <a:rPr sz="4400"/>
            </a:b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(самостоятельно)</a:t>
            </a: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Строим      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) П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ПП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= 5 см 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ПП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= Ст + 25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Соединить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17360" y="2362320"/>
            <a:ext cx="53676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2362320"/>
            <a:ext cx="180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988560" y="3657600"/>
            <a:ext cx="38412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038480"/>
            <a:ext cx="180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4038480"/>
            <a:ext cx="152280" cy="838440"/>
          </a:xfrm>
          <a:prstGeom prst="rect">
            <a:avLst/>
          </a:prstGeom>
          <a:solidFill>
            <a:srgbClr val="008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Arial Black"/>
              </a:rPr>
              <a:t>Построение бретели</a:t>
            </a:r>
            <a:br>
              <a:rPr sz="4400"/>
            </a:br>
            <a:r>
              <a:rPr b="1" lang="en-GB" sz="4400" spc="-1" strike="noStrike">
                <a:solidFill>
                  <a:srgbClr val="cc0099"/>
                </a:solidFill>
                <a:latin typeface="Arial Black"/>
              </a:rPr>
              <a:t> </a:t>
            </a: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(самостоятельно)</a:t>
            </a: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Строим       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) Б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ББ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= 5 см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ББ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= 50 с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Соединить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17720" y="2286000"/>
            <a:ext cx="61272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2286000"/>
            <a:ext cx="144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065240" y="3048120"/>
            <a:ext cx="61272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429000"/>
            <a:ext cx="144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4038480"/>
            <a:ext cx="152280" cy="609840"/>
          </a:xfrm>
          <a:prstGeom prst="rect">
            <a:avLst/>
          </a:prstGeom>
          <a:solidFill>
            <a:srgbClr val="008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Arial Black"/>
              </a:rPr>
              <a:t>Вопросы для закрепл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Назовите и покажите детали фартука, которые имеют прямоугольную форм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Какой отрезок обозначает середину фартука, боковую линию фарту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От какой мерки зависит ширина нижней ча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Объясните, почему при расчете пояса к мерке Ст дается большая прибавка (25 с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Назовите парные детали фарту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38512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Презентацию выполнила учитель технологии МОУ «Уральская СОШ» Уварова Таслима Исхаков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Учебник В.Д.Симоненко 5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Arial Black"/>
              </a:rPr>
              <a:t>Построение фарту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Какие мерки нужны для построения чертежа фарту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Могут ли мерки быть для всех одинаковы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Почему мерки Ст, Сб записываются в половинном размер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Какие инструменты нужны для построения чертеж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95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Arial Black"/>
              </a:rPr>
              <a:t>Построение  фарту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964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0">
              <a:spcBef>
                <a:spcPts val="6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Строим     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2666880"/>
            <a:ext cx="180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512800" y="2666880"/>
            <a:ext cx="384120" cy="1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943600" y="1219320"/>
            <a:ext cx="2259000" cy="5333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6323040" y="1905120"/>
            <a:ext cx="1069920" cy="1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1905120"/>
            <a:ext cx="1440" cy="12189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0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407880"/>
            <a:ext cx="8370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Arial Black"/>
              </a:rPr>
              <a:t>Построение  фартука</a:t>
            </a:r>
            <a:br>
              <a:rPr sz="4000"/>
            </a:b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(длина нагрудника)</a:t>
            </a: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3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ВТ = Дн = 18 с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743200"/>
            <a:ext cx="180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152388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11" idx="0"/>
            <a:endCxn id="111" idx="0"/>
          </p:cNvCxnSpPr>
          <p:nvPr/>
        </p:nvCxnSpPr>
        <p:spPr>
          <a:xfrm>
            <a:off x="6781320" y="1523520"/>
            <a:ext cx="25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27600" y="1295280"/>
            <a:ext cx="3500280" cy="5181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0120" y="1676520"/>
            <a:ext cx="1440" cy="15238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1620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Arial Black"/>
              </a:rPr>
              <a:t>Построение  фартука</a:t>
            </a:r>
            <a:br>
              <a:rPr sz="4400"/>
            </a:b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(ширина нижней части)</a:t>
            </a: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448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ТТ</a:t>
            </a:r>
            <a:r>
              <a:rPr b="1" i="1" lang="en-GB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Сб : 2 + 6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34 : 2 + 10 = 27 с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08600" y="1904760"/>
            <a:ext cx="393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41200" y="2362320"/>
            <a:ext cx="307800" cy="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304640" cy="3828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08560" y="1219320"/>
            <a:ext cx="3583080" cy="4876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H="1">
            <a:off x="5942160" y="3657600"/>
            <a:ext cx="2327040" cy="1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-82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Arial Black"/>
              </a:rPr>
              <a:t>Построение  фартука</a:t>
            </a:r>
            <a:br>
              <a:rPr sz="4400"/>
            </a:br>
            <a:r>
              <a:rPr b="1" lang="en-GB" sz="3600" spc="-1" strike="noStrike">
                <a:solidFill>
                  <a:srgbClr val="cc0099"/>
                </a:solidFill>
                <a:latin typeface="Arial Black"/>
              </a:rPr>
              <a:t>(длина нижней части)</a:t>
            </a:r>
            <a:r>
              <a:rPr b="1" lang="en-GB" sz="3600" spc="-1" strike="noStrike">
                <a:solidFill>
                  <a:srgbClr val="cc0099"/>
                </a:solidFill>
                <a:latin typeface="Arial Black"/>
              </a:rPr>
              <a:t>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200400"/>
            <a:ext cx="14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352680" cy="5000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3124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  ТН = Днч = 36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77320" y="3124080"/>
            <a:ext cx="1440" cy="2438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Arial Black"/>
              </a:rPr>
              <a:t>Построение  фартука</a:t>
            </a:r>
            <a:br>
              <a:rPr sz="4400"/>
            </a:b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(построение нижней части)</a:t>
            </a: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475080" cy="5163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457800" cy="5105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>
            <a:off x="1522080" y="6172200"/>
            <a:ext cx="2251080" cy="1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200400"/>
            <a:ext cx="1440" cy="27432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49704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 Black"/>
              </a:rPr>
              <a:t>  </a:t>
            </a:r>
            <a:r>
              <a:rPr b="1" lang="en-GB" sz="4000" spc="-1" strike="noStrike">
                <a:solidFill>
                  <a:srgbClr val="cc0099"/>
                </a:solidFill>
                <a:latin typeface="Arial Black"/>
              </a:rPr>
              <a:t>Построение  фартука</a:t>
            </a:r>
            <a:br>
              <a:rPr sz="4000"/>
            </a:br>
            <a:r>
              <a:rPr b="1" lang="en-GB" sz="4000" spc="-1" strike="noStrike">
                <a:solidFill>
                  <a:srgbClr val="cc0099"/>
                </a:solidFill>
                <a:latin typeface="Arial Black"/>
              </a:rPr>
              <a:t>   </a:t>
            </a: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(верх нагрудника)</a:t>
            </a: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3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0"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.     ВВ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7 см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064880" y="2895480"/>
            <a:ext cx="384120" cy="1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542360" y="1600200"/>
            <a:ext cx="498240" cy="1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Arial Black"/>
              </a:rPr>
              <a:t>Построение  фартука</a:t>
            </a:r>
            <a:br>
              <a:rPr sz="4000"/>
            </a:b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(нижней части нагрудника)</a:t>
            </a:r>
            <a:r>
              <a:rPr b="1" lang="en-GB" sz="3200" spc="-1" strike="noStrike">
                <a:solidFill>
                  <a:srgbClr val="cc0099"/>
                </a:solidFill>
                <a:latin typeface="Arial Black"/>
              </a:rPr>
              <a:t>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3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.      ТТ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9 см 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988560" y="2895480"/>
            <a:ext cx="384120" cy="1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464080" y="1523880"/>
            <a:ext cx="3211560" cy="4724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7618320" y="2819520"/>
            <a:ext cx="650880" cy="1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УЧИТЕЛЬ</cp:lastModifiedBy>
  <cp:revision>0</cp:revision>
  <dc:subject/>
  <dc:title>Конструирование  фартука</dc:title>
</cp:coreProperties>
</file>