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C36-0034-43F8-A156-3C494B55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9FF-BF91-4691-85D9-AFC69328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FF5-C9B2-487D-9047-F6AA9FD3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6BF-85BB-45FA-BA2B-E3A0478F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24F4-BCEF-4661-8291-D46A7A9E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C9CD-C9B3-46BD-A915-35DD96F8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E695-8E1C-40D0-AED1-FF8654A9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8C2E-92C6-4CA7-A3FA-2600F725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BBE0-55A4-4B41-B4BF-70CDD7CA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E559-7BA9-4C09-BF01-E53590CA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E9C8-EB78-449F-BD27-FBA6CBA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DEB-4776-43B7-B65D-5406AAFC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2B5C-0C17-4E94-8887-DC113DBF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8BBE-05F3-4ABE-A9B4-813355BA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AA3B-7B2C-4147-A21D-46ED4768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FA1B-7F97-4A23-830A-8A851171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2771-D8F4-488E-A277-6B24CFC5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544C-DF8F-4CFB-A3BB-4E581E5D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5F39-3DC5-42EE-BFA7-2F3C0E33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7AAC7-7329-43FD-8B2C-3EB30EF1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A9FB-656A-420B-B8C5-F7F8F5C0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DCC1-5D22-4C5E-A1AE-4FAB06CD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DCF-F9A0-4419-8868-99CB2E2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1A52-28F5-4199-86E8-606B3586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4F6B-C758-47EB-8CF4-4E6920AA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E4F5-13BE-427A-9ACA-E5CE2B0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A859-BB1A-40DA-8AF6-7416DCAE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79DF-7334-4844-8B73-D1471FF8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8BAD0-A91B-4D31-9A76-D6C10BE4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DBA7-2E60-4B34-B245-5B126075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FA6B-E7BE-4534-A7CC-AAAD9B54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6792F-8DD7-43F9-BB43-8EC5E04B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FFDE-B6ED-4F27-8555-571AF1E6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3B5-02CF-4981-8D74-BCB2AB96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F3207-45E9-44B0-A9DB-6B28AFCC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E972C-B376-48E6-910A-9611DD2C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A6E8-3262-4D65-B957-5E63F8A4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A5F3D-A143-44E4-BC1C-0BE0C597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79EAF-D939-4068-A455-D8FDC28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4103-3AFB-4634-BC6B-A76635E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FA492-8031-45BC-AE88-32D07554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A6A12-8FA4-44C7-8DEE-1B84EAE4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8B064-82C9-44D8-8EFD-B70C8D2A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236DB-6F0F-41FF-8392-B2FBA806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FF4-E10E-439D-A143-C4F818CA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98E3-9979-4134-98F8-9B78DFDE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55446-6830-450E-9C06-118CB127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9D010-3503-47E5-B5F3-FE68C7F7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DBB5-1E46-4CB5-AE72-E0326D56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69257-1D39-4366-8A4F-95E4D60C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CA8A7-D259-4B12-A9B1-A3CCBFF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21B96-70C4-4DC6-818B-A0304C15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99690-74C7-4B97-AF24-4F62588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9B501-4209-44A3-AEC9-7955BA3B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B37BA-5793-44B2-B5AF-10C572C9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841-D2B7-45D5-B0DC-B64526EB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D69AF-4592-4C3B-B3AF-E0983CBF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1879E-8CF8-4967-9BF5-A7929D64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BD854-C45A-4798-99D4-EC1FB423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5A268-D6B6-4C3A-853E-3A5C06D3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93B52-0F01-41CD-90E4-D9FBE61F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584C5-3011-4035-9CFE-18FE99D6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3BAA6-08DD-45AB-BDD5-58EF379F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BD077-FB5A-4853-9D4B-3006E55F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FF2E8-7E0C-4048-B692-10B9FF3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D8801-D18B-4995-BB00-E617052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BFE-E380-4209-AF38-31C9E94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CEF83-C025-4762-A7D6-E4AFF027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D60AA-BCF6-4471-8EE6-B39167E0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8D51D-59EB-47B7-B55D-4B6054C1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258E9-0AB8-4B90-BC9B-6E5E8513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155A0-01C9-4066-99ED-C8EFB0CB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C6A88-5E69-4968-8A81-733133B8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EBF00-DC9A-4D4D-99BF-1953D74D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6E12E-8D5A-491F-B5A1-F5A4E822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6A09D-1252-468A-9DDC-62609225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05262-42DD-43BE-BD4E-ED6F047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5FF-E4AC-469B-B7C0-8F3E1063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BF661-58C4-44F2-86B4-9DCA735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DBA99-9F7B-49C0-B9C3-860E514E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99787-AD46-433D-8167-F02CA7BC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D4B0E-9949-4574-A1E3-E4AE8356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585E9-84A5-4633-BFF1-6624958F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E3E28-44CB-4A7F-A761-FE046E61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148B0-B851-43ED-8A0F-11FDF53C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5AC46-8B8B-4A19-A460-4FD68FDA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E5A16-FDB2-42FE-9304-AF567EDE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41627-8C9C-4D82-A7BF-048C54B0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489-5302-4C2B-9D8C-3245254E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4099B-574E-478E-BBD8-E53EF4D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9BE43-A9F7-4B14-9DC2-D14A4943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726F-34E0-49D4-8530-DD092D15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D9CB3-24E3-4B5D-9320-B53AE106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03886-4CCD-4FD0-AEEF-3C0D6BDE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4723C-5FB4-42C7-AC1C-440EEE8A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0E81A-F1D9-4BE3-81C6-1377BAC9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5919-7BC8-4C74-ACA3-55126BEF34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CB3E-2E9F-4AA2-9AFB-A43E289058F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86B7-7175-4A72-9A3E-A853C3C79A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3FF4-DECA-441A-A118-27BDED14AB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2668-72ED-42B7-B4EA-82DFFB9D07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9764-E29B-4922-922F-8E73B98461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4236-6409-4461-8886-F979B03BF8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3F96-CBB5-4DCF-A76C-839D878578C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401760" y="328680"/>
            <a:ext cx="8681760" cy="5280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640" y="3428640"/>
            <a:ext cx="7848720" cy="180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Rectangle 4"/>
          <p:cNvSpPr/>
          <p:nvPr/>
        </p:nvSpPr>
        <p:spPr>
          <a:xfrm flipV="1" rot="10800000">
            <a:off x="896760" y="687960"/>
            <a:ext cx="727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ahoma"/>
              </a:rPr>
              <a:t>Сжатое изложение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Lucida Sans Unicode"/>
              </a:rPr>
              <a:t>Пример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Сказки любят взрослые и дети, сильные и слабые, добрые и не очень. </a:t>
            </a:r>
            <a:r>
              <a:rPr b="1" lang="ru-RU" sz="4000" spc="-1" strike="noStrike">
                <a:solidFill>
                  <a:srgbClr val="ff8119"/>
                </a:solidFill>
                <a:latin typeface="Lucida Sans Unicode"/>
              </a:rPr>
              <a:t>(12 слов)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119"/>
                </a:solidFill>
                <a:latin typeface="Lucida Sans Unicode"/>
              </a:rPr>
              <a:t>Сказки любят все. (3 слова</a:t>
            </a:r>
            <a:r>
              <a:rPr b="0" lang="ru-RU" sz="4000" spc="-1" strike="noStrike">
                <a:solidFill>
                  <a:srgbClr val="ff8119"/>
                </a:solidFill>
                <a:latin typeface="Lucida Sans Unicode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5280" y="1988640"/>
            <a:ext cx="8291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Сказки... как прекрасен  и увлекателен ваш мир.  Мир, в  котором всегда торжествует добро, где умный всегда побеждает глупого,  хороший - плохого, и в финале, как правило, все счастливы. Нет,  конечно, и среди вас есть такие, после  которых становится грустно и хочется плакать. Но это  святая грусть и святые  слезы.  Они  очищают.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2800" spc="-1" strike="noStrike">
                <a:solidFill>
                  <a:srgbClr val="ff8119"/>
                </a:solidFill>
                <a:latin typeface="Lucida Sans Unicode"/>
              </a:rPr>
              <a:t>(50 слов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8119"/>
                </a:solidFill>
                <a:latin typeface="Lucida Sans Unicode"/>
              </a:rPr>
              <a:t>Мир сказок, где торжествует добро, прекрасен и увлекателен,  даже если они вызывают святые грусть и слёзы, помогающие нам стать лучше</a:t>
            </a:r>
            <a:r>
              <a:rPr b="0" i="1" lang="ru-RU" sz="2800" spc="-1" strike="noStrike">
                <a:solidFill>
                  <a:srgbClr val="ff8119"/>
                </a:solidFill>
                <a:latin typeface="Lucida Sans Unicode"/>
              </a:rPr>
              <a:t>.</a:t>
            </a:r>
            <a:r>
              <a:rPr b="1" i="1" lang="ru-RU" sz="2800" spc="-1" strike="noStrike">
                <a:solidFill>
                  <a:srgbClr val="ff8119"/>
                </a:solidFill>
                <a:latin typeface="Lucida Sans Unicode"/>
              </a:rPr>
              <a:t>(20 слов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073160" y="96840"/>
            <a:ext cx="7875720" cy="1463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39280" y="1557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Бывают,  правда, и злые сказки, в которых все наоборот. Но ведь и люди тоже бывают злые. А  между прочим, даже среди  вас, людей, злых значительно меньше, чем добрых,  а уж про сказки-то и говорить не приходится. Да и злой-то сказка  становится от того, что кто-то обидел  ее, сломал, согнул грубыми руками. Ведь  сказки не могут  быть злыми от природы, такими их делаете  вы, люди</a:t>
            </a:r>
            <a:r>
              <a:rPr b="0" i="1" lang="ru-RU" sz="2400" spc="-1" strike="noStrike">
                <a:solidFill>
                  <a:srgbClr val="ff8119"/>
                </a:solidFill>
                <a:latin typeface="Lucida Sans Unicode"/>
              </a:rPr>
              <a:t>.</a:t>
            </a:r>
            <a:r>
              <a:rPr b="1" i="1" lang="ru-RU" sz="2400" spc="-1" strike="noStrike">
                <a:solidFill>
                  <a:srgbClr val="ff8119"/>
                </a:solidFill>
                <a:latin typeface="Lucida Sans Unicode"/>
              </a:rPr>
              <a:t>(64 слова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8119"/>
                </a:solidFill>
                <a:latin typeface="Lucida Sans Unicode"/>
              </a:rPr>
              <a:t>Бывают и злые сказки, как и люди, которые их сделали. Но хороших людей, как и сказок, значительно больше. (18 слов)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395360" y="55440"/>
            <a:ext cx="7553520" cy="1419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755280" y="1916280"/>
            <a:ext cx="7931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Вы, люди, специально, а  чаще случайно, забыв о той поре, когда вы еще верили сказкам, причиняете друг другу боль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Вы, люди,  забываете о всё исцеляющей  доброте сказок и мечетесь в жизненном тупике, ища выхода и не видя его. А ведь он поразительно прост. Надо верить в чудеса.  Верить и  жить. Жить так, чтобы жизнь  превращалась только в добрые и веселые сказки</a:t>
            </a:r>
            <a:r>
              <a:rPr b="0" i="1" lang="ru-RU" sz="2400" spc="-1" strike="noStrike">
                <a:solidFill>
                  <a:srgbClr val="ff8119"/>
                </a:solidFill>
                <a:latin typeface="Lucida Sans Unicode"/>
              </a:rPr>
              <a:t>.</a:t>
            </a:r>
            <a:r>
              <a:rPr b="1" i="1" lang="ru-RU" sz="2400" spc="-1" strike="noStrike">
                <a:solidFill>
                  <a:srgbClr val="ff8119"/>
                </a:solidFill>
                <a:latin typeface="Lucida Sans Unicode"/>
              </a:rPr>
              <a:t>(61 слово)Люди, забывая о великой силе сказок, обижают друг  друга, не находят выхода из жизненных ситуаций. А выход прост: надо верить в чудеса и жить, превращая жизнь в добрые сказки.(29 слов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285920" y="109440"/>
            <a:ext cx="7662960" cy="122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4423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10920" y="190512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119"/>
                </a:solidFill>
                <a:latin typeface="Lucida Sans Unicode"/>
              </a:rPr>
              <a:t>Основные детали,  </a:t>
            </a:r>
            <a:r>
              <a:rPr b="1" i="1" lang="ru-RU" sz="3600" spc="-1" strike="noStrike">
                <a:solidFill>
                  <a:srgbClr val="ffffff"/>
                </a:solidFill>
                <a:latin typeface="Lucida Sans Unicode"/>
              </a:rPr>
              <a:t>помогающие понять авторскую идею;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119"/>
                </a:solidFill>
                <a:latin typeface="Lucida Sans Unicode"/>
              </a:rPr>
              <a:t>аргументы автора, </a:t>
            </a:r>
            <a:r>
              <a:rPr b="1" i="1" lang="ru-RU" sz="3600" spc="-1" strike="noStrike">
                <a:solidFill>
                  <a:srgbClr val="ffffff"/>
                </a:solidFill>
                <a:latin typeface="Lucida Sans Unicode"/>
              </a:rPr>
              <a:t>используемые им для доказательства основной мысли.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79280" y="1904760"/>
            <a:ext cx="85075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8119"/>
                </a:solidFill>
                <a:latin typeface="Lucida Sans Unicode"/>
              </a:rPr>
              <a:t>Исключе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вводных сл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однородных членов предлож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повтор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однотипных пример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риторических вопросов и восклица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цитат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деталей, которые не влияют на ход авторской мысл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поясн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рассужд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описа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слов, предложений, которые могут быть удалены без ущерба для содержан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24000" y="1905120"/>
            <a:ext cx="83628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3600" spc="-1" strike="noStrike">
                <a:solidFill>
                  <a:srgbClr val="ff8119"/>
                </a:solidFill>
                <a:latin typeface="Lucida Sans Unicode"/>
              </a:rPr>
              <a:t>Выделить главное</a:t>
            </a: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 с точки зрения основной мысли текста, затем </a:t>
            </a:r>
            <a:r>
              <a:rPr b="0" i="1" lang="ru-RU" sz="3600" spc="-1" strike="noStrike">
                <a:solidFill>
                  <a:srgbClr val="ff8119"/>
                </a:solidFill>
                <a:latin typeface="Lucida Sans Unicode"/>
              </a:rPr>
              <a:t>убрать ненужные</a:t>
            </a: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 подробности и детал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ru-RU" sz="3600" spc="-1" strike="noStrike">
                <a:solidFill>
                  <a:srgbClr val="ff8119"/>
                </a:solidFill>
                <a:latin typeface="Lucida Sans Unicode"/>
              </a:rPr>
              <a:t>Объединить полученное</a:t>
            </a: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, используя основные средства связи между предложениями.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43960" cy="1158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50560" y="47592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озможность сокращения текста чаще всего основана на явлении избыточности реч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8119"/>
                </a:solidFill>
                <a:latin typeface="Lucida Sans Unicode"/>
              </a:rPr>
              <a:t>Сказка  живет везде, во всем: в деревьях, листьях,  в самом ветре,  в  земле, в кресле, в  доме, в марте, в  тебе самом.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       (Е.Кривченко)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2800" spc="-1" strike="noStrike">
                <a:solidFill>
                  <a:srgbClr val="ff8119"/>
                </a:solidFill>
                <a:latin typeface="Lucida Sans Unicode"/>
              </a:rPr>
              <a:t>(22 слова)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 избыточными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однородные обстоятельства,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конкретизирующие обобщающие слова 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везде, во всем.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Уберем эти однородные обстоятельства. Смысл предложения не изменится </a:t>
            </a:r>
            <a:r>
              <a:rPr b="0" i="1" lang="ru-RU" sz="2800" spc="-1" strike="noStrike">
                <a:solidFill>
                  <a:srgbClr val="ff8119"/>
                </a:solidFill>
                <a:latin typeface="Lucida Sans Unicode"/>
              </a:rPr>
              <a:t>Сказка  живет везде, во во всем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800" spc="-1" strike="noStrike">
                <a:solidFill>
                  <a:srgbClr val="ff8119"/>
                </a:solidFill>
                <a:latin typeface="Lucida Sans Unicode"/>
              </a:rPr>
              <a:t>(</a:t>
            </a:r>
            <a:r>
              <a:rPr b="1" i="1" lang="ru-RU" sz="2800" spc="-1" strike="noStrike">
                <a:solidFill>
                  <a:srgbClr val="ff8119"/>
                </a:solidFill>
                <a:latin typeface="Lucida Sans Unicode"/>
              </a:rPr>
              <a:t>5 слов)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парцеллированных предложений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ряда предложений, связанных одной мыслью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частей предложений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конкретных, единичных фактов, событий, явлений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3600" spc="-1" strike="noStrike">
                <a:solidFill>
                  <a:srgbClr val="ff8119"/>
                </a:solidFill>
                <a:latin typeface="Lucida Sans Unicode"/>
              </a:rPr>
              <a:t>Найти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в тексте мелкие, </a:t>
            </a:r>
            <a:r>
              <a:rPr b="0" lang="ru-RU" sz="3600" spc="-1" strike="noStrike">
                <a:solidFill>
                  <a:srgbClr val="ff8119"/>
                </a:solidFill>
                <a:latin typeface="Lucida Sans Unicode"/>
              </a:rPr>
              <a:t>единичные факты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Найти в них </a:t>
            </a:r>
            <a:r>
              <a:rPr b="0" lang="ru-RU" sz="3600" spc="-1" strike="noStrike">
                <a:solidFill>
                  <a:srgbClr val="ff8119"/>
                </a:solidFill>
                <a:latin typeface="Lucida Sans Unicode"/>
              </a:rPr>
              <a:t>общее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119"/>
                </a:solidFill>
                <a:latin typeface="Lucida Sans Unicode"/>
              </a:rPr>
              <a:t>Объединить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эти факты на основе общег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3600" spc="-1" strike="noStrike">
                <a:solidFill>
                  <a:srgbClr val="ff8119"/>
                </a:solidFill>
                <a:latin typeface="Lucida Sans Unicode"/>
              </a:rPr>
              <a:t>Сформулировать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получившееся предложение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5280" y="404640"/>
            <a:ext cx="82915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Lucida Sans Unicode"/>
              </a:rPr>
              <a:t>Сказки научат тебя быть добрым, ты увидишь, что они смогут  выручить из любой беды, в которую  ты  можешь угодить. Сказки покажут как  веселый, но  слабый может победить сильного, но хмурого.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3300" spc="-1" strike="noStrike">
                <a:solidFill>
                  <a:srgbClr val="ff8119"/>
                </a:solidFill>
                <a:latin typeface="Lucida Sans Unicode"/>
              </a:rPr>
              <a:t>(30 слов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8119"/>
                </a:solidFill>
                <a:latin typeface="Lucida Sans Unicode"/>
              </a:rPr>
              <a:t>Сказки</a:t>
            </a:r>
            <a:r>
              <a:rPr b="1" i="1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3300" spc="-1" strike="noStrike">
                <a:solidFill>
                  <a:srgbClr val="ff8119"/>
                </a:solidFill>
                <a:latin typeface="Lucida Sans Unicode"/>
              </a:rPr>
              <a:t>научат доброте, оптимизму, выручат из беды. (7 слов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84000" y="1915920"/>
            <a:ext cx="8002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днородных членов обобщающим словом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сложного предложения – простым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части предложения  или ряда предложений общим понятием или выражением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прямой речи – косвенной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части текста одним предложением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части предложения местоимением и т.д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146240" y="208080"/>
            <a:ext cx="7802640" cy="1212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Найти слова, смысловые части или предложения, которые </a:t>
            </a:r>
            <a:r>
              <a:rPr b="0" i="1" lang="ru-RU" sz="3600" spc="-1" strike="noStrike">
                <a:solidFill>
                  <a:srgbClr val="ff8119"/>
                </a:solidFill>
                <a:latin typeface="Lucida Sans Unicode"/>
              </a:rPr>
              <a:t>можно сократить с помощью замены обобщающим словом, простым предложением</a:t>
            </a: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 и т.д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Сформулировать получившееся предложение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4:55:10Z</dcterms:created>
  <dc:creator>Пользователь</dc:creator>
  <dc:description/>
  <dc:language>en-US</dc:language>
  <cp:lastModifiedBy>Customer</cp:lastModifiedBy>
  <dcterms:modified xsi:type="dcterms:W3CDTF">2011-03-16T16:58:36Z</dcterms:modified>
  <cp:revision>6</cp:revision>
  <dc:subject/>
  <dc:title>Сжатое изложение (теория и практика подготовки)</dc:title>
</cp:coreProperties>
</file>