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22F9-912B-4A8D-8109-876A20C82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325D-5F52-4D2D-A1F9-FF3B2CBF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2ECB-C7AC-4AD7-B0E1-D61694A4A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38FE-9D3D-454F-83CC-7333D3F5D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E4AE-1C9E-4D08-81E2-79727CD2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0962-4F11-4A45-9427-BB3F6846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D14F-63EE-45AA-BA4A-7E9AD803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838F-DD83-45A5-940E-838B235D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9396-2E7A-41FF-A5A6-98E8A485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8DB9-4B55-4FC0-A41D-88E533BE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719C-C117-4907-8AB7-A13F7534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9A8A-8E91-4291-B38C-5B9F559D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A2F1-E7E5-4104-93AC-E2250B017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41440" y="1457280"/>
            <a:ext cx="820728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Тема: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«Селекция растени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3716280"/>
            <a:ext cx="8569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Дать характеристику основным методам селекции раст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42880" y="262080"/>
            <a:ext cx="81327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Генетика и селе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907920"/>
            <a:ext cx="86421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Основными методами селекции растений были и остаются гибридизация и отб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личают две основные формы искусственного отбора: отбор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массовы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отбор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индивидуальны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1. Отбор.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Массовый отбор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применяют при селекции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перекрестноопыляемых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растений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аких, как рожь, кукуруза, подсолнечник. При этом выделяют группу растений, обладающих ценными признаками.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В этом случае сорт представляет собой популяцию, состоящую из гетерозиготных особей, и каждое семя даже от одного материнского растения обладает уникальным генотип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С помощью массового отбора сохраняются и улучшаются сортовые качества, но результаты отбора неустойчивы в силу случайного перекрестного опы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Индивидуальный отбо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эффективен для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самоопыляемых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растений (пшеницы, ячменя, гороха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этом случае потомство сохраняет признаки родительской формы, являетс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омозиготны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называетс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истой лини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Чистая линия — потомство одной гомозиготной самоопыленной особ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60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Основные методы селекции раст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068720" y="1052640"/>
            <a:ext cx="4751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1. Массовый отбор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для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перекрестноопыляем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астени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рожь, кукуруза, подсолнечник). Результаты отбора неустойчивы в силу случайного перекрестного опы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2. Индивидуальный отбор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для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самоопыляемых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растен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шеницы, ячменя, гороха). Потомство от одной особи являетс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омозиготны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называетс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истой лини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3. Естественный отбо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грает определяющую роль, так как на любое растение в течение всей его жизни действует целый комплекс факторов окружающей ср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26028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1-3. Искусственный и естественный от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3024000" cy="2016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11280" y="2932200"/>
            <a:ext cx="303840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2503440"/>
            <a:ext cx="1890720" cy="703800"/>
          </a:xfrm>
          <a:prstGeom prst="rect">
            <a:avLst/>
          </a:prstGeom>
          <a:solidFill>
            <a:srgbClr val="e6e4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тественный отб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32360" y="2570040"/>
            <a:ext cx="1800360" cy="1618560"/>
          </a:xfrm>
          <a:prstGeom prst="rect">
            <a:avLst/>
          </a:prstGeom>
          <a:solidFill>
            <a:srgbClr val="e6e4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утбридинг (неродствен-ное скрещива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31760" y="5018040"/>
            <a:ext cx="2460600" cy="1618560"/>
          </a:xfrm>
          <a:prstGeom prst="rect">
            <a:avLst/>
          </a:prstGeom>
          <a:solidFill>
            <a:srgbClr val="e6e4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екрестно-опыляемые растения (рожь, кукуруза, подсолнечни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5067360"/>
            <a:ext cx="2133360" cy="1313640"/>
          </a:xfrm>
          <a:prstGeom prst="rect">
            <a:avLst/>
          </a:prstGeom>
          <a:solidFill>
            <a:srgbClr val="e6e4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опыляемые растения (пшеница, ячмень, горо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48360" y="2603520"/>
            <a:ext cx="1839960" cy="1313640"/>
          </a:xfrm>
          <a:prstGeom prst="rect">
            <a:avLst/>
          </a:prstGeom>
          <a:solidFill>
            <a:srgbClr val="e6e4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бридинг (близкор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венное скрещива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3280" y="1704960"/>
            <a:ext cx="504720" cy="647640"/>
          </a:xfrm>
          <a:prstGeom prst="downArrow">
            <a:avLst>
              <a:gd name="adj1" fmla="val 50000"/>
              <a:gd name="adj2" fmla="val 32079"/>
            </a:avLst>
          </a:prstGeom>
          <a:solidFill>
            <a:srgbClr val="d0cca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778040"/>
            <a:ext cx="504720" cy="647640"/>
          </a:xfrm>
          <a:prstGeom prst="downArrow">
            <a:avLst>
              <a:gd name="adj1" fmla="val 50000"/>
              <a:gd name="adj2" fmla="val 32079"/>
            </a:avLst>
          </a:prstGeom>
          <a:solidFill>
            <a:srgbClr val="d0cca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22920" y="1849320"/>
            <a:ext cx="504720" cy="647640"/>
          </a:xfrm>
          <a:prstGeom prst="downArrow">
            <a:avLst>
              <a:gd name="adj1" fmla="val 50000"/>
              <a:gd name="adj2" fmla="val 32079"/>
            </a:avLst>
          </a:prstGeom>
          <a:solidFill>
            <a:srgbClr val="d0cca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451640" y="1849320"/>
            <a:ext cx="505080" cy="647640"/>
          </a:xfrm>
          <a:prstGeom prst="downArrow">
            <a:avLst>
              <a:gd name="adj1" fmla="val 50000"/>
              <a:gd name="adj2" fmla="val 32056"/>
            </a:avLst>
          </a:prstGeom>
          <a:solidFill>
            <a:srgbClr val="d0cca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27280" y="3002040"/>
            <a:ext cx="504720" cy="647640"/>
          </a:xfrm>
          <a:prstGeom prst="downArrow">
            <a:avLst>
              <a:gd name="adj1" fmla="val 50000"/>
              <a:gd name="adj2" fmla="val 32079"/>
            </a:avLst>
          </a:prstGeom>
          <a:solidFill>
            <a:srgbClr val="d0cca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51280" y="3002040"/>
            <a:ext cx="504720" cy="647640"/>
          </a:xfrm>
          <a:prstGeom prst="downArrow">
            <a:avLst>
              <a:gd name="adj1" fmla="val 50000"/>
              <a:gd name="adj2" fmla="val 32079"/>
            </a:avLst>
          </a:prstGeom>
          <a:solidFill>
            <a:srgbClr val="d0cca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84360" y="2576520"/>
            <a:ext cx="2049480" cy="703800"/>
          </a:xfrm>
          <a:prstGeom prst="rect">
            <a:avLst/>
          </a:prstGeom>
          <a:solidFill>
            <a:srgbClr val="e6e4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скусственный отб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54200" y="4297320"/>
            <a:ext cx="505080" cy="647640"/>
          </a:xfrm>
          <a:prstGeom prst="downArrow">
            <a:avLst>
              <a:gd name="adj1" fmla="val 50000"/>
              <a:gd name="adj2" fmla="val 32056"/>
            </a:avLst>
          </a:prstGeom>
          <a:solidFill>
            <a:srgbClr val="d0cca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22560" y="4297320"/>
            <a:ext cx="505080" cy="647640"/>
          </a:xfrm>
          <a:prstGeom prst="downArrow">
            <a:avLst>
              <a:gd name="adj1" fmla="val 50000"/>
              <a:gd name="adj2" fmla="val 32056"/>
            </a:avLst>
          </a:prstGeom>
          <a:solidFill>
            <a:srgbClr val="d0cca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14720" y="3687840"/>
            <a:ext cx="1062000" cy="1008720"/>
          </a:xfrm>
          <a:prstGeom prst="rect">
            <a:avLst/>
          </a:prstGeom>
          <a:solidFill>
            <a:srgbClr val="e6e4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со-вый отб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19640" y="3687840"/>
            <a:ext cx="1253880" cy="1008720"/>
          </a:xfrm>
          <a:prstGeom prst="rect">
            <a:avLst/>
          </a:prstGeom>
          <a:solidFill>
            <a:srgbClr val="e6e4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иви-дуальный отб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42920" y="1341360"/>
            <a:ext cx="3095640" cy="398880"/>
          </a:xfrm>
          <a:prstGeom prst="rect">
            <a:avLst/>
          </a:prstGeom>
          <a:solidFill>
            <a:srgbClr val="e6e4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б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32360" y="1344600"/>
            <a:ext cx="3816360" cy="398880"/>
          </a:xfrm>
          <a:prstGeom prst="rect">
            <a:avLst/>
          </a:prstGeom>
          <a:solidFill>
            <a:srgbClr val="e6e4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ибрид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56360" y="4370400"/>
            <a:ext cx="2663640" cy="1618560"/>
          </a:xfrm>
          <a:prstGeom prst="rect">
            <a:avLst/>
          </a:prstGeom>
          <a:solidFill>
            <a:srgbClr val="ffc7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тая линия – потомство одной гомозиготной самоопыленной особ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26920" y="260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Основные методы селекции раст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659640" y="3676680"/>
            <a:ext cx="2038320" cy="2705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26920" y="260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4-5. Инбридинг, эффект гетероз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3068640"/>
            <a:ext cx="648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5. Гетерозис («жизненная сила»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явление, при котором гибридные особи по своим характеристикам значительно превосходят родительские фор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692280"/>
            <a:ext cx="8642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4. Инбридинг (близкородственное скрещивание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спользуют при самоопылении перекрестноопыляемых растений  (например, для получения  линий кукурузы). Инбридинг приводит к «депрессии», поскольку рецессивные неблагоприятные гены переходят в гомозиготное состояни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9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0920" y="1773360"/>
            <a:ext cx="446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Гипотеза доминирования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гетерозис зависит от количества доминантных генов в гомозиготном или гетерозиготном состоянии: чем больше пар генов будут иметь доминантные гены, тем больше эффект гетерози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4221000"/>
            <a:ext cx="4465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Гипотеза сверхдоминирования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гетерозиготное состояние по одному или нескольким парам генов дает гибриду превосходство над родительскими формами (сверхдоминирова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59280" y="2200320"/>
            <a:ext cx="3889440" cy="80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AbbCCdd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  aaBBcc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aBbCc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35640" y="4127400"/>
            <a:ext cx="2521080" cy="178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А        х        а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4360" y="4653000"/>
            <a:ext cx="432000" cy="4316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65800" y="4726080"/>
            <a:ext cx="216000" cy="2156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43640" y="5229360"/>
            <a:ext cx="649440" cy="6476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4542200">
            <a:off x="5821920" y="4435560"/>
            <a:ext cx="360360" cy="555840"/>
          </a:xfrm>
          <a:custGeom>
            <a:avLst/>
            <a:gdLst/>
            <a:ahLst/>
            <a:rect l="l" t="t" r="r" b="b"/>
            <a:pathLst>
              <a:path w="227" h="350">
                <a:moveTo>
                  <a:pt x="110" y="77"/>
                </a:moveTo>
                <a:cubicBezTo>
                  <a:pt x="75" y="53"/>
                  <a:pt x="73" y="55"/>
                  <a:pt x="110" y="67"/>
                </a:cubicBezTo>
                <a:cubicBezTo>
                  <a:pt x="127" y="42"/>
                  <a:pt x="145" y="25"/>
                  <a:pt x="165" y="3"/>
                </a:cubicBezTo>
                <a:cubicBezTo>
                  <a:pt x="171" y="9"/>
                  <a:pt x="181" y="13"/>
                  <a:pt x="183" y="22"/>
                </a:cubicBezTo>
                <a:cubicBezTo>
                  <a:pt x="190" y="55"/>
                  <a:pt x="186" y="89"/>
                  <a:pt x="192" y="122"/>
                </a:cubicBezTo>
                <a:cubicBezTo>
                  <a:pt x="195" y="141"/>
                  <a:pt x="205" y="159"/>
                  <a:pt x="211" y="177"/>
                </a:cubicBezTo>
                <a:cubicBezTo>
                  <a:pt x="215" y="189"/>
                  <a:pt x="227" y="203"/>
                  <a:pt x="220" y="214"/>
                </a:cubicBezTo>
                <a:cubicBezTo>
                  <a:pt x="214" y="222"/>
                  <a:pt x="201" y="208"/>
                  <a:pt x="192" y="205"/>
                </a:cubicBezTo>
                <a:cubicBezTo>
                  <a:pt x="151" y="142"/>
                  <a:pt x="163" y="129"/>
                  <a:pt x="147" y="177"/>
                </a:cubicBezTo>
                <a:cubicBezTo>
                  <a:pt x="144" y="214"/>
                  <a:pt x="155" y="254"/>
                  <a:pt x="138" y="287"/>
                </a:cubicBezTo>
                <a:cubicBezTo>
                  <a:pt x="106" y="350"/>
                  <a:pt x="123" y="170"/>
                  <a:pt x="101" y="159"/>
                </a:cubicBezTo>
                <a:cubicBezTo>
                  <a:pt x="71" y="144"/>
                  <a:pt x="34" y="153"/>
                  <a:pt x="0" y="150"/>
                </a:cubicBezTo>
                <a:cubicBezTo>
                  <a:pt x="25" y="147"/>
                  <a:pt x="56" y="159"/>
                  <a:pt x="74" y="141"/>
                </a:cubicBezTo>
                <a:cubicBezTo>
                  <a:pt x="91" y="124"/>
                  <a:pt x="48" y="47"/>
                  <a:pt x="37" y="31"/>
                </a:cubicBezTo>
                <a:cubicBezTo>
                  <a:pt x="55" y="19"/>
                  <a:pt x="69" y="0"/>
                  <a:pt x="92" y="22"/>
                </a:cubicBezTo>
                <a:cubicBezTo>
                  <a:pt x="99" y="29"/>
                  <a:pt x="96" y="41"/>
                  <a:pt x="101" y="49"/>
                </a:cubicBezTo>
                <a:cubicBezTo>
                  <a:pt x="108" y="60"/>
                  <a:pt x="124" y="65"/>
                  <a:pt x="128" y="77"/>
                </a:cubicBezTo>
                <a:cubicBezTo>
                  <a:pt x="130" y="83"/>
                  <a:pt x="116" y="77"/>
                  <a:pt x="110" y="77"/>
                </a:cubicBez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93080" y="4724280"/>
            <a:ext cx="288720" cy="144720"/>
          </a:xfrm>
          <a:custGeom>
            <a:avLst/>
            <a:gdLst/>
            <a:ahLst/>
            <a:rect l="l" t="t" r="r" b="b"/>
            <a:pathLst>
              <a:path w="227" h="350">
                <a:moveTo>
                  <a:pt x="110" y="77"/>
                </a:moveTo>
                <a:cubicBezTo>
                  <a:pt x="75" y="53"/>
                  <a:pt x="73" y="55"/>
                  <a:pt x="110" y="67"/>
                </a:cubicBezTo>
                <a:cubicBezTo>
                  <a:pt x="127" y="42"/>
                  <a:pt x="145" y="25"/>
                  <a:pt x="165" y="3"/>
                </a:cubicBezTo>
                <a:cubicBezTo>
                  <a:pt x="171" y="9"/>
                  <a:pt x="181" y="13"/>
                  <a:pt x="183" y="22"/>
                </a:cubicBezTo>
                <a:cubicBezTo>
                  <a:pt x="190" y="55"/>
                  <a:pt x="186" y="89"/>
                  <a:pt x="192" y="122"/>
                </a:cubicBezTo>
                <a:cubicBezTo>
                  <a:pt x="195" y="141"/>
                  <a:pt x="205" y="159"/>
                  <a:pt x="211" y="177"/>
                </a:cubicBezTo>
                <a:cubicBezTo>
                  <a:pt x="215" y="189"/>
                  <a:pt x="227" y="203"/>
                  <a:pt x="220" y="214"/>
                </a:cubicBezTo>
                <a:cubicBezTo>
                  <a:pt x="214" y="222"/>
                  <a:pt x="201" y="208"/>
                  <a:pt x="192" y="205"/>
                </a:cubicBezTo>
                <a:cubicBezTo>
                  <a:pt x="151" y="142"/>
                  <a:pt x="163" y="129"/>
                  <a:pt x="147" y="177"/>
                </a:cubicBezTo>
                <a:cubicBezTo>
                  <a:pt x="144" y="214"/>
                  <a:pt x="155" y="254"/>
                  <a:pt x="138" y="287"/>
                </a:cubicBezTo>
                <a:cubicBezTo>
                  <a:pt x="106" y="350"/>
                  <a:pt x="123" y="170"/>
                  <a:pt x="101" y="159"/>
                </a:cubicBezTo>
                <a:cubicBezTo>
                  <a:pt x="71" y="144"/>
                  <a:pt x="34" y="153"/>
                  <a:pt x="0" y="150"/>
                </a:cubicBezTo>
                <a:cubicBezTo>
                  <a:pt x="25" y="147"/>
                  <a:pt x="56" y="159"/>
                  <a:pt x="74" y="141"/>
                </a:cubicBezTo>
                <a:cubicBezTo>
                  <a:pt x="91" y="124"/>
                  <a:pt x="48" y="47"/>
                  <a:pt x="37" y="31"/>
                </a:cubicBezTo>
                <a:cubicBezTo>
                  <a:pt x="55" y="19"/>
                  <a:pt x="69" y="0"/>
                  <a:pt x="92" y="22"/>
                </a:cubicBezTo>
                <a:cubicBezTo>
                  <a:pt x="99" y="29"/>
                  <a:pt x="96" y="41"/>
                  <a:pt x="101" y="49"/>
                </a:cubicBezTo>
                <a:cubicBezTo>
                  <a:pt x="108" y="60"/>
                  <a:pt x="124" y="65"/>
                  <a:pt x="128" y="77"/>
                </a:cubicBezTo>
                <a:cubicBezTo>
                  <a:pt x="130" y="83"/>
                  <a:pt x="116" y="77"/>
                  <a:pt x="110" y="77"/>
                </a:cubicBez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3807600">
            <a:off x="6398280" y="5059800"/>
            <a:ext cx="360360" cy="555840"/>
          </a:xfrm>
          <a:custGeom>
            <a:avLst/>
            <a:gdLst/>
            <a:ahLst/>
            <a:rect l="l" t="t" r="r" b="b"/>
            <a:pathLst>
              <a:path w="227" h="350">
                <a:moveTo>
                  <a:pt x="110" y="77"/>
                </a:moveTo>
                <a:cubicBezTo>
                  <a:pt x="75" y="53"/>
                  <a:pt x="73" y="55"/>
                  <a:pt x="110" y="67"/>
                </a:cubicBezTo>
                <a:cubicBezTo>
                  <a:pt x="127" y="42"/>
                  <a:pt x="145" y="25"/>
                  <a:pt x="165" y="3"/>
                </a:cubicBezTo>
                <a:cubicBezTo>
                  <a:pt x="171" y="9"/>
                  <a:pt x="181" y="13"/>
                  <a:pt x="183" y="22"/>
                </a:cubicBezTo>
                <a:cubicBezTo>
                  <a:pt x="190" y="55"/>
                  <a:pt x="186" y="89"/>
                  <a:pt x="192" y="122"/>
                </a:cubicBezTo>
                <a:cubicBezTo>
                  <a:pt x="195" y="141"/>
                  <a:pt x="205" y="159"/>
                  <a:pt x="211" y="177"/>
                </a:cubicBezTo>
                <a:cubicBezTo>
                  <a:pt x="215" y="189"/>
                  <a:pt x="227" y="203"/>
                  <a:pt x="220" y="214"/>
                </a:cubicBezTo>
                <a:cubicBezTo>
                  <a:pt x="214" y="222"/>
                  <a:pt x="201" y="208"/>
                  <a:pt x="192" y="205"/>
                </a:cubicBezTo>
                <a:cubicBezTo>
                  <a:pt x="151" y="142"/>
                  <a:pt x="163" y="129"/>
                  <a:pt x="147" y="177"/>
                </a:cubicBezTo>
                <a:cubicBezTo>
                  <a:pt x="144" y="214"/>
                  <a:pt x="155" y="254"/>
                  <a:pt x="138" y="287"/>
                </a:cubicBezTo>
                <a:cubicBezTo>
                  <a:pt x="106" y="350"/>
                  <a:pt x="123" y="170"/>
                  <a:pt x="101" y="159"/>
                </a:cubicBezTo>
                <a:cubicBezTo>
                  <a:pt x="71" y="144"/>
                  <a:pt x="34" y="153"/>
                  <a:pt x="0" y="150"/>
                </a:cubicBezTo>
                <a:cubicBezTo>
                  <a:pt x="25" y="147"/>
                  <a:pt x="56" y="159"/>
                  <a:pt x="74" y="141"/>
                </a:cubicBezTo>
                <a:cubicBezTo>
                  <a:pt x="91" y="124"/>
                  <a:pt x="48" y="47"/>
                  <a:pt x="37" y="31"/>
                </a:cubicBezTo>
                <a:cubicBezTo>
                  <a:pt x="55" y="19"/>
                  <a:pt x="69" y="0"/>
                  <a:pt x="92" y="22"/>
                </a:cubicBezTo>
                <a:cubicBezTo>
                  <a:pt x="99" y="29"/>
                  <a:pt x="96" y="41"/>
                  <a:pt x="101" y="49"/>
                </a:cubicBezTo>
                <a:cubicBezTo>
                  <a:pt x="108" y="60"/>
                  <a:pt x="124" y="65"/>
                  <a:pt x="128" y="77"/>
                </a:cubicBezTo>
                <a:cubicBezTo>
                  <a:pt x="130" y="83"/>
                  <a:pt x="116" y="77"/>
                  <a:pt x="110" y="77"/>
                </a:cubicBez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12536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ъясняют эффект гетерозиса две гипотез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26920" y="260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4-5. Инбридинг, эффект гетероз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4360" y="5823000"/>
            <a:ext cx="770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екрестное опыление самоопылителей дает возможность сочетать свойства различных сор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51280" y="1700280"/>
            <a:ext cx="453708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пример, при создании новых сортов пшеницы поступают следующ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цветков растений одного сорта удаляются пыль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тения двух сортов накрываются общим изолято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ядом в сосуде с водой ставятся растения другого со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результате получают гибридные сем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76500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екрестное опыление самоопылителей используется с целью получения новых сор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26920" y="260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6. Перекрестное опыление самоопыл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96880" y="1706400"/>
            <a:ext cx="3038400" cy="3810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9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00720" y="981000"/>
            <a:ext cx="4176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олиплоидия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липлоиды – растения, у которых произошло увеличение хромосомного набора, кратное гаплоидному. У растений полиплоиды обладают большей массой вегетативных органов, имеют более крупные плоды и сем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тественные полиплоиды – пшеница, картофель и др., выведены сорта полиплоидной гречихи, сахарной свек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26028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7. Полиплои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3816360" cy="2900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68360" y="522936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ическим способом получения полиплоидов является обработка проростков </a:t>
            </a:r>
            <a:r>
              <a:rPr b="0" i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колхицин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Колхицин разрушает веретено деления и количество хромосом в клетке удваив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9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4000" y="3573360"/>
            <a:ext cx="8640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924 году советский ученый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Г.Д.Карпеченк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лучил плодовитый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межродовой гибрид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н скрестил редьку (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18 редечных хромосом) и капусту (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18 капустных хромосом). У гибрида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18  хромосом: 9 редечных и 9 капустных, но он стерилен, не образует семя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помощью колхицина Г.Д.Карпеченко получил полиплоид, содержащий 36 хромосом, при мейозе редечные (9 + 9) хромосомы конъюгировали с редечными, капустные (9 + 9) с капустными. Плодовитость была восстановлена. Таким способом были получены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шенично-ржаные гибриды (тритикале), пшенично-пырейные гибриды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26028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8. Отдаленная гибрид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700360" y="765000"/>
            <a:ext cx="3527280" cy="2567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18:40:58Z</dcterms:created>
  <dc:creator>Solaris</dc:creator>
  <dc:description/>
  <dc:language>en-US</dc:language>
  <cp:lastModifiedBy>Admin</cp:lastModifiedBy>
  <dcterms:modified xsi:type="dcterms:W3CDTF">2010-11-03T15:45:03Z</dcterms:modified>
  <cp:revision>119</cp:revision>
  <dc:subject/>
  <dc:title>Слайд 1</dc:title>
</cp:coreProperties>
</file>