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EC6-F1AF-46CE-B6C2-56667F22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AF9-640E-4329-86CA-ECCF8797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1E2-3FC8-42E0-BD97-D7F3046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2DF-BA16-4DCA-BC6B-8B7E1FBF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C98-3C94-4E12-853C-C1E526E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E35-EDBB-49BD-8881-A2BE5438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1A7-8820-4F7C-A3C3-F0D5FD8E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4920-375B-4C78-829B-9791F3D9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F3E-9936-4665-8EBD-7E43A95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531-0416-4BBA-9A71-4B6BC0F9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2F7B-8F38-4763-BB72-9B75858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BB0-9372-42DD-A2C2-08405D9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06D-F758-4FA8-A565-90C7A04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058-498B-4AB5-A478-D546052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CF70-A5E9-4650-9C3A-D276039C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866-8ADB-426C-8B72-7ADA999B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61CA-39EE-4921-9D20-843F5DB0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A43-E49C-4F97-BF01-FE354A9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898-6E97-475D-B403-1AF21BC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B49-E96C-4343-A704-B88C010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C97-65DC-4412-BD0C-98A0FF43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AC4-25B8-4684-A2A3-5EACE1F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397-EF4E-4BE1-BEF8-E5EB0BA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1E5-4B26-42DA-A85E-F4DF8D4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8F8-CACB-49E4-90BA-97A864E4F5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0B35-D297-4E2A-AFD9-3EC32AB53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/vde.infobus.ru/distionary.htm/" TargetMode="External"/><Relationship Id="rId2" Type="http://schemas.openxmlformats.org/officeDocument/2006/relationships/hyperlink" Target="http://naviobraz/tsu.ru/slov" TargetMode="External"/><Relationship Id="rId3" Type="http://schemas.openxmlformats.org/officeDocument/2006/relationships/hyperlink" Target="http://www/estrabota.ru/index.ph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8400" y="167760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3143160"/>
            <a:ext cx="777708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гра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568800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314172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ngravers MT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Engravers MT"/>
              </a:rPr>
              <a:t>характеристика профессии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Engravers M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Engravers MT"/>
              </a:rPr>
              <a:t>в которой описаны её особенности, содержание и характер труд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03280" y="404640"/>
            <a:ext cx="734544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фесси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92720" y="-113806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Общая характеристика проф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Требования к индивидуальным особенностям специалис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Требования к профессиональной подготов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ути получения проф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одственные профессии (специальност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333360"/>
            <a:ext cx="734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хема профессиграм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68640"/>
            <a:ext cx="9144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ерспективная потребность в подготовке кадров 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Tahoma"/>
              </a:rPr>
              <a:t>2007 – 2011 год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6000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из ни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0000cc"/>
                </a:solidFill>
                <a:latin typeface="Tahoma"/>
              </a:rPr>
              <a:t>с начальным профессиональным образование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84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ahoma"/>
              </a:rPr>
              <a:t>со средним профессиональны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4%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ahoma"/>
              </a:rPr>
              <a:t>высшим профессиональны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08000" y="54936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нтр занятост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32000" y="1628640"/>
            <a:ext cx="712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формаци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Востребованные профессии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на 2007 – 2011 г.г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484280"/>
          <a:ext cx="8955000" cy="4849920"/>
        </p:xfrm>
        <a:graphic>
          <a:graphicData uri="http://schemas.openxmlformats.org/drawingml/2006/table">
            <a:tbl>
              <a:tblPr/>
              <a:tblGrid>
                <a:gridCol w="2984400"/>
                <a:gridCol w="2986200"/>
                <a:gridCol w="29844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ое профессиона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она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шее профессиона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лесарь М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оспитатель д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Инже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лесарь-ремон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Фармац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Инженер-техн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Электрогазосварщ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д.с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Инженер-констру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ператор авт.л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Техник-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Инженер-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таночник ш/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Фельдшер-лабор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Муз.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Цвето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ви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Электросварщ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Экономи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аля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Фрезеровщ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ahoma"/>
              </a:rPr>
              <a:t>Портал «Учёба. </a:t>
            </a: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u</a:t>
            </a:r>
            <a:r>
              <a:rPr b="0" lang="ru-RU" sz="4800" spc="-1" strike="noStrike">
                <a:solidFill>
                  <a:srgbClr val="3333cc"/>
                </a:solidFill>
                <a:latin typeface="Tahoma"/>
              </a:rPr>
              <a:t>», раздел «Профессии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/vde.infobus.ru/distionary.ht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naviobraz/tsu.ru/slov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prd/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/estrabota.ru/index.pht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32000" y="476280"/>
            <a:ext cx="741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узнать про професс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омаса Карлей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ahoma"/>
              </a:rPr>
              <a:t>“ </a:t>
            </a:r>
            <a:r>
              <a:rPr b="0" i="1" lang="en-US" sz="5400" spc="-1" strike="noStrike">
                <a:solidFill>
                  <a:srgbClr val="ff0000"/>
                </a:solidFill>
                <a:latin typeface="Tahoma"/>
              </a:rPr>
              <a:t>Самый несчастный из людей тот, для которого в мире не оказалось работы”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549360"/>
            <a:ext cx="85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я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76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од трудовой деятельности, требующий специальных знаний и опыта и обеспечивающий условий существования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ahoma"/>
              </a:rPr>
              <a:t>более узкая область приложения физических и духовных сил человека в рамках той или иной професс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260280"/>
            <a:ext cx="84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ециальность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лужебная обязанность в учреждении или  на предприятии, которую может исполнять человек, владея любой специальностью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32000" y="404640"/>
            <a:ext cx="691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лж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260280"/>
            <a:ext cx="882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ификация професс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1700280"/>
            <a:ext cx="6624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1773360"/>
            <a:ext cx="64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Типы профессий (ПТЧЗ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708280"/>
            <a:ext cx="6840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781360"/>
            <a:ext cx="63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лассы профессий (ГП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3933720"/>
            <a:ext cx="6912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Отделы профессий (РМА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941720"/>
            <a:ext cx="67672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Группы профессий (БОН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Какими качествами должен обладать человек, если предмет его труда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Челове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Тех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Знаковая систе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Художественный образ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Какими качествами должен обладать человек, если цель его труда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Распознать, различить, оценить, провери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Преобразовать, обслужить, оказать влия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ahoma"/>
              </a:rPr>
              <a:t>Изобрести, придума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Какими качествами должен обладать человек, если главные орудия его труд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ahoma"/>
              </a:rPr>
              <a:t>Руч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ahoma"/>
              </a:rPr>
              <a:t>Механизирован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ahoma"/>
              </a:rPr>
              <a:t>Автоматизированные устройст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ahoma"/>
              </a:rPr>
              <a:t>Функциональные средства организ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Какие психологические свойства личности необходимы для овладения профессиями: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лётчик-испытатель, агроном, маляр, учитель, слесарь-сборщик радиоаппаратуры, водитель, продавец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924280"/>
            <a:ext cx="8955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Свойства психики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яркость речи, наблюдательность, наглядно-действенное мышление, хорошая двигательная память, распределяемость внимания, выдержка, умение быстро принимать решения, прочность зрительного запоминания, техническая сообразительность, отзывчивость, организаторские способности, эмоциональность, быстрая реакция, воссоздающее восприятие, устойчивость вним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49:50Z</dcterms:created>
  <dc:creator>FAB Devon-Kredit</dc:creator>
  <dc:description/>
  <dc:language>en-US</dc:language>
  <cp:lastModifiedBy>FAB Devon-Kredit</cp:lastModifiedBy>
  <dcterms:modified xsi:type="dcterms:W3CDTF">2008-04-21T17:33:37Z</dcterms:modified>
  <cp:revision>7</cp:revision>
  <dc:subject/>
  <dc:title>Тема урока:</dc:title>
</cp:coreProperties>
</file>