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7ED-2C1B-43CB-B5AF-610FD230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61D-A941-4F1B-A5DB-2E24189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8AC-2A6D-4542-AC2C-0E6FEFC7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D68-7B2C-41A6-949F-775F739B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69B07-8366-4190-9109-F0DFCD37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5B143-DEB0-4175-B34D-56F56A63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095A-C9CF-4C59-9E3C-6C712A42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6B013-663C-4535-B2BD-C7EFF7C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A4F5D-F109-4174-9168-FBF1DF3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9F3B3-9E01-4CED-A340-9992515A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0289-4E76-4DF8-974C-1B9067E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0B7-16E5-46D4-B587-D43F900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729B-F698-4E8F-90FD-85EFDB5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EF7D-DE5A-4B08-A176-A2773A4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290DF-B22B-40BB-8440-4FC4123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5ECB5-E9D9-4CA1-95D1-251E7692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E0479-79F5-4071-93BB-6B775FA7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AFCE-A2AB-400C-8E4B-AF254FCF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0817-CD36-4183-9705-484FCCA3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7D13-192C-4E5D-BD3A-1C1C6301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39CC-333D-4720-8ED2-277AFD1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83B3-3209-4365-8072-2EAF49B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55A-BCE8-43E3-88F4-E5CE801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5124-5C96-4287-B85B-86E99A0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1F36-15A4-4D6D-AB47-70E6AB6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888F-BBE7-454B-9AC8-B025F9D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9A02-F83C-4EC1-8630-904C1B49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67D4-5BC2-4A75-9B09-FCED2485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B88C-64AB-4F45-9411-F486D286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8C01-355F-4FD9-84F7-94962A2B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96B4-9714-40E3-B353-33280830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1855-AB28-448D-BEE9-E91E6366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FE90-21D7-40CB-81FE-40FD1471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CA6-6901-499E-92A6-49E68C79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3529-9ADD-4B1E-BB74-8F34030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D38C-495D-4539-A7B8-8D724610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5DAC-081A-4D3F-B914-83E4749B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B9D0-3C8E-4F5A-9849-B2FBE75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064F-4160-4E56-B19A-589098A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8BF6-05A7-4D28-8653-A27A1FE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AD4B-1263-4A40-B34C-C7492FE3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56047-C9A3-4067-A873-57075744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EE6B-F35D-4351-8A27-09754393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8760-87A8-47CC-9A55-E9703E47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EDD-7B57-4611-A805-4D90676E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B9412-2845-45AC-A54A-598E5D5F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8077-3A74-4133-8D08-2A7F690B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E77A-ABD0-4C15-8A73-364AFC2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E987E-864B-4CF0-A816-8C4F63A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D699-DC4C-49AF-B7FE-8300C53F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3927-6133-4D0B-ACEB-0F3B7ED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4BB5-614F-4B29-877A-399E650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33C2-5AB3-48E9-A3ED-EFDF342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8BDA-5DEB-4C1B-8C41-F12ECED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36B3-230A-49B9-8E84-2BC8DB10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D86-80C2-45EE-B08C-BD45E31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2113-0A62-4E44-B32C-A64FC7AC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781-0218-4757-AE45-CC77C8F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51B-E224-405D-AEAD-0354BB5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620-702B-446D-9760-E7DBE65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62B4-31C8-4090-A62B-D1210628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9C00-4A98-464F-8F4C-F703D1FBD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B7F8-9559-4B7B-8EF7-1B7C97A52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142-212C-4D17-9FEB-EC27D6BC64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1A8-3D75-418E-A8FD-293666D8B1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84480" y="0"/>
            <a:ext cx="48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Исполнительный  комитет 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город  Набережные  Челны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Конкурс о сертификате «Учитель – Масте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152360"/>
            <a:ext cx="5562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ff3300"/>
                </a:solidFill>
                <a:uFillTx/>
                <a:latin typeface="Arial"/>
              </a:rPr>
              <a:t>ЗИЯТДИНОВА  ЕЛЕНА  АЛЬБЕРТОВ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итель  физической  культуры  высшей  квалификационной  категории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униципального  общеобразовательного  учреждения  «Средняя общеобразовательная  школа  №32  с  углубленным  изучением  предме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едагогический  стаж  22 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ff3300"/>
                </a:solidFill>
                <a:uFillTx/>
                <a:latin typeface="Arial"/>
              </a:rPr>
              <a:t>Победитель  лучших  учителей Российской  Федер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ff3300"/>
                </a:solidFill>
                <a:uFillTx/>
                <a:latin typeface="Arial"/>
              </a:rPr>
              <a:t>Эксперт аттестационной службы  Республики  Татарста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57200"/>
            <a:ext cx="83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Тема:  Развитие  и саморазвитие профессиональной компетенции  учителя предметника в образовательном 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75248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а  мастер-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фессиональная компетентность преподавателя физической 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ая программа -36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елирование  профессиональной  деятельности преподавателя  физической 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 Стимулирование  и  целенаправленное,  непрерывное  повышение  уровня  профессиональной  компетенции  педагогических  работников  в области 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467480" y="3581280"/>
            <a:ext cx="12193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вед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Образование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следует рассматривать сегодня  как т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ехнологию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построения  будущего  нашей страны,  как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технологию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которая  обеспечивает  здоровье  наших детей,  формируя культуру здоровья.( Национальная доктрина образования  РФ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Одна из причин  пассивного  отношения  человека  к своему здоровью- недостаточный уровень  объективной  системы  знаний  о здоровье.  Поэтому тезис «Здоровье  через  образование» заслуживает  серьёзного осмысления и  превращения  его  в доступную  всем систему  знаний  о  здоровь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Физическим  воспитанием  детей  и  учащейся  молодёжи  призваны  заниматься  семья  и педагогический  коллектив  учебного  учреждения.  Но  всё же особое  место  в этом  воспитательном  процессе  принадлежит  преподавателю  физической  культур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-  осознанное  изучение  и  понимание  учащимися значение  выполняемых  упражнений,  целенаправленное  влияние  их  на организ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Назначение практических  действий  преподавателя  физической  культуры  является повышение  физкультурно-оздоровительной  грамот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Только  профессионально компетентный преподаватель физической  культуры  может дать  правильное  представление о значимости физической  культуры в  гармоничном  развитии  личности  учащего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9154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Ожидаемые  Результат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Способность учителя к самообразованию и самосовершенств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- Творческое отношение учителя к раб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- Профессиональный  уровень овладения коммуникационно-информационными технолог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-  Приоритет – образовательным целя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662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Проблема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овысить  уровень  профессиональной  компетенции  преподавателя  физической  культуры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Решение  проблем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оделирование профессиональной  компетенции  преподавателя  в области  физической  культур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-   Развитие  профессионального  обучения. как  условие  совершенствования  образовательной  практ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-   Проектирование  педагогических  технологий  в  учебном  проце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-   Проектирование инновационной  модели здорового образа жизни школьников в системе спортивно-оздоровительной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- Организация  и проведение практического  семинара. Творческий отчёт  учите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Портфолио  учителя –фактор  повышения  уровня  профессионального образов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 программе  20 часов отведено  на  практическую  часть  заданий,  где  закрепляются навыки  самостоятельного творческого  решения  основных задач физического  воспитания  и оздоровления,  совершенствуются профессиональные  навыки  и умения преподавателя. Формируется  педагогическое  мышление и  профессиональная  ответствен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38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33"/>
                </a:solidFill>
                <a:latin typeface="Garamond"/>
              </a:rPr>
              <a:t>Профессиональная компетентность преподавателя физической  культуры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670572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Требования  к уровню  подготовки</a:t>
            </a:r>
            <a:br>
              <a:rPr sz="2000"/>
            </a:br>
            <a:r>
              <a:rPr b="1" i="1" lang="en-US" sz="1800" spc="-1" strike="noStrike">
                <a:solidFill>
                  <a:srgbClr val="006633"/>
                </a:solidFill>
                <a:latin typeface="Times New Roman"/>
              </a:rPr>
              <a:t>Понятие профессиональная компетентность преподавателя физической культуры, как дополняющая часть ГОС и комплексная характеристика личности, которая формируется в процессе физкультурного образования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6781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результате  освоения  программы, преподаватель  физической культуры должен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ИЗУЧАТЬ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: профессиограмму, анкеты,  диагностические  материалы,  образ  жизни занимающих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РАЗРАБАТЫВАТЬ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конспекты  занятий  с оздоровительной  направленность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ОПРЕДЕЛЯ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проблему, цели, задач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ПРОВОДИТЬ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наблюдение, анкетирование, спортивно-массовые мероприят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СОСТАВЛЯТЬ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разработки  уроков,  мероприят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ОРГАНИЗОВЫВАТЬ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портивно-оздоровительные  мероприят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ИССЛЕДО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уровень  здоровья  занимающих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33"/>
                </a:solidFill>
                <a:latin typeface="Times New Roman"/>
              </a:rPr>
              <a:t>ОФОРМЛЯТЬ</a:t>
            </a:r>
            <a:r>
              <a:rPr b="0" lang="ru-RU" sz="17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документаци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6633"/>
                </a:solidFill>
                <a:uFillTx/>
                <a:latin typeface="Times New Roman"/>
              </a:rPr>
              <a:t>Всё это  включает гармоничное  сочетание  профессиональных, коммуникативных и личностных характеристик  преподавателя</a:t>
            </a:r>
            <a:r>
              <a:rPr b="1" i="1" lang="ru-RU" sz="1800" spc="-1" strike="noStrike" u="sng">
                <a:solidFill>
                  <a:srgbClr val="006633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019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3300"/>
                </a:solidFill>
                <a:latin typeface="Garamond"/>
              </a:rPr>
              <a:t>Конечные результа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а основании  предложенных  материалов ,  в  условиях  перехода на новые образовательные  стандарты   по  физической  культуре,  эта  программа может быть  эффективно реализов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 процессе обучения  преподаватель  совершенствует  свои профессиональные  качества,  повышает уровень  квалификации, возможность  повышения  уровня оплаты тр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8:05:56Z</dcterms:created>
  <dc:creator>Мама</dc:creator>
  <dc:description/>
  <dc:language>en-US</dc:language>
  <cp:lastModifiedBy>Мама</cp:lastModifiedBy>
  <dcterms:modified xsi:type="dcterms:W3CDTF">2010-09-16T06:46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