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A370-40D9-40BC-8C06-87D8A9EB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5391-E72D-4B8C-9983-BBB31718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1DCD-29E1-4AE1-B697-6BD0702C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0EB5-8C8A-4914-B40F-550CF806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31D6-C374-4D89-8AFF-B242AD6E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BEF0-599F-4043-BE3B-31BC9715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AC29-998E-4806-9F28-782EC3BB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EC08-351D-43CB-BB2A-D323F97C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4AF4-6611-4D7D-A0C9-944D8620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090D-FDC7-49F7-BDE9-6C5E61D4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7552-748E-4C90-AE6A-78525A45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386-B176-442B-8144-8D58B803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0D1F-1289-4723-A2EF-6763BB41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8E6E-09EE-4C1B-AFA7-11214CBC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6651-039D-426C-AD7E-811EA2A4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7418-1971-4BF5-9CDA-9FD0C8AA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E64A-C9DD-441C-918F-FFE92CCF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6556-3E89-453D-9FC4-C3C1BAB2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193A-8D66-4CB2-AA67-4C6BBD12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A8F8-24B0-4963-B2E1-B3049349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52E2-4D51-46E9-AC3D-3D6BF75B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B52B-374B-41B1-8568-634A08AB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972C-D9BD-4BBD-B723-FDA3E2CE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3D96-D6F0-417C-B417-5CC9520F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804D-39C0-445E-9CD0-FFD68C864CDE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A3A1-7EB1-4B05-AB3D-DE67323A6506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2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6.wmf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99"/>
                </a:solidFill>
                <a:latin typeface="Monotype Corsiva"/>
              </a:rPr>
              <a:t>Животные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114720" y="1693800"/>
            <a:ext cx="29145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66"/>
                </a:solidFill>
                <a:uFillTx/>
                <a:latin typeface="Arial"/>
              </a:rPr>
              <a:t>Скажите по-китайски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У меня есть змейка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У меня есть заяц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У моего брата есть волк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У меня есть слон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У меня есть желтая собачка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Новые слова. Урок№2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Xiong</a:t>
            </a: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4000" spc="-1" strike="noStrike">
                <a:solidFill>
                  <a:srgbClr val="eaeaea"/>
                </a:solidFill>
                <a:latin typeface="Arial"/>
              </a:rPr>
              <a:t> медведь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Mao</a:t>
            </a:r>
            <a:r>
              <a:rPr b="1" lang="ru-RU" sz="4000" spc="-1" strike="noStrike">
                <a:solidFill>
                  <a:srgbClr val="eaeaea"/>
                </a:solidFill>
                <a:latin typeface="Arial"/>
              </a:rPr>
              <a:t>-кошка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Yang</a:t>
            </a:r>
            <a:r>
              <a:rPr b="1" lang="ru-RU" sz="4000" spc="-1" strike="noStrike">
                <a:solidFill>
                  <a:srgbClr val="eaeaea"/>
                </a:solidFill>
                <a:latin typeface="Arial"/>
              </a:rPr>
              <a:t>-баран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Xiongmao</a:t>
            </a:r>
            <a:r>
              <a:rPr b="1" lang="ru-RU" sz="4000" spc="-1" strike="noStrike">
                <a:solidFill>
                  <a:srgbClr val="eaeaea"/>
                </a:solidFill>
                <a:latin typeface="Arial"/>
              </a:rPr>
              <a:t>-панда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Niu</a:t>
            </a:r>
            <a:r>
              <a:rPr b="1" lang="ru-RU" sz="4000" spc="-1" strike="noStrike">
                <a:solidFill>
                  <a:srgbClr val="eaeaea"/>
                </a:solidFill>
                <a:latin typeface="Arial"/>
              </a:rPr>
              <a:t>-корова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Niao</a:t>
            </a:r>
            <a:r>
              <a:rPr b="1" lang="ru-RU" sz="4000" spc="-1" strike="noStrike">
                <a:solidFill>
                  <a:srgbClr val="eaeaea"/>
                </a:solidFill>
                <a:latin typeface="Arial"/>
              </a:rPr>
              <a:t>-птичка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600200" y="1447920"/>
            <a:ext cx="38088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236232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95280" y="2895480"/>
            <a:ext cx="76320" cy="3812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523880" y="3733920"/>
            <a:ext cx="304920" cy="3045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66880" y="3962520"/>
            <a:ext cx="3812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600200" y="4495320"/>
            <a:ext cx="228600" cy="304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5257800"/>
            <a:ext cx="15228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523880" y="5257440"/>
            <a:ext cx="2286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930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2004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687760" y="1449360"/>
            <a:ext cx="37623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9369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502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33192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352680" y="2057400"/>
            <a:ext cx="2210040" cy="2819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2514600" cy="2971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5410080" y="380880"/>
            <a:ext cx="3103560" cy="26323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5486400" y="380988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304920" y="4114800"/>
            <a:ext cx="2895480" cy="23623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3048120" y="0"/>
            <a:ext cx="19047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Скажите по-китайск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У меня есть медведь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У меня есть кошка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У меня есть барашек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У меня ест панда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У меня есть корова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У меня есть птичка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Новые слова урок№1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Arial"/>
              </a:rPr>
              <a:t>She</a:t>
            </a:r>
            <a:r>
              <a:rPr b="0" lang="ru-RU" sz="4800" spc="-1" strike="noStrike">
                <a:solidFill>
                  <a:srgbClr val="eaeaea"/>
                </a:solidFill>
                <a:latin typeface="Arial"/>
              </a:rPr>
              <a:t>-змея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Arial"/>
              </a:rPr>
              <a:t>Gou</a:t>
            </a:r>
            <a:r>
              <a:rPr b="0" lang="ru-RU" sz="4800" spc="-1" strike="noStrike">
                <a:solidFill>
                  <a:srgbClr val="eaeaea"/>
                </a:solidFill>
                <a:latin typeface="Arial"/>
              </a:rPr>
              <a:t>-собака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Arial"/>
              </a:rPr>
              <a:t>Lang</a:t>
            </a:r>
            <a:r>
              <a:rPr b="0" lang="ru-RU" sz="4800" spc="-1" strike="noStrike">
                <a:solidFill>
                  <a:srgbClr val="eaeaea"/>
                </a:solidFill>
                <a:latin typeface="Arial"/>
              </a:rPr>
              <a:t>-волк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Arial"/>
              </a:rPr>
              <a:t>Tuzi</a:t>
            </a:r>
            <a:r>
              <a:rPr b="0" lang="ru-RU" sz="4800" spc="-1" strike="noStrike">
                <a:solidFill>
                  <a:srgbClr val="eaeaea"/>
                </a:solidFill>
                <a:latin typeface="Arial"/>
              </a:rPr>
              <a:t>-заяц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Arial"/>
              </a:rPr>
              <a:t>Xiang</a:t>
            </a:r>
            <a:r>
              <a:rPr b="0" lang="ru-RU" sz="4800" spc="-1" strike="noStrike">
                <a:solidFill>
                  <a:srgbClr val="eaeaea"/>
                </a:solidFill>
                <a:latin typeface="Arial"/>
              </a:rPr>
              <a:t>-слон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828800" y="1447920"/>
            <a:ext cx="38088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2438280"/>
            <a:ext cx="304920" cy="304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447920" y="2437920"/>
            <a:ext cx="304560" cy="304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447920" y="3200400"/>
            <a:ext cx="30456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114800"/>
            <a:ext cx="228600" cy="304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4952880"/>
            <a:ext cx="228600" cy="3812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124080" y="2514600"/>
            <a:ext cx="1600200" cy="2057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905120" cy="23619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400800" y="228600"/>
            <a:ext cx="1905120" cy="20224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6934320" y="2438280"/>
            <a:ext cx="1904760" cy="17528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228600" y="2819520"/>
            <a:ext cx="2209680" cy="1676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3048120" y="0"/>
            <a:ext cx="1904760" cy="18763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1371600" y="4724280"/>
            <a:ext cx="1752480" cy="18288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8"/>
          <a:stretch/>
        </p:blipFill>
        <p:spPr>
          <a:xfrm>
            <a:off x="3429000" y="487692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9"/>
          <a:stretch/>
        </p:blipFill>
        <p:spPr>
          <a:xfrm>
            <a:off x="5334120" y="4800600"/>
            <a:ext cx="1371600" cy="17524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0"/>
          <a:stretch/>
        </p:blipFill>
        <p:spPr>
          <a:xfrm>
            <a:off x="7162920" y="4495680"/>
            <a:ext cx="1523880" cy="17528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1"/>
          <a:stretch/>
        </p:blipFill>
        <p:spPr>
          <a:xfrm>
            <a:off x="5105520" y="2666880"/>
            <a:ext cx="1523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амостоятельная работа по словам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Вол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Соба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яц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Сло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ме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Кор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Птиц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Медвед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Панд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Бара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Кош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Lang 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Gou 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Tuzi 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Xiang 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She 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Niu 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Niao 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Xiong 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Xiongmao 2,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Yang 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Mao 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99"/>
                </a:solidFill>
                <a:uFillTx/>
                <a:latin typeface="Arial"/>
              </a:rPr>
              <a:t>Новые слова. Урок №3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Yu-</a:t>
            </a: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 рыбка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Ma</a:t>
            </a: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- лошадь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iwei</a:t>
            </a: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- ёж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Ya</a:t>
            </a: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- утка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Shizi</a:t>
            </a: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- лев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Houzi</a:t>
            </a: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- обезьяна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Songshu</a:t>
            </a: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- белка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371240" y="1600200"/>
            <a:ext cx="15228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2286000"/>
            <a:ext cx="7632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1447920" y="2285640"/>
            <a:ext cx="2286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2819520"/>
            <a:ext cx="152280" cy="3045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365760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5280" y="434340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1447560" y="4876920"/>
            <a:ext cx="15228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19320" y="563868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09680" y="5562720"/>
            <a:ext cx="152640" cy="152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362320" y="5486040"/>
            <a:ext cx="2286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300384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05320" y="1752480"/>
            <a:ext cx="24382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200400" y="1981080"/>
            <a:ext cx="26938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24638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31194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0388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3276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40384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00400" y="1066680"/>
            <a:ext cx="3225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28191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2666880" cy="28958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791320" y="533520"/>
            <a:ext cx="2286000" cy="28191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3200400" y="380880"/>
            <a:ext cx="2286000" cy="23623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5410080" y="3429000"/>
            <a:ext cx="1981440" cy="28195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2286000" y="3962520"/>
            <a:ext cx="2209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514600" y="228600"/>
            <a:ext cx="441972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Arial"/>
              </a:rPr>
              <a:t>you</a:t>
            </a:r>
            <a:endParaRPr b="0" lang="en-US" sz="8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66"/>
                </a:solidFill>
                <a:latin typeface="Arial"/>
              </a:rPr>
              <a:t>есть</a:t>
            </a:r>
            <a:endParaRPr b="0" lang="en-US" sz="8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304920"/>
            <a:ext cx="22860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572000" y="304920"/>
            <a:ext cx="15228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12-23T00:39:5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