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media/image9.jpeg" ContentType="image/jpe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4A70-51CB-4AAB-8798-C9A9C081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5AAE-6089-46A4-9BFE-9057E024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7E9A-97E6-43E2-A9F0-A7427F1C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4899-6E92-4ADA-A41F-2C6D2951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B07D-B8D8-46B3-899A-90F4A587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C8E2-C809-4355-BEB0-F8213975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F6CC-0E6C-4416-93F7-79D8CA6C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12D3-0EF0-415A-953D-05A01AEB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79DC-385F-4A68-9740-6934D125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B56D-E68D-48DD-A38A-2A218F40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01C9-F482-4CBB-8118-7EE2222A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1556-CCF8-480B-B735-7E0584D7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82F3-8C37-4F93-B783-FBCB98A1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791D-AD23-4823-BB81-551AB351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C760-4AA5-4233-A666-C4F36DEE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3661-B539-43B5-B3AD-57773EC9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B869-6B84-43E3-BDF5-A4439D8F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132B-2685-4295-A1EF-4C7A1339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8120-F5D3-4594-854F-131EA61F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80CC-F61A-4D1A-A4FC-73E5839A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207D-AE67-471D-B0B7-B704B81A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C9D0-FF67-45AC-958E-83FE71E4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394A-6771-47C0-B85E-30331D41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122F-D8C4-41A8-8C9E-E46DBB75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C8B4-5DA8-4E95-848E-56DD0CE1CB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BEFB-8552-4A15-97C5-5E362B7CE8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00"/>
                </a:solidFill>
                <a:uFillTx/>
                <a:latin typeface="Monotype Corsiva"/>
              </a:rPr>
              <a:t>Тема: В магазине: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Фрукты и овощи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PH02823J"/>
          <p:cNvPicPr/>
          <p:nvPr/>
        </p:nvPicPr>
        <p:blipFill>
          <a:blip r:embed="rId1"/>
          <a:stretch/>
        </p:blipFill>
        <p:spPr>
          <a:xfrm>
            <a:off x="2819520" y="434340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PH02827J"/>
          <p:cNvPicPr/>
          <p:nvPr/>
        </p:nvPicPr>
        <p:blipFill>
          <a:blip r:embed="rId2"/>
          <a:stretch/>
        </p:blipFill>
        <p:spPr>
          <a:xfrm>
            <a:off x="5943600" y="152280"/>
            <a:ext cx="28195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PH02838J"/>
          <p:cNvPicPr/>
          <p:nvPr/>
        </p:nvPicPr>
        <p:blipFill>
          <a:blip r:embed="rId1"/>
          <a:stretch/>
        </p:blipFill>
        <p:spPr>
          <a:xfrm>
            <a:off x="1370160" y="685800"/>
            <a:ext cx="6400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j0297585"/>
          <p:cNvPicPr/>
          <p:nvPr/>
        </p:nvPicPr>
        <p:blipFill>
          <a:blip r:embed="rId1"/>
          <a:stretch/>
        </p:blipFill>
        <p:spPr>
          <a:xfrm>
            <a:off x="838080" y="533520"/>
            <a:ext cx="4337280" cy="3687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j0297501"/>
          <p:cNvPicPr/>
          <p:nvPr/>
        </p:nvPicPr>
        <p:blipFill>
          <a:blip r:embed="rId2"/>
          <a:stretch/>
        </p:blipFill>
        <p:spPr>
          <a:xfrm>
            <a:off x="5562720" y="2743200"/>
            <a:ext cx="30366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BD07251_"/>
          <p:cNvPicPr/>
          <p:nvPr/>
        </p:nvPicPr>
        <p:blipFill>
          <a:blip r:embed="rId1"/>
          <a:stretch/>
        </p:blipFill>
        <p:spPr>
          <a:xfrm>
            <a:off x="2590920" y="2133720"/>
            <a:ext cx="45720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Times New Roman"/>
              </a:rPr>
              <a:t>Запишите по-китайски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Мне нужно купить овощей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Мне нужно купить капусту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Мне нужно купить картошк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Мне нужно купить фрукт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Мне нужно купить яблок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Мне нужно купить груш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ff"/>
                </a:solidFill>
                <a:latin typeface="Times New Roman"/>
              </a:rPr>
              <a:t>Новые слова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gei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авать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gei wo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дайте мне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1523880" y="1828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5"/>
          <p:cNvSpPr/>
          <p:nvPr/>
        </p:nvSpPr>
        <p:spPr>
          <a:xfrm flipV="1">
            <a:off x="1676520" y="1828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1600200" y="25909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7"/>
          <p:cNvSpPr/>
          <p:nvPr/>
        </p:nvSpPr>
        <p:spPr>
          <a:xfrm flipV="1">
            <a:off x="1676520" y="25905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2514600" y="25909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9"/>
          <p:cNvSpPr/>
          <p:nvPr/>
        </p:nvSpPr>
        <p:spPr>
          <a:xfrm flipV="1">
            <a:off x="2666880" y="259056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ff"/>
                </a:solidFill>
                <a:latin typeface="Times New Roman"/>
              </a:rPr>
              <a:t>Скажите и запишите по-китайски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Дайте мне яблок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Дайте мне груш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Дайте мне овоще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Дайте мне фруктов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Дайте мне картошки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Скажите и запишите по-китайски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6 юаней, 13 юаней 10 мао,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45 юаней 10 мао, 33 юаня 80 мао 7 фене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19 юаней 75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65 юане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6 мао 8 фене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8000"/>
                </a:solidFill>
                <a:uFillTx/>
                <a:latin typeface="Monotype Corsiva"/>
              </a:rPr>
              <a:t>Скажите и запишите по-китайски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1 кг. Груш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5 кг. Фруктов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3,5 кг. Капуст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4 кг. Картошки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7 кг. Овоще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 u="sng">
                <a:solidFill>
                  <a:srgbClr val="008000"/>
                </a:solidFill>
                <a:uFillTx/>
                <a:latin typeface="Verdana"/>
              </a:rPr>
              <a:t>Скажите и запишите по-китайски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1 кг. Груш сколько стоит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5 кг. Фруктов сколько стоит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3,5 кг. Капусты сколько стоит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4 кг. Картошки сколько стоит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7 кг. Овощей сколько стоит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Скажите и запишите по-китайски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 кг. Груш стоит 5 юане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5 кг. Фруктов стоит 3 юан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,5 кг. Капусты стоит 6 юане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 кг. Картошки стоит 3 юаня 3 ма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7 кг. Овощей стоит 2 юаня 3 фен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ff"/>
                </a:solidFill>
                <a:latin typeface="Monotype Corsiva"/>
              </a:rPr>
              <a:t>Слова по теме: в магазине: фрукты и овощ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qingcai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-овощи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baicai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-капуста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tudou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-картофель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huiguo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-фрукты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li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-груша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Line 4"/>
          <p:cNvSpPr/>
          <p:nvPr/>
        </p:nvSpPr>
        <p:spPr>
          <a:xfrm>
            <a:off x="137160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Line 5"/>
          <p:cNvSpPr/>
          <p:nvPr/>
        </p:nvSpPr>
        <p:spPr>
          <a:xfrm>
            <a:off x="2590920" y="175248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Line 6"/>
          <p:cNvSpPr/>
          <p:nvPr/>
        </p:nvSpPr>
        <p:spPr>
          <a:xfrm flipH="1">
            <a:off x="16761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Line 7"/>
          <p:cNvSpPr/>
          <p:nvPr/>
        </p:nvSpPr>
        <p:spPr>
          <a:xfrm>
            <a:off x="2286000" y="2666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447920" y="358128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Line 9"/>
          <p:cNvSpPr/>
          <p:nvPr/>
        </p:nvSpPr>
        <p:spPr>
          <a:xfrm flipV="1">
            <a:off x="1523880" y="35809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20574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1981080" y="4419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Line 12"/>
          <p:cNvSpPr/>
          <p:nvPr/>
        </p:nvSpPr>
        <p:spPr>
          <a:xfrm flipV="1">
            <a:off x="2133720" y="44193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2819520" y="4419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Line 14"/>
          <p:cNvSpPr/>
          <p:nvPr/>
        </p:nvSpPr>
        <p:spPr>
          <a:xfrm flipV="1">
            <a:off x="2971800" y="44193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Line 15"/>
          <p:cNvSpPr/>
          <p:nvPr/>
        </p:nvSpPr>
        <p:spPr>
          <a:xfrm flipV="1">
            <a:off x="1447920" y="52574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ff9999"/>
                </a:solidFill>
                <a:uFillTx/>
                <a:latin typeface="Monotype Corsiva"/>
              </a:rPr>
              <a:t>Запишите по-китайски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-39924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66ff"/>
                </a:solidFill>
                <a:latin typeface="Monotype Corsiva"/>
              </a:rPr>
              <a:t>Я люблю кушать овощи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66ff"/>
                </a:solidFill>
                <a:latin typeface="Monotype Corsiva"/>
              </a:rPr>
              <a:t>Я люблю кушать капусту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66ff"/>
                </a:solidFill>
                <a:latin typeface="Monotype Corsiva"/>
              </a:rPr>
              <a:t>Я люблю кушать картошку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66ff"/>
                </a:solidFill>
                <a:latin typeface="Monotype Corsiva"/>
              </a:rPr>
              <a:t>Я люблю кушать фрукты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66ff"/>
                </a:solidFill>
                <a:latin typeface="Monotype Corsiva"/>
              </a:rPr>
              <a:t>Я люблю кушать груши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66ff"/>
                </a:solidFill>
                <a:latin typeface="Monotype Corsiva"/>
              </a:rPr>
              <a:t>Я люблю кушать яблоки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FD00963_"/>
          <p:cNvPicPr/>
          <p:nvPr/>
        </p:nvPicPr>
        <p:blipFill>
          <a:blip r:embed="rId1"/>
          <a:stretch/>
        </p:blipFill>
        <p:spPr>
          <a:xfrm>
            <a:off x="2057400" y="2057400"/>
            <a:ext cx="480060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J0144269"/>
          <p:cNvPicPr/>
          <p:nvPr/>
        </p:nvPicPr>
        <p:blipFill>
          <a:blip r:embed="rId1"/>
          <a:stretch/>
        </p:blipFill>
        <p:spPr>
          <a:xfrm>
            <a:off x="2057400" y="1981080"/>
            <a:ext cx="464652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FD02168_"/>
          <p:cNvPicPr/>
          <p:nvPr/>
        </p:nvPicPr>
        <p:blipFill>
          <a:blip r:embed="rId1"/>
          <a:stretch/>
        </p:blipFill>
        <p:spPr>
          <a:xfrm>
            <a:off x="2971800" y="2133720"/>
            <a:ext cx="32828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PH02812J"/>
          <p:cNvPicPr/>
          <p:nvPr/>
        </p:nvPicPr>
        <p:blipFill>
          <a:blip r:embed="rId1"/>
          <a:stretch/>
        </p:blipFill>
        <p:spPr>
          <a:xfrm>
            <a:off x="1370160" y="685800"/>
            <a:ext cx="6400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FD00476_"/>
          <p:cNvPicPr/>
          <p:nvPr/>
        </p:nvPicPr>
        <p:blipFill>
          <a:blip r:embed="rId1"/>
          <a:stretch/>
        </p:blipFill>
        <p:spPr>
          <a:xfrm>
            <a:off x="3124080" y="2057400"/>
            <a:ext cx="294012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66ff"/>
                </a:solidFill>
                <a:latin typeface="Times New Roman"/>
              </a:rPr>
              <a:t>Скажите по-китайски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Я люблю кушать овощи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Я люблю кушать капусту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Я люблю кушать картофель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Я люблю кушать груши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Я люблю кушать яблоки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ff"/>
                </a:solidFill>
                <a:latin typeface="Monotype Corsiva"/>
              </a:rPr>
              <a:t>Слова по теме: в магазине: фрукты и овощ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pingguo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яблоко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yao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надо, нужно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ai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покупать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hangdian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магазин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qian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деньги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4"/>
          <p:cNvSpPr/>
          <p:nvPr/>
        </p:nvSpPr>
        <p:spPr>
          <a:xfrm flipV="1">
            <a:off x="1600200" y="17521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2819520" y="18288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6"/>
          <p:cNvSpPr/>
          <p:nvPr/>
        </p:nvSpPr>
        <p:spPr>
          <a:xfrm flipV="1">
            <a:off x="2971800" y="18284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1600200" y="25146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1676520" y="327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9"/>
          <p:cNvSpPr/>
          <p:nvPr/>
        </p:nvSpPr>
        <p:spPr>
          <a:xfrm flipV="1">
            <a:off x="1828800" y="327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175248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3200400" y="41911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12"/>
          <p:cNvSpPr/>
          <p:nvPr/>
        </p:nvSpPr>
        <p:spPr>
          <a:xfrm flipV="1">
            <a:off x="1905120" y="502884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стя</cp:lastModifiedBy>
  <dcterms:modified xsi:type="dcterms:W3CDTF">2011-01-27T17:54:5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