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25C-B32D-4DA0-B896-691518BB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078-7653-4E18-8C56-F3D446A6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B93-9F8F-4EB5-A581-0F34F5A4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A65-E8A8-42AD-990D-67E7F08E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2734-64C7-47A1-A09F-90D1BAFE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88E5-D116-40F5-890E-648D8ED8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1D96-9A28-4461-B285-A396EC15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28E2-20B7-49FF-A653-05EDC925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AAA7-6796-4E8A-ACDB-FB609A8C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612B-9CAA-4FFC-B9BE-064CB33F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6CF4-8C70-4837-B1B0-37E9B629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201-CC62-48C4-8F4B-A638FD7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B38B-C584-46BD-8B0D-AD8607D1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C5B3-E484-40DA-8932-9A646BA5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8A46-2E63-412E-B5DF-0984C012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C8CC-8CCF-43D2-B920-0183F5DF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C221-CBB4-466F-918C-642A8302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379-E389-467F-9C2F-834E9054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F39-BC91-44EF-AC00-04C51C98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4F9-B59B-4EC9-99B7-F7897D2A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254-82F1-4370-AA40-54F0B435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511-F3D9-4700-A289-356DECC4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33B-3BF7-4DC3-B4CF-68145CC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F4E-BC1E-4D59-AB26-544BEB0A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CFF1-D443-4ED4-84FB-7E14A0823D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2574-D05A-4D9E-97AE-E9CABDB1BC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00ff"/>
                </a:solidFill>
                <a:uFillTx/>
                <a:latin typeface="Monotype Corsiva"/>
              </a:rPr>
              <a:t>Человек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cc66"/>
                </a:solidFill>
                <a:uFillTx/>
                <a:latin typeface="Monotype Corsiva"/>
              </a:rPr>
              <a:t>Части тела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62720" y="3276720"/>
            <a:ext cx="30956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66"/>
                </a:solidFill>
                <a:latin typeface="Monotype Corsiva"/>
              </a:rPr>
              <a:t>Новые слова: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iao-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тупн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ufa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волос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нос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Zui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рот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r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ухо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752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76520" y="1752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00200" y="2437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523880" y="31237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886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38095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5720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295280" y="457164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чтите слов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qianbi, xian, xiangzi, mianbao, jiaoshi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Zhuozi, shuo, chou, xiezi, shou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Che, lie, daozi, bian, guozi,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1828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666880" y="18284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590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5909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2514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3429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81680" y="33523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3276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191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828800" y="4190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181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49528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510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086600" y="50288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овые слов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amuzh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Mianj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Shouzh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q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1752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14600" y="1752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1752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76720" y="1752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590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895480" y="25142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4290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905120" y="3428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48120" y="3200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66"/>
                </a:solidFill>
                <a:latin typeface="Monotype Corsiva"/>
              </a:rPr>
              <a:t>Новые слова: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ou-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голов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i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-рука(от плеча)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hou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-рука(кисть)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u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-глаз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ui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-ног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752480" y="17521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4382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27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057400" y="327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876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81080" y="48769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74960" y="1447920"/>
            <a:ext cx="3392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36880" y="1427040"/>
            <a:ext cx="3267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62480" y="2360520"/>
            <a:ext cx="2217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43040" y="1427040"/>
            <a:ext cx="40561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11600" y="1427040"/>
            <a:ext cx="35179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306520" cy="2361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886200" y="533520"/>
            <a:ext cx="2397240" cy="2228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29400" y="2286000"/>
            <a:ext cx="2217600" cy="160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80880" y="3124080"/>
            <a:ext cx="2714760" cy="222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886200" y="3352680"/>
            <a:ext cx="2293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cc00ff"/>
                </a:solidFill>
                <a:uFillTx/>
                <a:latin typeface="Palace Script MT"/>
              </a:rPr>
              <a:t>Запишите по-китайск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Verdana"/>
              </a:rPr>
              <a:t>У меня есть голо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Verdana"/>
              </a:rPr>
              <a:t>У меня есть рук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Verdana"/>
              </a:rPr>
              <a:t>У меня есть рука(кисть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Verdana"/>
              </a:rPr>
              <a:t>У меня есть глаз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Verdana"/>
              </a:rPr>
              <a:t>У меня есть ног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4-20T23:12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