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3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4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4C734-E2D8-408B-983C-BAA2386FD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274E6-5F5D-4253-B8DC-CA861A67B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D24BB-7C32-4339-988A-ADB84FEF1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3676F-6761-4E02-8A6E-634455790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076CB-36A1-4241-94ED-8A2FE3616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E85F6-02FA-40DF-952B-B1AB4E31F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DB48B-CCF5-473B-AC4C-9BBC94B73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A7DFB-DCE2-44D1-998A-EC5AC41F2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E3B03-7808-4B6B-AD24-4CD516375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F4137-D755-4C04-9125-9824E5468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2BD54-428E-461F-9A6B-D14B2E50B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F15CE-B171-47E0-A555-35C2AF000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E4540-FB99-4B09-8933-C9B37345C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12C80-F9F7-4608-AF1D-79A749D8A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C8BA7-B1D3-4AD5-8153-01EDA5D82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7EC22-4D47-47EE-9DDA-7AB17E31E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3EDB9-8CC4-4586-A781-423F8E7B3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6F097-C4C9-4540-8B67-4A025D2A7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D30A3-8F88-4D8C-9798-F013EF8D6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53924-7793-491A-8430-68B42A305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D3B3E-19C5-4C01-9B07-EC8566663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0E61C-FC2E-4D02-8F8F-CD33AB0C2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84931-02FD-4613-9BA3-3864AB4EE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43992-17C2-43D8-81F5-F615DC31F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2EF0B-04B4-4B19-999D-940CEF2D9462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83111-FEA0-4AF4-A615-9A05644BBC6F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2395440" y="1290600"/>
            <a:ext cx="4062600" cy="333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2819520" y="1905120"/>
            <a:ext cx="3111480" cy="27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2590920" y="2057400"/>
            <a:ext cx="3632040" cy="24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2362320" y="1752480"/>
            <a:ext cx="3655800" cy="28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3048120" y="1752480"/>
            <a:ext cx="305100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2895480" y="2222640"/>
            <a:ext cx="2570400" cy="273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3200400" y="2209680"/>
            <a:ext cx="2849400" cy="23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3200400" y="2133720"/>
            <a:ext cx="280044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2241720" y="1136520"/>
            <a:ext cx="4582800" cy="336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2819520" y="2133720"/>
            <a:ext cx="3314520" cy="260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2286000" y="1905120"/>
            <a:ext cx="3797280" cy="335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2514600" y="1600200"/>
            <a:ext cx="388620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241720" y="1851120"/>
            <a:ext cx="4584600" cy="241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2529000" y="1084320"/>
            <a:ext cx="4008240" cy="34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3200400" y="2057400"/>
            <a:ext cx="2890800" cy="263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3306600" y="1089000"/>
            <a:ext cx="2452680" cy="34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2871720" y="1084320"/>
            <a:ext cx="3324240" cy="34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438280" y="2266920"/>
            <a:ext cx="3886200" cy="27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3352680" y="1905120"/>
            <a:ext cx="289584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3352680" y="1828800"/>
            <a:ext cx="2630520" cy="30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2895480" y="1600200"/>
            <a:ext cx="3535560" cy="319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3429000" y="2057400"/>
            <a:ext cx="247032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 rot="5400000">
            <a:off x="2007360" y="126000"/>
            <a:ext cx="2369880" cy="364176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3581280" y="3124080"/>
            <a:ext cx="4600800" cy="34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ustomer</cp:lastModifiedBy>
  <dcterms:modified xsi:type="dcterms:W3CDTF">2010-03-03T13:40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