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17D-B3E6-4475-BFE0-2E9639AA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ADB-A1DE-4372-AD19-3F2298CA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B7F-5D46-4FF5-9525-848E6609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BE4-BBA8-45CA-9844-9906E289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8F4-E7E8-40C8-84EA-93D1290B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C40-6AEE-4E1C-BB65-7F904841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D7E-B8F1-490D-9DF5-B5059D0B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8E0-CA64-45D9-B454-6D0C0122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5A5-2B59-4924-AFEE-BE6D9809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1F5-EFEE-410E-ADED-BF31F3DF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886-D4D5-4C84-B9FE-5B223D3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111-4057-4448-AFF3-ED7697A6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ACB9-D45E-472F-92F4-3E11571D0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99"/>
                </a:solidFill>
                <a:uFillTx/>
                <a:latin typeface="Monotype Corsiva"/>
              </a:rPr>
              <a:t>Самостоятельная работа: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333399"/>
                </a:solidFill>
                <a:uFillTx/>
                <a:latin typeface="Monotype Corsiva"/>
              </a:rPr>
              <a:t>запишите иероглиф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onotype Corsiva"/>
              </a:rPr>
              <a:t>15 мая 1985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onotype Corsiva"/>
              </a:rPr>
              <a:t>31 декабря 2000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onotype Corsiva"/>
              </a:rPr>
              <a:t>8 марта 2010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onotype Corsiva"/>
              </a:rPr>
              <a:t>7 февраля 1984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onotype Corsiva"/>
              </a:rPr>
              <a:t>21 ноября 1999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onotype Corsiva"/>
              </a:rPr>
              <a:t>5 апреля 1975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00"/>
                </a:solidFill>
                <a:uFillTx/>
                <a:latin typeface="Monotype Corsiva"/>
              </a:rPr>
              <a:t>Домашняя работа: запишите иероглифа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Monotype Corsiva"/>
              </a:rPr>
              <a:t>8 октяб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Monotype Corsiva"/>
              </a:rPr>
              <a:t>15 чис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Monotype Corsiva"/>
              </a:rPr>
              <a:t>2014 г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Monotype Corsiva"/>
              </a:rPr>
              <a:t>29 февра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Monotype Corsiva"/>
              </a:rPr>
              <a:t>7 чис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Monotype Corsiva"/>
              </a:rPr>
              <a:t>Ию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2-03T11:07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