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D0C-FA8A-44E2-B935-75BA4F24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CA1-341D-403D-8170-3122653A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865-E78C-45B7-B376-29CD769E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849-6E08-48E2-8009-4E589ABE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FE3F-4C0F-44AC-A39C-1BC1690A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C56-448B-4EBB-BD54-156AB22A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942A-A0A7-43AC-9795-215D09D4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F621-F1DF-42FF-A270-29F976D9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36CB-14F0-43DC-9AFE-B826779E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CED2-2AB5-4421-A444-4A8700B5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A115-B33B-4B76-966A-06C0336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ADE-1477-48E9-9329-388BFC2C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E763-0F2D-4203-A4CD-9DF928C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8906-07C1-4E8F-8381-BF36F346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4991-7D0A-41EC-9ECA-27E2394E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9FD9-8D35-4102-825C-52337413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CCD5-1F42-4B5B-AC0A-EC58B579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350-B068-40D9-AD34-8C78AD31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247-91A6-4B30-88D6-DEE1F009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DD1-7FC8-4A78-B42B-AB716EEC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AD0-E220-4AA5-A6BA-6E5814A8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745-7323-4793-AA92-5041DB62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09B-9E3F-45B6-AD44-1FF9FE4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DCC-6555-41B1-BEC7-A3307ED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E73C-979B-41CA-BCA5-B7B9E23D7D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3F12-F49D-44A4-84C2-71FD06807A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Запишите иероглифам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Я купил две книг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Я купил книг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Я купил много книг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Я купил картин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Я купил много картин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Я купил вторую книг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Скажите по-китайс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 меня есть зелёная ру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 меня есть красная ру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 мамы есть синяя ру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 мл. брата есть жёлтый карандаш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 меня есть чёрная ру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 меня есть оранжевая рези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 меня есть белая рези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Скажите по-китайск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рееха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овый д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какой д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и несколько д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ставляю новый д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рый до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зови ме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ду помог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одн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троить вечерин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04T12:21:0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