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8.jpeg" ContentType="image/jpeg"/>
  <Override PartName="/ppt/media/image9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C355F-03D5-43B6-8BF8-5822DB2B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5E3BB-12E0-4DAB-B2F2-A9B3E998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CCA68-5BF2-4CA5-9BAC-65A5981B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8F8B7-3701-440B-AB5D-257B1BB2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9559-8D9C-4A80-8343-391D0AAF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9182-C018-45B5-8577-D5137128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A6AF-C90D-4E3C-80F0-F2FB0B91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0761-3AF4-4916-BEFE-2726267D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CB1A-9053-47E4-90B5-8ACB7CF1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2764-9CB9-4D31-B51E-CD23A99D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9E92-C434-4EB5-9D2D-F90FD176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5B28A-D17F-4BD2-8156-5D3021DA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5C5E-57D0-4196-B49A-DCFA6E24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1246-7414-4349-9825-C766225B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A316-3204-4F21-B4B8-7644B598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91E2-D1CC-4FD4-B756-D5DEC9EB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C535-06CC-4B72-9943-30F1817E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B6435-6D21-4A15-8788-DF7176DE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D4FE4-CFA8-4A4F-8C2B-4A36F242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4A1F8-25F2-4BD0-8053-B7724E7A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7B0AF-7C9F-4DC6-98A4-F172A1C7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E9A3E-245F-4433-BD5E-9CDC20D8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B9DBE-2099-49B6-ADDE-DDD4F494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AA808-097A-4448-A5DC-62800BF4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4890-60E3-490F-A6B4-CB6FBF89128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AE6C-AAC3-4C71-9DA2-09EBCFA0E88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 u="sng">
                <a:solidFill>
                  <a:srgbClr val="ffff66"/>
                </a:solidFill>
                <a:uFillTx/>
                <a:latin typeface="Monotype Corsiva"/>
              </a:rPr>
              <a:t>Тема: Природа.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 u="sng">
                <a:solidFill>
                  <a:srgbClr val="9900cc"/>
                </a:solidFill>
                <a:uFillTx/>
                <a:latin typeface="Monotype Corsiva"/>
              </a:rPr>
              <a:t>Времена года.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ff"/>
                </a:solidFill>
                <a:uFillTx/>
                <a:latin typeface="Monotype Corsiva"/>
              </a:rPr>
              <a:t>Прочтите и переведите предложения на русский язык. Превратите предложения в отрицатель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Jintian xia x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Jintian gua fe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Jintian xia y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Jintian tianqi 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Jintian tianqi le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1981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20574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267080" y="20570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862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36576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35812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962520" y="35809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419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43434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533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8108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5410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86200" y="5257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52578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572000" y="51811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ff"/>
                </a:solidFill>
                <a:uFillTx/>
                <a:latin typeface="Monotype Corsiva"/>
              </a:rPr>
              <a:t>Слова по теме: Природа. Времена год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Times New Roman"/>
              </a:rPr>
              <a:t>nuanhuo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пло, тёплы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Times New Roman"/>
              </a:rPr>
              <a:t>yin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пасмурно, пасмурны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Times New Roman"/>
              </a:rPr>
              <a:t>qing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ясно, ясны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Times New Roman"/>
              </a:rPr>
              <a:t>zenmeyang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как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Times New Roman"/>
              </a:rPr>
              <a:t>huale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растая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20574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600200" y="20570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289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29528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4419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219320" y="44193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90920" y="43434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518148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ff"/>
                </a:solidFill>
                <a:uFillTx/>
                <a:latin typeface="Monotype Corsiva"/>
              </a:rPr>
              <a:t>Ответьте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Jintian tianqi nuanhuo m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Jintian tianqi yin m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Jintian tianqi qing m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00cc"/>
                </a:solidFill>
                <a:uFillTx/>
                <a:latin typeface="Times New Roman"/>
              </a:rPr>
              <a:t>Jintian tianqi zenmeya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Xue huale m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4952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752480" y="4952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4952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1981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2666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34290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41911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76920" y="19810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029200" y="1980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648320" y="34286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4267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572000" y="4267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41911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ff"/>
                </a:solidFill>
                <a:uFillTx/>
                <a:latin typeface="Monotype Corsiva"/>
              </a:rPr>
              <a:t>Слова по теме: Природа. Времена го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Times New Roman"/>
              </a:rPr>
              <a:t>jiji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езон, время го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Times New Roman"/>
              </a:rPr>
              <a:t>huar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цве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Times New Roman"/>
              </a:rPr>
              <a:t>kaile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расцве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Times New Roman"/>
              </a:rPr>
              <a:t>taiyang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солнц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Times New Roman"/>
              </a:rPr>
              <a:t>zhaoyao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свет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Times New Roman"/>
              </a:rPr>
              <a:t>hen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оче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Times New Roman"/>
              </a:rPr>
              <a:t>bu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не, н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Times New Roman"/>
              </a:rPr>
              <a:t>hao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хорошо, хорош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11430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600200" y="11426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2057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52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828800" y="34286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4114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33720" y="41148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4800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295280" y="48002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5562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6324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295280" y="63241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ff"/>
                </a:solidFill>
                <a:uFillTx/>
                <a:latin typeface="Monotype Corsiva"/>
              </a:rPr>
              <a:t>Составьте словосочетания по картинка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19080" y="1981080"/>
            <a:ext cx="3114720" cy="3886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3124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ff"/>
                </a:solidFill>
                <a:uFillTx/>
                <a:latin typeface="Times New Roman"/>
              </a:rPr>
              <a:t>Найдите лишнее слов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2939760" cy="1925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990720" y="4143240"/>
            <a:ext cx="2743200" cy="1800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5105520" y="1752480"/>
            <a:ext cx="3047760" cy="19908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5257800" y="4038480"/>
            <a:ext cx="25970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00ff"/>
                </a:solidFill>
                <a:uFillTx/>
                <a:latin typeface="Monotype Corsiva"/>
              </a:rPr>
              <a:t>Отгадайте слово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Tianq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Le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Taiy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Q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hunt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X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X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1752480"/>
            <a:ext cx="1526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25909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295280" y="25905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31240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05120" y="32000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19320" y="3809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295280" y="43430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71600" y="5562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61722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00200" y="61718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20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ff"/>
                </a:solidFill>
                <a:uFillTx/>
                <a:latin typeface="Times New Roman"/>
              </a:rPr>
              <a:t>Составьте из слов предло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Ai wo xiatia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Hen tianqi ha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Tianqi hao bu h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Gua jintian feng b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Bu xia wo ai y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14400" y="19051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198108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133720" y="19807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198108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053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274320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447920" y="27428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27432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2819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038480" y="281916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09680" y="35812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95480" y="3657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048120" y="36572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35812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800600" y="35809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4572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0384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4419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33720" y="5257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71800" y="52578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124080" y="52574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5181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91120" y="51814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419720" y="51811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ff"/>
                </a:solidFill>
                <a:uFillTx/>
                <a:latin typeface="Monotype Corsiva"/>
              </a:rPr>
              <a:t>Слова по теме: Природа. Времена г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Times New Roman"/>
              </a:rPr>
              <a:t>dongtian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зи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Times New Roman"/>
              </a:rPr>
              <a:t>xiatian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лет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80"/>
                </a:solidFill>
                <a:latin typeface="Times New Roman"/>
              </a:rPr>
              <a:t>с</a:t>
            </a:r>
            <a:r>
              <a:rPr b="1" lang="en-US" sz="4400" spc="-1" strike="noStrike">
                <a:solidFill>
                  <a:srgbClr val="008080"/>
                </a:solidFill>
                <a:latin typeface="Times New Roman"/>
              </a:rPr>
              <a:t>huntian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вес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Times New Roman"/>
              </a:rPr>
              <a:t>qiutian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осе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Times New Roman"/>
              </a:rPr>
              <a:t>xue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сне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Times New Roman"/>
              </a:rPr>
              <a:t>yu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дождь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2819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809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371240" y="4419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51814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676520" y="51811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6095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295280" y="60958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65160" y="457200"/>
            <a:ext cx="7213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65160" y="457200"/>
            <a:ext cx="7213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77240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84240" y="457200"/>
            <a:ext cx="717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4114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334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ff"/>
                </a:solidFill>
                <a:uFillTx/>
                <a:latin typeface="Monotype Corsiva"/>
              </a:rPr>
              <a:t>Слова по теме: Природа. Времена год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Times New Roman"/>
              </a:rPr>
              <a:t>xia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идё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Times New Roman"/>
              </a:rPr>
              <a:t>gua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ду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Times New Roman"/>
              </a:rPr>
              <a:t>feng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вете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Times New Roman"/>
              </a:rPr>
              <a:t>tianq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пого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Times New Roman"/>
              </a:rPr>
              <a:t>re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жарк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Times New Roman"/>
              </a:rPr>
              <a:t>leng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холод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19810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289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41911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4876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56386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143000" y="57146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4-18T05:58:2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