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EFC9-751F-4E70-8229-6DEA80F9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9A74-9D90-4F8E-B620-FA6C61AF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78C9-8AE0-4B1B-8FC2-B1222E9D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6220-4AC5-49B6-B821-4A7B43F6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2424-9975-44BF-B5DA-3C000568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06C2-B3CC-4EDA-994F-F56E0E89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7317-FBD5-49CE-BE7C-63CE1643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CBDB-CAFC-4CD7-A82C-444DC31D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0362-C848-44B1-9CF2-D8AEE967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CE3A-96FA-4147-80EB-A4375577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A3BE-45EF-4F08-AB4F-AB900167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523C-4150-40DE-9440-B6F538F7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C332-962E-491D-9C10-B0868C60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E1F2-1CC1-4DFE-BB28-153BF544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3294-4CFC-4066-B45C-43812852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3584-F810-43B6-8C01-5C790B20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11E9-266A-46C5-8934-235CFA3A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3924-E034-4E3A-91AE-2E359E9D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B7B-292A-495C-95E6-A5306005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9E1-7B5D-47A7-9D77-4057F994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850C-0591-4E8F-BBBD-569A12BD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FB62-AC62-496D-9502-4CCB643C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C5B5-3330-436D-98A9-012E8548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A74-53A1-4598-B2A4-0E07036A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B2DD-03A8-4638-9024-3E3F19D670E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8D19-19F3-490A-B63E-1385FEB3B15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Monotype Corsiva"/>
              </a:rPr>
              <a:t>Тема урока:</a:t>
            </a:r>
            <a:r>
              <a:rPr b="1" lang="en-US" sz="3600" spc="-1" strike="noStrike">
                <a:solidFill>
                  <a:srgbClr val="006666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008000"/>
                </a:solidFill>
                <a:latin typeface="Monotype Corsiva"/>
              </a:rPr>
              <a:t>физкультура и спорт.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70360" y="3351240"/>
            <a:ext cx="359712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овые слова к уроку №5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Black"/>
              </a:rPr>
              <a:t>Paiqiu-</a:t>
            </a:r>
            <a:r>
              <a:rPr b="0" lang="ru-RU" sz="4400" spc="-1" strike="noStrike">
                <a:solidFill>
                  <a:srgbClr val="ff0066"/>
                </a:solidFill>
                <a:latin typeface="Arial Black"/>
              </a:rPr>
              <a:t>волейбол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Black"/>
              </a:rPr>
              <a:t>Da</a:t>
            </a:r>
            <a:r>
              <a:rPr b="0" lang="ru-RU" sz="3600" spc="-1" strike="noStrike">
                <a:solidFill>
                  <a:srgbClr val="ff0066"/>
                </a:solidFill>
                <a:latin typeface="Arial Black"/>
              </a:rPr>
              <a:t>-играть(руками в мяч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Black"/>
              </a:rPr>
              <a:t>Shouqiu</a:t>
            </a:r>
            <a:r>
              <a:rPr b="0" lang="ru-RU" sz="3600" spc="-1" strike="noStrike">
                <a:solidFill>
                  <a:srgbClr val="ff0066"/>
                </a:solidFill>
                <a:latin typeface="Arial Black"/>
              </a:rPr>
              <a:t>-гандбол(ручной мяч)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828800" y="2361960"/>
            <a:ext cx="15228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971800" y="2285640"/>
            <a:ext cx="228600" cy="30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3124080"/>
            <a:ext cx="15228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828800" y="312372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3962520"/>
            <a:ext cx="7596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209680" y="396216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505320" y="3885840"/>
            <a:ext cx="228600" cy="30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02040" y="2664000"/>
            <a:ext cx="394668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681360" y="2600280"/>
            <a:ext cx="401472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лова к уроку №1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yundo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пор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Tiyu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физкультур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Tiyu yundong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физкультура и спор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2362320"/>
            <a:ext cx="228600" cy="304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2362320"/>
            <a:ext cx="15228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971800"/>
            <a:ext cx="228600" cy="30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600200" y="2895120"/>
            <a:ext cx="22860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3048120"/>
            <a:ext cx="152280" cy="304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3657600"/>
            <a:ext cx="15228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600200" y="3657240"/>
            <a:ext cx="15228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3733920"/>
            <a:ext cx="15228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3657600"/>
            <a:ext cx="152640" cy="30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3657600"/>
            <a:ext cx="152280" cy="30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лова к уроку №3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Dongtian yundong-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зимние виды спорта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Xiatian yundong-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 летние виды спорта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2438280"/>
            <a:ext cx="3808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2362320"/>
            <a:ext cx="15228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2286000"/>
            <a:ext cx="152280" cy="30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2514600"/>
            <a:ext cx="30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733920"/>
            <a:ext cx="15228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3886200"/>
            <a:ext cx="30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3809880"/>
            <a:ext cx="15264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3809880"/>
            <a:ext cx="152280" cy="30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038480" y="2590920"/>
            <a:ext cx="4267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31780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лова к уроку №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 Black"/>
              </a:rPr>
              <a:t>Bingqiu</a:t>
            </a:r>
            <a:r>
              <a:rPr b="1" lang="ru-RU" sz="4400" spc="-1" strike="noStrike">
                <a:solidFill>
                  <a:srgbClr val="ff0066"/>
                </a:solidFill>
                <a:latin typeface="Arial Black"/>
              </a:rPr>
              <a:t>-хоккей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 Black"/>
              </a:rPr>
              <a:t>Zuqiu</a:t>
            </a:r>
            <a:r>
              <a:rPr b="1" lang="ru-RU" sz="4400" spc="-1" strike="noStrike">
                <a:solidFill>
                  <a:srgbClr val="ff0066"/>
                </a:solidFill>
                <a:latin typeface="Arial Black"/>
              </a:rPr>
              <a:t>-футбол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 Black"/>
              </a:rPr>
              <a:t>Ti</a:t>
            </a:r>
            <a:r>
              <a:rPr b="1" lang="ru-RU" sz="4400" spc="-1" strike="noStrike">
                <a:solidFill>
                  <a:srgbClr val="ff0066"/>
                </a:solidFill>
                <a:latin typeface="Arial Black"/>
              </a:rPr>
              <a:t>-пинать(играть в футбол)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2362320"/>
            <a:ext cx="533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52680" y="236196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048120"/>
            <a:ext cx="228600" cy="304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819520" y="312372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3962520"/>
            <a:ext cx="3808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70360" y="3351240"/>
            <a:ext cx="359712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31780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Запишите по-китайски(иероглифами)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Monotype Corsiva"/>
              </a:rPr>
              <a:t>Я люблю кат. на лыжа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Monotype Corsiva"/>
              </a:rPr>
              <a:t>Я люблю кат. на конька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Monotype Corsiva"/>
              </a:rPr>
              <a:t>Я люблю футбо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Monotype Corsiva"/>
              </a:rPr>
              <a:t>Я люблю играть в футбо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Monotype Corsiva"/>
              </a:rPr>
              <a:t>Я люблю летние виды спорт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Monotype Corsiva"/>
              </a:rPr>
              <a:t>Я люблю зимние виды спорт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Monotype Corsiva"/>
              </a:rPr>
              <a:t>Я люблю спор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Monotype Corsiva"/>
              </a:rPr>
              <a:t>Я люблю физкультуру и спор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Monotype Corsiva"/>
              </a:rPr>
              <a:t>Я люблю физкультур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3-02T13:03:3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