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F62-6B77-4135-88A8-BAF318A4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8B0-C2B7-4122-878A-95B961D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F4E-B480-444F-9269-8357DE8B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463-7EF5-445B-BDA5-722BCBB4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45F-4D95-4A8B-B318-DC216C66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970B-C3D9-4D22-99D9-AEFB550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D4D4-AFDC-46A5-AF44-79F5B9B6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A822-3467-4811-8362-AFD17AE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1223-3B93-4FA0-B121-81BBCDC1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1BF7-8F61-46B1-8B77-F5FC9A7F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5A5-102D-47B4-8A3A-68AEBA3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C83-3192-4BB2-BAB9-03A6A827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9C9E-7EE2-4742-BE4C-F34640D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C728-116D-4AB1-B90D-58ACD9EF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073-CE48-475D-93BA-9E170114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EEC-E9A6-43E1-BBDC-4629777B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77F-58D6-4698-BA41-6E32721F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889-9290-4B79-8576-D8335C0E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50B-E64B-4D5A-B892-FF548659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686-3657-4FA8-8F66-1A94770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497-1EB7-4B02-B266-C4D94919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B48-BFF5-48C7-B52C-8DE14DE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56E-A51D-449F-A8F5-648FBF5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E58-64F7-4717-B1AE-C7701F7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5477-197D-41A0-8A42-761548CEE7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BB6B-5968-4824-85D0-9ECDC36F5E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ff"/>
                </a:solidFill>
                <a:uFillTx/>
                <a:latin typeface="Tahoma"/>
              </a:rPr>
              <a:t>Скажите по-китайс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В комна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На ст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На крес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В кварти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Между двумя стол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В кухн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На холодильник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477120" y="685800"/>
            <a:ext cx="1698480" cy="16398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324480" y="4800600"/>
            <a:ext cx="2286000" cy="16336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457200" y="327672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6553080" y="2743200"/>
            <a:ext cx="216216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4122720" y="2209680"/>
            <a:ext cx="1440000" cy="1967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3352680" y="449568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733920" y="228600"/>
            <a:ext cx="1752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697200" y="1944720"/>
            <a:ext cx="1747800" cy="2438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3540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6477120" y="60948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12-09T13:3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