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86E8-773E-475F-B132-4607742C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965D-499D-4CB0-AC2F-F5EE43C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1A92-05F3-4D6F-9318-07E1884E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10C5-E5CE-45BC-8474-098576C6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7DC-C2D5-4EC8-BC76-0777E8DC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F841-400D-49A6-8DD6-FA391AA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CEC4-F136-43F1-9A17-FB5D550F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D87C-0A97-4656-8C32-1C6CF343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BC5B-DA0E-42AB-BC66-45159DE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1204-5703-4432-B056-FB540524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6F1D-F07F-4CA7-9A8F-CB4CC08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F88A-5894-4DFD-A5FD-140F8B63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F2C8-E145-4931-AF81-691846F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3B86-31A3-4F56-8718-F1B6A11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2B0-28B9-4BA4-AB2D-CB77D35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E41-E4C4-4C43-A1B9-8B7A2A7C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9B5-18C7-4C1E-9823-22DF759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5B63-6C6E-4004-A078-0D911B8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CE77-8163-4E4A-94B0-6D93E16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591C-FB09-49A7-AFC7-3704D6C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835A-2716-43DB-BDF2-9709ACA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6154-BBCD-456B-860F-6153417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11F9-6B0B-4AA5-AD84-C4199D73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4B87-A79B-42E3-9C25-DF8066E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2D8-B514-4D63-8723-7F3A63E5D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35E-B453-4D75-BB82-01064A6EA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Monotype Corsiva"/>
              </a:rPr>
              <a:t>Школа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Monotype Corsiva"/>
              </a:rPr>
              <a:t>Учебные предмет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You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ест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1752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648320" y="17521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Monotype Corsiva"/>
              </a:rPr>
              <a:t>Скажите по-китайс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onotype Corsiva"/>
              </a:rPr>
              <a:t>У меня есть каранд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onotype Corsiva"/>
              </a:rPr>
              <a:t>У брата есть линей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onotype Corsiva"/>
              </a:rPr>
              <a:t>У сестры есть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onotype Corsiva"/>
              </a:rPr>
              <a:t>У меня есть резин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onotype Corsiva"/>
              </a:rPr>
              <a:t>У ученика есть учебн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Monotype Corsiva"/>
              </a:rPr>
              <a:t>Составьте из букв слова, запишите в тетра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ih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q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b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xi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00"/>
                </a:solidFill>
                <a:uFillTx/>
                <a:latin typeface="Monotype Corsiva"/>
              </a:rPr>
              <a:t>Расставьте тона в слов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Qian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hi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Be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Xiang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K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Monotype Corsiva"/>
              </a:rPr>
              <a:t>Прочтите предложения, переведите и расставьте т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Wo you chiz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Wo you qianb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Wo gege you xiangp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Wo meimei you ke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Wo you benz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3300"/>
                </a:solidFill>
                <a:latin typeface="Arial"/>
              </a:rPr>
              <a:t>Zhe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9900ff"/>
                </a:solidFill>
                <a:latin typeface="Arial"/>
              </a:rPr>
              <a:t>эт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762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Monotype Corsiva"/>
              </a:rPr>
              <a:t>Скажите по-китай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Это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Это руч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Это линей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Это резин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Это учебн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Monotype Corsiva"/>
              </a:rPr>
              <a:t>Изучение новых с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ff"/>
                </a:solidFill>
                <a:latin typeface="Arial"/>
              </a:rPr>
              <a:t>Pibao</a:t>
            </a:r>
            <a:r>
              <a:rPr b="0" lang="ru-RU" sz="6000" spc="-1" strike="noStrike">
                <a:solidFill>
                  <a:srgbClr val="9900ff"/>
                </a:solidFill>
                <a:latin typeface="Arial"/>
              </a:rPr>
              <a:t>-портфе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ff"/>
                </a:solidFill>
                <a:latin typeface="Arial"/>
              </a:rPr>
              <a:t>Gangbi</a:t>
            </a:r>
            <a:r>
              <a:rPr b="0" lang="ru-RU" sz="6000" spc="-1" strike="noStrike">
                <a:solidFill>
                  <a:srgbClr val="9900ff"/>
                </a:solidFill>
                <a:latin typeface="Arial"/>
              </a:rPr>
              <a:t>-руч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ff"/>
                </a:solidFill>
                <a:latin typeface="Arial"/>
              </a:rPr>
              <a:t>Zhe</a:t>
            </a:r>
            <a:r>
              <a:rPr b="0" lang="ru-RU" sz="6000" spc="-1" strike="noStrike">
                <a:solidFill>
                  <a:srgbClr val="9900ff"/>
                </a:solidFill>
                <a:latin typeface="Arial"/>
              </a:rPr>
              <a:t>-эт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ff"/>
                </a:solidFill>
                <a:latin typeface="Arial"/>
              </a:rPr>
              <a:t>Shuxue</a:t>
            </a:r>
            <a:r>
              <a:rPr b="0" lang="ru-RU" sz="6000" spc="-1" strike="noStrike">
                <a:solidFill>
                  <a:srgbClr val="9900ff"/>
                </a:solidFill>
                <a:latin typeface="Arial"/>
              </a:rPr>
              <a:t>-математи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81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1933560" cy="16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72200" y="838080"/>
            <a:ext cx="1600200" cy="1486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514600" y="419112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ff"/>
                </a:solidFill>
                <a:uFillTx/>
                <a:latin typeface="Monotype Corsiva"/>
              </a:rPr>
              <a:t>Скажите по-китай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руч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портфе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математ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линей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каранд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Monotype Corsiva"/>
              </a:rPr>
              <a:t>Это резин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ff"/>
                </a:solidFill>
                <a:uFillTx/>
                <a:latin typeface="Monotype Corsiva"/>
              </a:rPr>
              <a:t>Отгадайте слов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onotype Corsiva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Рез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Порт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Monotype Corsiva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Monotype Corsiva"/>
              </a:rPr>
              <a:t>Прочтит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Qianb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аранд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Chiz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линей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Benz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Xiangp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резин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Keb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учебн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905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1905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19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2480" y="28195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3657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495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9548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334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33720" y="5334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820000">
            <a:off x="3352320" y="1905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504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1933560" cy="1654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72200" y="838080"/>
            <a:ext cx="1600200" cy="1486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514600" y="419112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17T12:30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