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1BE3-0324-48F4-A584-A0E7AA8B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DAC-F428-4BF7-959F-5A37C47C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4F38-CE4D-4123-8552-AEFE9BB9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816A-BE4B-4A2D-93B6-8143CF05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5FE1-A706-4C28-A00F-B5F35E0E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35C8-4BF3-4D36-98B8-63D63FC3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D557-A122-4682-83BD-57BC67BA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853E-1607-446E-8481-BDC3CA34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9AFE-C56A-41A3-96E2-7A5BB34E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1144-1E41-4A0B-9A83-0C5C6355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1376-7940-4565-8BBD-21126567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DEDA-9B72-4CF9-AF0C-C2F024EB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1A6E-3E15-4103-9CC7-B631D84D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43C2-5E66-418B-841F-9B8198B6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D2C7-22B6-4B23-8685-0D9BB1AC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8AF9-76DC-453A-B48C-B3A31892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165A-42D3-4DBB-95FF-79E0A887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425E7-6065-43DA-BB09-6B3F8FA3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AF31D-3016-4E84-BD04-2B33552C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94782-D8E1-4219-81C0-D5AC8C4C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CCE37-B7F8-4B67-9492-174ABBEF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704E2-DD96-4E52-82DD-5E3BC589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8C4B-A94F-49E4-96B0-5D2EF05F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AF303-DBE1-42EC-9CE8-64910741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271FB-028D-4B09-B0B6-ABBA0F89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042B2-D842-4CE6-948F-418FC606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C9685-CFCA-4930-B973-1354E4DF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BE743-E9B7-45B7-B0BC-F0FFE018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744AB-1979-4CA7-9643-12E5BA38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96426-BA78-45C8-A682-6AAEE29B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EB1A5-F232-4435-9EDA-05C28DB1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11E9B-F1C2-4C74-900E-5B262392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D0806-610B-4973-A6F0-F4BD7407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176-AABF-4777-AD15-B65DA689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A6F0D-94A8-4605-922C-7A77D9A2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4CBC0-6D83-4732-B574-70C1FB95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0FC52-3ED2-4EAC-A5BB-75833B43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735BB-8221-4D07-97A3-4117D155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D491C-DFEB-4B5D-A423-BA6253B9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7DD78-3E11-441E-A837-F650CD19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2C862-F629-4D8C-9E87-A4DB74EF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4AF86-96D4-448A-957D-E89E491E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14738-D653-4E5D-9A76-849AD72E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6AD42-FE2D-46C3-9100-152AE5CF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CB4-872D-429D-BFD4-33F9C92E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4F341-82D2-47E9-BB46-B7828C04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51DC2-CE80-4808-B717-25CB0EAD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739AA-2B2E-43CA-8713-ECBBD814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3BCDF-FBC8-411C-B396-42DA3972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F8EE1-D436-43FD-9B52-4E2010C6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DA389-B3A2-4ECB-8639-8E7ECC10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14312-9848-433C-854C-93DC7D0F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7ACE6-6D47-44A0-BDF2-CAC6FCB5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5E47B-8CF0-4A7E-9A2A-66FF825E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D65A8-5B7D-4A48-8FE8-754DE544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EDA-4532-4B2D-8E82-BA76873B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2F0D5-14CE-4EE4-BF3A-09DB0960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95EB0-DDC8-4465-9935-DFAFF850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F8711-8EDC-4DD9-B9DF-657FA8A2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DE748-B364-4B5A-8F41-D8F010A5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D2AD4-C1FB-4089-97C6-48B0E85E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1418A-0361-4332-AF3E-4B2BD7EE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EDCCC-E216-46CB-A4CD-2CAC9AFC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4A16B-1A17-47F6-B7B3-FA3D69AF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AF1DB-E300-4191-AC35-8ABE8E88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79319-801B-4C85-B87C-50AFD625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613-CA38-461A-B83A-753F78A9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18E55-2D9D-4E85-B9AA-242EB240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2AEE4-AEA3-45D2-A90E-062B19F3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75353-4710-4BF5-A365-A2C381FB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1FDE0-AE08-4AAA-9A1A-D927F014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23B1A-24DF-4A5F-A965-0EA2870B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17AD4-032C-490E-9D97-A007B4E8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66CD7-ED15-4112-A819-17611DD2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4A6A3-9D31-41BF-A09B-1A1EA469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6E00F-7099-41F7-BF8D-B545C26C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3631F-4A5F-4EBA-BF3D-F3D79924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3DB5-8801-41FB-A84E-B4C2927C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89B8C-568D-4EC2-AE14-85E4CC23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C248D-996F-4EA1-A63E-A8A700A0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F9285-E0BD-4C81-A0C4-B7904CF8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E88FE-BF4E-435C-8630-236DBF12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5D864-EF7B-4B09-8CD7-E6F6B9D2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D54-C895-4383-AAE2-324CEA80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7D0B-3779-4869-8EC1-D6B301005ED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11CA-5EB9-4355-9345-7A1C9238FBC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F95E-9EC0-4768-BFFB-E33E486CC6C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D876-B81C-49C4-A8EB-C5D5F0B6579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F112-89EF-49B5-B8EB-B1DD2597020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F7DF-AE67-44D6-A8FC-35344D1221C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FA98-9333-454B-B16C-FF49DB97E45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1744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МИТЯЕВА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ЕЛЕН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АЛЕКСЕЕВН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300816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Учител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начальных класс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ГОУ  СОШ № 204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с углублённым изучением восточных язык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ЮЗАО   г. Москв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</a:rPr>
              <a:t>Педагогический стаж 11 лет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Содержимое 7" descr="Рисунок1.jpg"/>
          <p:cNvPicPr/>
          <p:nvPr/>
        </p:nvPicPr>
        <p:blipFill>
          <a:blip r:embed="rId1"/>
          <a:stretch/>
        </p:blipFill>
        <p:spPr>
          <a:xfrm>
            <a:off x="4714920" y="857160"/>
            <a:ext cx="3786120" cy="50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6" descr="bal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Выберите себе работу по душе, и вам не придётся работать ни одного дня в своей жизни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                                           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Monotype Corsiva"/>
              </a:rPr>
              <a:t>Конфуций</a:t>
            </a: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.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Содержимое 7" descr="IMG_0043.jpg"/>
          <p:cNvPicPr/>
          <p:nvPr/>
        </p:nvPicPr>
        <p:blipFill>
          <a:blip r:embed="rId2"/>
          <a:stretch/>
        </p:blipFill>
        <p:spPr>
          <a:xfrm>
            <a:off x="774720" y="1596960"/>
            <a:ext cx="3406680" cy="4535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5286240" y="219384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rbel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Московский Педагогический колледж-лицей № 4 по специальности «Учитель начальных классов, воспитатель-дефектолог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 algn="ctr">
              <a:spcBef>
                <a:spcPts val="601"/>
              </a:spcBef>
              <a:buClr>
                <a:srgbClr val="0000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 algn="ctr">
              <a:spcBef>
                <a:spcPts val="601"/>
              </a:spcBef>
              <a:buClr>
                <a:srgbClr val="0000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МПГУ по специальности «Олигофренопедагог, логопед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 algn="ctr">
              <a:spcBef>
                <a:spcPts val="601"/>
              </a:spcBef>
              <a:buClr>
                <a:srgbClr val="0000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 algn="ctr">
              <a:spcBef>
                <a:spcPts val="601"/>
              </a:spcBef>
              <a:buClr>
                <a:srgbClr val="0000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ысшая квалификационная категор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Текст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одилась 14 мая 1979 года в городе Моск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 детских лет мечтала стать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должности учителя начальных классов - 11 лет, в должности воспитателя ШПД - 11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работе использую информационные технологии, технологию дифференцированного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2008 – 2009 учебном году принимала участи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ала одним из победителей районного 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конкурсе «Ярмарка идей на Юго - Запад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Мои дости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Рисунок 4" descr="Рисунок5.jpg"/>
          <p:cNvPicPr/>
          <p:nvPr/>
        </p:nvPicPr>
        <p:blipFill>
          <a:blip r:embed="rId1"/>
          <a:stretch/>
        </p:blipFill>
        <p:spPr>
          <a:xfrm>
            <a:off x="7095960" y="4548240"/>
            <a:ext cx="20480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14" descr="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8" name="CIMG2550.JPG" descr="C:\Documents and Settings\Елена Алексеевна\Рабочий стол\уч.года\учитель года\CIMG2550.JPG"/>
          <p:cNvPicPr/>
          <p:nvPr/>
        </p:nvPicPr>
        <p:blipFill>
          <a:blip r:embed="rId2"/>
          <a:stretch/>
        </p:blipFill>
        <p:spPr>
          <a:xfrm>
            <a:off x="-30240" y="-298440"/>
            <a:ext cx="3522600" cy="4456080"/>
          </a:xfrm>
          <a:prstGeom prst="rect">
            <a:avLst/>
          </a:prstGeom>
          <a:ln w="0">
            <a:noFill/>
          </a:ln>
        </p:spPr>
      </p:pic>
      <p:pic>
        <p:nvPicPr>
          <p:cNvPr id="329" name="CIMG2550.JPG" descr="C:\Documents and Settings\Елена Алексеевна\Рабочий стол\уч.года\учитель года\CIMG2550.JPG"/>
          <p:cNvPicPr/>
          <p:nvPr/>
        </p:nvPicPr>
        <p:blipFill>
          <a:blip r:embed="rId3"/>
          <a:stretch/>
        </p:blipFill>
        <p:spPr>
          <a:xfrm>
            <a:off x="5986440" y="-298440"/>
            <a:ext cx="3475080" cy="4383000"/>
          </a:xfrm>
          <a:prstGeom prst="rect">
            <a:avLst/>
          </a:prstGeom>
          <a:ln w="0">
            <a:noFill/>
          </a:ln>
        </p:spPr>
      </p:pic>
      <p:pic>
        <p:nvPicPr>
          <p:cNvPr id="330" name="CIMG2550.JPG" descr="C:\Documents and Settings\Елена Алексеевна\Рабочий стол\уч.года\учитель года\CIMG2550.JPG"/>
          <p:cNvPicPr/>
          <p:nvPr/>
        </p:nvPicPr>
        <p:blipFill>
          <a:blip r:embed="rId4"/>
          <a:stretch/>
        </p:blipFill>
        <p:spPr>
          <a:xfrm>
            <a:off x="6114960" y="1841400"/>
            <a:ext cx="3205080" cy="4035600"/>
          </a:xfrm>
          <a:prstGeom prst="rect">
            <a:avLst/>
          </a:prstGeom>
          <a:ln w="0">
            <a:noFill/>
          </a:ln>
        </p:spPr>
      </p:pic>
      <p:pic>
        <p:nvPicPr>
          <p:cNvPr id="331" name="CIMG2550.JPG" descr="C:\Documents and Settings\Елена Алексеевна\Рабочий стол\уч.года\учитель года\CIMG2550.JPG"/>
          <p:cNvPicPr/>
          <p:nvPr/>
        </p:nvPicPr>
        <p:blipFill>
          <a:blip r:embed="rId5"/>
          <a:stretch/>
        </p:blipFill>
        <p:spPr>
          <a:xfrm>
            <a:off x="3041640" y="-304920"/>
            <a:ext cx="3346560" cy="4230720"/>
          </a:xfrm>
          <a:prstGeom prst="rect">
            <a:avLst/>
          </a:prstGeom>
          <a:ln w="0">
            <a:noFill/>
          </a:ln>
        </p:spPr>
      </p:pic>
      <p:sp>
        <p:nvSpPr>
          <p:cNvPr id="332" name="Заголовок 1"/>
          <p:cNvSpPr/>
          <p:nvPr/>
        </p:nvSpPr>
        <p:spPr>
          <a:xfrm>
            <a:off x="285840" y="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b0f0"/>
                </a:solidFill>
                <a:latin typeface="Corbel"/>
              </a:rPr>
              <a:t>Это только маленькая доля…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Рисунок 8" descr="сканирование0001.jpg"/>
          <p:cNvPicPr/>
          <p:nvPr/>
        </p:nvPicPr>
        <p:blipFill>
          <a:blip r:embed="rId6"/>
          <a:stretch/>
        </p:blipFill>
        <p:spPr>
          <a:xfrm>
            <a:off x="231840" y="2286000"/>
            <a:ext cx="2982960" cy="430992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9" descr="сканирование0002.jpg"/>
          <p:cNvPicPr/>
          <p:nvPr/>
        </p:nvPicPr>
        <p:blipFill>
          <a:blip r:embed="rId7"/>
          <a:stretch/>
        </p:blipFill>
        <p:spPr>
          <a:xfrm>
            <a:off x="6500880" y="3643200"/>
            <a:ext cx="2500200" cy="3214800"/>
          </a:xfrm>
          <a:prstGeom prst="rect">
            <a:avLst/>
          </a:prstGeom>
          <a:ln w="0">
            <a:noFill/>
          </a:ln>
        </p:spPr>
      </p:pic>
      <p:pic>
        <p:nvPicPr>
          <p:cNvPr id="335" name="CIMG2550.JPG" descr="C:\Documents and Settings\Елена Алексеевна\Рабочий стол\уч.года\учитель года\CIMG2550.JPG"/>
          <p:cNvPicPr/>
          <p:nvPr/>
        </p:nvPicPr>
        <p:blipFill>
          <a:blip r:embed="rId8"/>
          <a:stretch/>
        </p:blipFill>
        <p:spPr>
          <a:xfrm>
            <a:off x="3108240" y="1981080"/>
            <a:ext cx="3206880" cy="404172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10" descr="сканирование0003.jpg"/>
          <p:cNvPicPr/>
          <p:nvPr/>
        </p:nvPicPr>
        <p:blipFill>
          <a:blip r:embed="rId9"/>
          <a:stretch/>
        </p:blipFill>
        <p:spPr>
          <a:xfrm>
            <a:off x="3000240" y="4143240"/>
            <a:ext cx="34434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19:53:20Z</dcterms:created>
  <dc:creator>XTreme</dc:creator>
  <dc:description/>
  <dc:language>en-US</dc:language>
  <cp:lastModifiedBy>XTreme</cp:lastModifiedBy>
  <dcterms:modified xsi:type="dcterms:W3CDTF">2011-03-26T20:14:52Z</dcterms:modified>
  <cp:revision>4</cp:revision>
  <dc:subject/>
  <dc:title>Митяева  Елена Алексеевна</dc:title>
</cp:coreProperties>
</file>