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wmf" ContentType="image/x-wmf"/>
  <Override PartName="/ppt/media/image22.jpeg" ContentType="image/jpeg"/>
  <Override PartName="/ppt/media/image14.wmf" ContentType="image/x-wmf"/>
  <Override PartName="/ppt/media/image1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23838-5CAD-4745-A59B-1AB91E205EC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лаготворительная ярмар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D65E-FD7E-41A6-8841-D05139FE5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D930-322A-45B8-AF50-3F530167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5B29-1B82-46E8-83A4-43BD0C645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C962-039E-4DDB-9A5F-73FA0B2F8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0BAD-0707-4F84-B761-6B7F773B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778E-4AD5-4FA7-B2F4-54D59B70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7CB1-53B6-48FF-BC9B-34811C53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6E2E-E765-45FE-BC68-58A8A3E7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A0CB-CFE5-43F2-9C1A-8A8FCF0D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46FD-ECE6-45A3-BF0A-A2D9765A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3437-CBE9-4A76-8BC7-29D526D4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6835-E78B-4527-82CB-DB3A7BC3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A2253-FBF3-4BE4-B28B-81D2D7DFC92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arosta.ru/users/muravly-olga" TargetMode="External"/><Relationship Id="rId3" Type="http://schemas.openxmlformats.org/officeDocument/2006/relationships/hyperlink" Target="http://www.farosta.ru/users/muravly-olga" TargetMode="External"/><Relationship Id="rId4" Type="http://schemas.openxmlformats.org/officeDocument/2006/relationships/hyperlink" Target="http://www.farosta.ru/users/muravly-olga" TargetMode="External"/><Relationship Id="rId5" Type="http://schemas.openxmlformats.org/officeDocument/2006/relationships/hyperlink" Target="http://www.farosta.ru/users/muravly-olga" TargetMode="External"/><Relationship Id="rId6" Type="http://schemas.openxmlformats.org/officeDocument/2006/relationships/hyperlink" Target="http://www.farosta.ru/users/muravly-olga" TargetMode="External"/><Relationship Id="rId7" Type="http://schemas.openxmlformats.org/officeDocument/2006/relationships/hyperlink" Target="http://www.farosta.ru/users/muravly-olga" TargetMode="External"/><Relationship Id="rId8" Type="http://schemas.openxmlformats.org/officeDocument/2006/relationships/hyperlink" Target="http://www.farosta.ru/users/muravly-olga" TargetMode="External"/><Relationship Id="rId9" Type="http://schemas.openxmlformats.org/officeDocument/2006/relationships/hyperlink" Target="http://www.proshkolu.ru/user/muravleva66/" TargetMode="External"/><Relationship Id="rId10" Type="http://schemas.openxmlformats.org/officeDocument/2006/relationships/hyperlink" Target="http://www.proshkolu.ru/user/muravleva66/" TargetMode="External"/><Relationship Id="rId11" Type="http://schemas.openxmlformats.org/officeDocument/2006/relationships/hyperlink" Target="http://www.proshkolu.ru/user/muravleva66/" TargetMode="External"/><Relationship Id="rId12" Type="http://schemas.openxmlformats.org/officeDocument/2006/relationships/hyperlink" Target="http://www.proshkolu.ru/user/muravleva66/" TargetMode="External"/><Relationship Id="rId13" Type="http://schemas.openxmlformats.org/officeDocument/2006/relationships/hyperlink" Target="http://www.proshkolu.ru/user/muravleva66/" TargetMode="External"/><Relationship Id="rId14" Type="http://schemas.openxmlformats.org/officeDocument/2006/relationships/hyperlink" Target="http://www.proshkolu.ru/user/muravleva66/" TargetMode="External"/><Relationship Id="rId15" Type="http://schemas.openxmlformats.org/officeDocument/2006/relationships/image" Target="../media/image28.jpe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6360" y="179280"/>
            <a:ext cx="90691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6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резентация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результатов педагогической деятельности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и инновационн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887640" y="1476360"/>
            <a:ext cx="4189680" cy="6180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736720" y="5580000"/>
            <a:ext cx="7199280" cy="18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Муравлева Ольга Дмитри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МОУ «ООШ № 9» г. Ли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-360"/>
            <a:ext cx="9069480" cy="13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Использование современных образовательных технолог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48000" y="2771640"/>
            <a:ext cx="1366920" cy="865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87640" y="1403280"/>
            <a:ext cx="1944720" cy="9352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хноло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ичностно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риентирован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76720" y="3995640"/>
            <a:ext cx="1727280" cy="7905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хнолог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ек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488360" y="1187280"/>
            <a:ext cx="2203200" cy="1498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904000" y="2340000"/>
            <a:ext cx="2017800" cy="7905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нформационно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ммуникацио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416720" y="3635280"/>
            <a:ext cx="2484360" cy="1633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48360" y="3419640"/>
            <a:ext cx="1727280" cy="7905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гров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44360" y="1187280"/>
            <a:ext cx="2482920" cy="1862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016000" y="2411280"/>
            <a:ext cx="1944720" cy="7905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доровье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берегающ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144360" y="3851280"/>
            <a:ext cx="2549520" cy="1913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087640" y="3492360"/>
            <a:ext cx="1800000" cy="7192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хнолог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блем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3095640" y="4859280"/>
            <a:ext cx="2144520" cy="1609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4824360" y="5580000"/>
            <a:ext cx="2413080" cy="1697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V="1">
            <a:off x="4824360" y="234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45080" y="334800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96000" y="3635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960720" y="2843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887640" y="341964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00720" y="2843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6000" y="179280"/>
            <a:ext cx="55450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Наличие собственной</a:t>
            </a:r>
            <a:br>
              <a:rPr sz="3600"/>
            </a:b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 методической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1403280"/>
            <a:ext cx="4457520" cy="5353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56360" y="1187280"/>
            <a:ext cx="511164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«К школьнику необходимо относиться 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как к сосуду, который предсто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наполнить информацией, а как к факел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который  необходимо зажечь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                                       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.А. Сухомлин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3280" y="1332000"/>
            <a:ext cx="3816360" cy="100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облем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«Развитие универсальных учеб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действий путем обуч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обучающихся проектной деятельност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2000" y="2484360"/>
            <a:ext cx="4392720" cy="1079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Цель: 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развитие у ученика способ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самостоятельно ставить учебные задач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проектировать пути их реализаци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контролировать и оценивать свои дости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376360" y="5724360"/>
            <a:ext cx="1511280" cy="1633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16000" y="3635280"/>
            <a:ext cx="1460520" cy="1987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800360" y="3708360"/>
            <a:ext cx="7632720" cy="129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спространение педагогического опы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Районный семинар «Проектная деятельность в начальной школ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Районный семинар «Создание образовательной среды, обеспечивающей саморазвит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каждого учени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Выступление на межрегиональной научно – практической конферен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Выступление на областном семинаре для учителей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16000" y="5796000"/>
            <a:ext cx="2087640" cy="1565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60720" y="5148360"/>
            <a:ext cx="4896000" cy="1584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личие публикаци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Фестиваль педагогических идей «Открытый уро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Областные педчтения «Гуманизация образователь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среды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Районная научно – практическая конференц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«Инновационная  деятельность в начальных классах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5688000" y="2411280"/>
            <a:ext cx="333864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Результаты учебных достижений обучающих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01480" y="3038400"/>
          <a:ext cx="157320" cy="1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1480" y="3038400"/>
                    <a:ext cx="157320" cy="1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0" y="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456000" y="1187280"/>
          <a:ext cx="6192720" cy="3816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56000" y="1187280"/>
                    <a:ext cx="619272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224000" y="971640"/>
            <a:ext cx="1720800" cy="244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3280" y="3635280"/>
            <a:ext cx="3600360" cy="23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 место в школьной олимпиаде 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атематике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4 место в районной олимпиаде 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атемат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 место в конкурсе чтец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Салют, Победа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 место в школьном конкурс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Самый грамотны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92720" y="4932360"/>
            <a:ext cx="4103640" cy="208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 место в конкурсе мини – проек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 Удивительные числ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ласс – победитель проек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Братья наши меньши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бедитель в номинации «Сам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расочный проект» в школьн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нкурсе проектов «Важные слов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250560"/>
            <a:ext cx="906948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Результаты внеурочных достижений обучающих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96000" y="1258920"/>
            <a:ext cx="4681440" cy="3889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968720" y="1332000"/>
          <a:ext cx="4535640" cy="3682800"/>
        </p:xfrm>
        <a:graphic>
          <a:graphicData uri="http://schemas.openxmlformats.org/drawingml/2006/table">
            <a:tbl>
              <a:tblPr/>
              <a:tblGrid>
                <a:gridCol w="568440"/>
                <a:gridCol w="2743200"/>
                <a:gridCol w="1224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 конкурса, 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онкурс «Зарядка для ум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 мес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Участие в школьном научном обществ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Участник Всероссийской дистанционной викторины «Фактор рост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i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«Животные – экстремалы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 мес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1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Участник Всероссийской дистанционной викторины «Фактор рост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i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«Предметный мир сказок Андерсен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 мес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онкурс чтецов «Салют, Побед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 мес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60360" y="3995640"/>
            <a:ext cx="1817640" cy="2232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592360" y="3995640"/>
            <a:ext cx="1436760" cy="2259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7201080" y="5148360"/>
            <a:ext cx="1447560" cy="2052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295280" y="5435640"/>
            <a:ext cx="1398600" cy="1982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3527280" y="5435640"/>
            <a:ext cx="1397160" cy="1981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6119640" y="5364000"/>
            <a:ext cx="1447920" cy="2052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03280" y="1187280"/>
            <a:ext cx="424980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98 % занят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неурочной деятельностью</a:t>
            </a:r>
            <a:br>
              <a:rPr sz="1600"/>
            </a:b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Спортивное направление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кции футбола, волейбо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Эстетическое направление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оровые и вокальные зан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Предметное направление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Веселый английский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В мире слов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Зарядка для ума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Занимательный русский язы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               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Создание позитивного </a:t>
            </a:r>
            <a:br>
              <a:rPr sz="3600"/>
            </a:b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                 социального опы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176720" y="3132000"/>
            <a:ext cx="1619280" cy="2165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201080" y="1476360"/>
            <a:ext cx="2665080" cy="2000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216000" y="1547640"/>
            <a:ext cx="2376360" cy="1783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216000" y="493236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3600360" y="5724360"/>
            <a:ext cx="2879640" cy="1678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7056360" y="5003640"/>
            <a:ext cx="2874960" cy="21560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741480" y="5292720"/>
            <a:ext cx="26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руглый стол «Закон и мы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0360" y="4572000"/>
            <a:ext cx="237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кция «Чистый водоём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5640" y="3564000"/>
            <a:ext cx="170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рудовой дес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72360" y="3492360"/>
            <a:ext cx="2519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астие в митинг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возложении цве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25840" y="4572000"/>
            <a:ext cx="27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лаготворительная ярмар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08360" y="1419840"/>
            <a:ext cx="4176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Постоянное взаимодействие с родителями учащих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Развитие самоуправл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Формирование здорового образа жиз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Создание благоприятных психолого-педагогических условий для развития лич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Организация социально значимой,  творческой деятельности обучающих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Непрерывность </a:t>
            </a:r>
            <a:br>
              <a:rPr sz="3600"/>
            </a:b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профессионального 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891080" y="1634400"/>
            <a:ext cx="6292800" cy="3146400"/>
            <a:chOff x="1891080" y="1634400"/>
            <a:chExt cx="6292800" cy="3146400"/>
          </a:xfrm>
        </p:grpSpPr>
        <p:sp>
          <p:nvSpPr>
            <p:cNvPr id="116" name="_s25606"/>
            <p:cNvSpPr/>
            <p:nvPr/>
          </p:nvSpPr>
          <p:spPr>
            <a:xfrm>
              <a:off x="4186440" y="2192760"/>
              <a:ext cx="1701720" cy="159696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25607"/>
            <p:cNvSpPr/>
            <p:nvPr/>
          </p:nvSpPr>
          <p:spPr>
            <a:xfrm>
              <a:off x="4186440" y="1634400"/>
              <a:ext cx="1701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400" spc="-1" strike="noStrike">
                  <a:solidFill>
                    <a:srgbClr val="990000"/>
                  </a:solidFill>
                  <a:latin typeface="Arial"/>
                </a:rPr>
                <a:t>Курсы повыш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4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990000"/>
                  </a:solidFill>
                  <a:latin typeface="Arial"/>
                </a:rPr>
                <a:t>квалифик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400" spc="-1" strike="noStrike">
                  <a:solidFill>
                    <a:srgbClr val="990000"/>
                  </a:solidFill>
                  <a:latin typeface="Arial"/>
                </a:rPr>
                <a:t>учителей начальных класс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25608"/>
            <p:cNvSpPr/>
            <p:nvPr/>
          </p:nvSpPr>
          <p:spPr>
            <a:xfrm>
              <a:off x="4746960" y="3105000"/>
              <a:ext cx="1701720" cy="159696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25609"/>
            <p:cNvSpPr/>
            <p:nvPr/>
          </p:nvSpPr>
          <p:spPr>
            <a:xfrm>
              <a:off x="6481800" y="4381560"/>
              <a:ext cx="1702080" cy="3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400" spc="-1" strike="noStrike">
                  <a:solidFill>
                    <a:srgbClr val="990000"/>
                  </a:solidFill>
                  <a:latin typeface="Arial"/>
                </a:rPr>
                <a:t>Курс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400" spc="-1" strike="noStrike">
                  <a:solidFill>
                    <a:srgbClr val="990000"/>
                  </a:solidFill>
                  <a:latin typeface="Arial"/>
                </a:rPr>
                <a:t>«Теория и метод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4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990000"/>
                  </a:solidFill>
                  <a:latin typeface="Arial"/>
                </a:rPr>
                <a:t>пропедевтическ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4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990000"/>
                  </a:solidFill>
                  <a:latin typeface="Arial"/>
                </a:rPr>
                <a:t>курса информатик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400" spc="-1" strike="noStrike">
                  <a:solidFill>
                    <a:srgbClr val="990000"/>
                  </a:solidFill>
                  <a:latin typeface="Arial"/>
                </a:rPr>
                <a:t>и ИКТ»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25610"/>
            <p:cNvSpPr/>
            <p:nvPr/>
          </p:nvSpPr>
          <p:spPr>
            <a:xfrm>
              <a:off x="3624480" y="3103560"/>
              <a:ext cx="1701720" cy="159696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25611"/>
            <p:cNvSpPr/>
            <p:nvPr/>
          </p:nvSpPr>
          <p:spPr>
            <a:xfrm>
              <a:off x="1891080" y="4381560"/>
              <a:ext cx="1701720" cy="3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400" spc="-1" strike="noStrike">
                  <a:solidFill>
                    <a:srgbClr val="990000"/>
                  </a:solidFill>
                  <a:latin typeface="Arial"/>
                </a:rPr>
                <a:t>Ведение страницы школ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400" spc="-1" strike="noStrike">
                  <a:solidFill>
                    <a:srgbClr val="990000"/>
                  </a:solidFill>
                  <a:latin typeface="Arial"/>
                </a:rPr>
                <a:t>и личной страницы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400" spc="-1" strike="noStrike">
                  <a:solidFill>
                    <a:srgbClr val="990000"/>
                  </a:solidFill>
                  <a:latin typeface="Arial"/>
                </a:rPr>
                <a:t>на сайте </a:t>
              </a: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Pro</a:t>
              </a:r>
              <a:r>
                <a:rPr b="1" lang="ru-RU" sz="1400" spc="-1" strike="noStrike">
                  <a:solidFill>
                    <a:srgbClr val="990000"/>
                  </a:solidFill>
                  <a:latin typeface="Arial"/>
                </a:rPr>
                <a:t>Школу</a:t>
              </a: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603960" y="2915640"/>
            <a:ext cx="4266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www.farosta.ru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users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muravly-ol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60680" y="2484000"/>
            <a:ext cx="45054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http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://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www.proshkolu.ru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/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user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/muravleva66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 rot="10800000">
            <a:off x="3600000" y="3347280"/>
            <a:ext cx="41482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http://pedsovet.su/load/195-1-0-8283?ljco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5"/>
          <a:stretch/>
        </p:blipFill>
        <p:spPr>
          <a:xfrm>
            <a:off x="647640" y="1692360"/>
            <a:ext cx="2735280" cy="2052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31640" y="5040360"/>
            <a:ext cx="8498160" cy="251928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гражд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Почетной грамотой Отдела образования администрации Лискинского рай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Дипломами Всероссийского Фестиваля педагогических идей «Открытый уро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Благодарственным письмом Администрации Лискинского рай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Отмечена сертификатом участника Всероссийского конкурса лучших учи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Награждена Почетной грамотой Департамента науки и молодежной полит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оронеж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18:09:20Z</dcterms:created>
  <dc:creator/>
  <dc:description/>
  <dc:language>en-US</dc:language>
  <cp:lastModifiedBy>user</cp:lastModifiedBy>
  <dcterms:modified xsi:type="dcterms:W3CDTF">2011-03-26T19:27:26Z</dcterms:modified>
  <cp:revision>42</cp:revision>
  <dc:subject/>
  <dc:title>Слайд 1</dc:title>
</cp:coreProperties>
</file>