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361-47C2-4B87-8B72-DEE89927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FA3-3C1D-4F59-AD4C-40036C4E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CE9-5544-47BA-A504-0C830FD8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79A-9955-401D-BEF4-93027284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C7F5-5453-4DEA-B482-AAB5B4C1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C955-94F5-48F3-BB19-332FB0D1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AE29-506E-45E7-8A4F-2D8C27C1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ECED-75FC-4D2E-B9BC-F8A1C873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739C-2CF6-40A2-9664-321BD7A0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F21B-DC4D-4D50-B843-312B9D52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2D9F-A0FB-4216-8E7D-186527A2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740-9F3A-402B-A733-1F863948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9BF6-2C26-496C-9EB6-0B751783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1F4D-32C6-4D42-91F4-F92A6D07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D463-3954-4EEB-A6A6-BD4FCBB5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2B15-0C3F-4E3E-8662-2417F4F4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933E-C4E9-47F4-A878-280EA8CE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2CD-2875-4491-B475-4DAC8695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CA8-4450-45F0-A301-4EFBAC55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CDB-630D-4FFD-87A8-82EFE1A3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401-4271-46B2-90B5-4BFB6BA6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20E-E368-4F7E-8D21-4234DC3C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81E-8578-4773-AF4A-61280CA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811-6F92-4E60-B5E3-9730D21C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173E-F443-4466-8898-4AC492BF23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8B73-E3CF-45A5-BB35-7CF3D58865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Исследовательский проект  «Дневные звёзды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выполнила ученица        3 «А» класса                         Сауэр Екате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водитель Карнаухова Татья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Дневные звёзды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: Доказать, что звёзды светят всегда, даже днё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а: Практическим методом определить зависимость видимости звёзд от наличия солнечного с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отеза: Предлагаю  опытным путём установить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вёзды постоянно находятся на небоскло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евной свет не позволяет человеческому глазу наблюдать звёзды днё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од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сперимент с электрическим  фонарём                                                          (заменителем солнечного св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ситуации ночного и дневного видения «звёзд» (имитация звёзд с помощью дырокол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ение за ходом экспери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ксация результатов эксперимента с помощью фотоаппар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рудование и материа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ырокол, карточка, 1 белый конверт, фонар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Ход выполнения работ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Для выполнения работы подготавливаю карточку с дырками -будущими заменителями звёзд. Для  этого пробиваю дыроколом 7 или 8 отверстий в карточке. Помещаю в карточку в конвер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Для того, чтобы доказать, что звёзды не видны при обилии солнечного света, делаю эксперимент. В хорошо освещенной комнате, удерживая конверт перед собой, освещаю конверт фонарём , удерживая его на расстоянии 5 см от объекта, с  верхней стороны. Вывод: отверстия на карточке не видны. Значит, дневной свет не даёт возможности глазу человека увидеть звёз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DSC01979"/>
          <p:cNvPicPr/>
          <p:nvPr/>
        </p:nvPicPr>
        <p:blipFill>
          <a:blip r:embed="rId1"/>
          <a:stretch/>
        </p:blipFill>
        <p:spPr>
          <a:xfrm>
            <a:off x="5003640" y="1600200"/>
            <a:ext cx="3240360" cy="218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SC01976"/>
          <p:cNvPicPr/>
          <p:nvPr/>
        </p:nvPicPr>
        <p:blipFill>
          <a:blip r:embed="rId2"/>
          <a:stretch/>
        </p:blipFill>
        <p:spPr>
          <a:xfrm>
            <a:off x="4932360" y="3941640"/>
            <a:ext cx="345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Для того ,чтобы доказать , что звёзды видны  при уменьшении  количества солнечного света , делаю второй эксперимент. Удерживая  конверт перед собой, освещаю его фонарём, удерживая на расстояние 5см от объекта, с нижней стор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: отверстия хорошо видны, так как плоскость конверта яркость закрывает солнечный 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DSC01978"/>
          <p:cNvPicPr/>
          <p:nvPr/>
        </p:nvPicPr>
        <p:blipFill>
          <a:blip r:embed="rId1"/>
          <a:stretch/>
        </p:blipFill>
        <p:spPr>
          <a:xfrm>
            <a:off x="51055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в эксперименты,  я пришла к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воду: Свет из комнаты проходит сквозь отверстия  в карточке независимо  от положения фонаря . Но только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окружающая область темнее, чем свет, проходящий через отверстия, они могут быть видны. Это справедливо и для звёз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1" descr="звездное небо"/>
          <p:cNvPicPr/>
          <p:nvPr/>
        </p:nvPicPr>
        <p:blipFill>
          <a:blip r:embed="rId1"/>
          <a:stretch/>
        </p:blipFill>
        <p:spPr>
          <a:xfrm>
            <a:off x="4357800" y="1571760"/>
            <a:ext cx="377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вёзды светят и в дневное время, но небо из-за солнечного сияния такое яркое, что они тонут в этом сиянии. Звёзды лучше всего видны в безлунную ночь вдали от городских ог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10" descr="http://im7-tub.yandex.net/i?id=36149512&amp;tov=7&amp;n=2"/>
          <p:cNvPicPr/>
          <p:nvPr/>
        </p:nvPicPr>
        <p:blipFill>
          <a:blip r:embed="rId1"/>
          <a:stretch/>
        </p:blipFill>
        <p:spPr>
          <a:xfrm>
            <a:off x="4071960" y="1643040"/>
            <a:ext cx="4427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держим курс на космос , на меч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небо станет, и добрей, и чищ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новые герои набирают высо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космос будет нам всё ближ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1:41:26Z</dcterms:created>
  <dc:creator>катя</dc:creator>
  <dc:description/>
  <dc:language>en-US</dc:language>
  <cp:lastModifiedBy>123</cp:lastModifiedBy>
  <dcterms:modified xsi:type="dcterms:W3CDTF">2011-02-28T14:14:52Z</dcterms:modified>
  <cp:revision>8</cp:revision>
  <dc:subject/>
  <dc:title>Исследовательский проект  «Дневные звёзды»</dc:title>
</cp:coreProperties>
</file>