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F37F-03DC-4914-A2CF-BB90E0EC3F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88CC-C575-4EA6-BBAF-FD328F9003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817-40A7-42E5-98CD-03042D6C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826E-F0E1-4F9A-ACE0-EF630A2C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6B9F6-C216-4E82-8A00-BB2125AF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B8A77-E3DA-4996-84C3-4114F3D1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53F89D-52FD-44BD-B433-1415C932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881CFA-2E68-4A44-87C5-04A70B39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FA643B-92C7-4A96-AA9C-DCEB3A24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C3005F-9DAD-4DEC-BB92-9306BCFB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CB31BB-5A27-4DEA-9D07-3060C6A3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CF9D9-44C7-44CF-ABB4-DEEEEB0F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B3327-8C6A-4D5A-9BF1-562CB792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3F556-9F87-4B22-9222-03BF6BDA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45FF-04E1-4BB9-A39A-BED29435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B227B-803C-42A0-8974-2A859593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E6874-CF35-4A46-89AB-9262C1FC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A688BB-5648-48AA-8D8C-D6F84A0F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B21FEB-6B4E-49B6-A0A6-AD2B7052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695974-661D-4382-B23A-77C6B5B2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D666CC-0D86-4616-B35F-C230E51C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EB7C31-3DD0-4235-A574-03B122A2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9705EB-1B7A-480E-903B-238978F2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31BE82-8B4C-4A8B-A705-0636B80E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284BE-7851-40DC-B156-F592F30B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56DB-2FC3-40FE-8B95-9DED2597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AAFDA-709A-4408-8A97-E6604D79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74865-CC04-400B-9D22-6682D1C4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EAE29-4FC5-4D95-8B6F-48AAEE9F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23742-A6BB-421A-8E58-1E6E9E17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73559-CAF3-493F-B864-1CB13FD1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9DEE3-09F5-4948-B359-DF7B0A1D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F1D48-50D2-4C51-97B9-F82CA3EE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69A6D-6A5F-4D75-936F-E9089744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A7FFF-D1B0-43F9-8628-05E4CF89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A18E0-F53D-404D-8D05-FC2998F9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EF2F-EE0F-48F1-8900-92016E74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47537-3E83-43F2-8626-97F8FE5A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BD070-0CC5-4E5F-B210-5569B32E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4C81E-D24C-475F-B327-F20E12E7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75FEA-99ED-4A11-85C9-F093DEEA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A5F528-C09C-486D-BE5C-D6E5BD82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F73F98-A747-4E07-809B-3606CF29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1C4F9-8BD9-4571-B4D0-80A08C45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8B5AAA-6363-44EA-A8A4-B8B905CF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1781D1-82BA-46FB-9374-2E727869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63868-8ADC-4893-9398-F4BFF00D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AE05-E087-4962-87CD-249BA5A4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820D7C-C382-41C9-9DE2-BA55528F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8C407B-F06D-4015-9477-1E09F11B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875959-C395-48F5-BB59-D8C21BFA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A3D69C-EB0A-47A5-977F-8AFB01C4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716C2D-A87F-4F00-AC29-22067EC2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814F-245F-44EC-AECB-8DC8C2D2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F66F-D6CC-4268-B140-45F550F6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B70E-A393-4D2D-B385-F8AC22BC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7EB1-EFED-499C-AB38-7A33AED8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EB94-9455-4926-A753-B4C0B93B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291-78DB-4C26-99D4-A3B5B668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0D68-AB68-4F47-9F90-E0F3EAAF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ED71-77C2-446B-B1BB-06F25F53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3879-5855-4FCD-AEBE-B9B43323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9B46-C8B1-4A8A-886B-3D0BE627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DFA2-7675-4383-941F-4909A43B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AC464-AB04-4DD9-85F5-9BA7ED45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EEE08-50A4-497A-A22E-3249B72D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5A8C6-2482-43FD-9432-703D5513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D3D62-0251-4F1B-BA8C-0A456AD0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426E1-6D9F-4228-B5D0-E4A35F75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4371-6BA2-4728-9A0F-83AA20E1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B9DAB-0F60-457B-8BB6-E8D28F2F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9BAB9-657D-418C-BB8D-FFC287A5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868FE-DB4C-42CD-89A3-47ADABEA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7ABA3-61D5-40EE-BB2F-D2AA6B69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36A6-5EDC-469D-AFBD-2E08EDB5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AC255-1475-4FC2-8880-9EDCF8E5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5C350-7AA6-4397-9609-D03EC86C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4E955-7CC4-4345-A0A2-FD7088C8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2CE1C-E237-4F59-8D48-38B73837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4FF73-CBB9-4FA5-8710-31FF72C0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5C0-A013-4D5D-92FA-31779A5C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9A2B0-076A-4030-841E-F36827A8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03F61-A4B2-4A48-A26F-390EFC34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BBE84-6945-43B3-AF26-9479BA34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ADD93-FA31-4A17-B035-20EAA671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230C1-E8E1-442A-9ED0-7AD2203F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A4F15-9314-4E85-B0E2-8F07C8F6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29ACF-E6F0-4B9B-B0B0-523DF5E1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37564-4F3E-48EB-B636-158E6EA9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2E6FF-1960-492C-92CF-AF45D537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EAB0A-CAC8-4330-8B12-18E81A3E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8437-AB42-4E89-AF11-9A92A92D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AC7ED-000F-495F-902A-587AF21E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FC3B0-0980-41B4-AD26-4B5C3271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06BFF-992A-4E31-8EAF-588E844A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2BED6-0DA3-42B7-ABF1-5F11F2E4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035DE-A76E-4F05-B649-ADC34738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86349-1D13-4918-B3FD-BE293A91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54246-DB39-4589-9C47-49BEC14B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FC8AA-BEB2-48C5-9E16-87CCE1B4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21D2C-336A-4DE8-86DA-DC467413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69B8C-E794-4A04-83BB-985F98FF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0FF-720A-491B-BFE9-1051050D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D27F6-6149-46D0-9809-4CA57599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39AE4-022F-45ED-882E-A54717DC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5610A-C609-47AC-8B72-E6466A6E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91F98-D5A6-478C-BD1C-35C7C7D0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D8985-C4D0-4823-BDCE-572785CE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0A467-8DA2-46ED-BE85-6D77F122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BA355-8374-4F4A-B9D3-580FBB37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AB8E0-0CB7-4C5A-882D-5E3363AF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049B0-C17B-41F6-88B4-501B8FE8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D0FC7-4124-46B0-980D-D766F750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F12-DA23-4387-9864-8A3609C1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FDCBE-7593-43A5-AA92-D1A83D83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CB99F-8E3E-4B73-A1FD-305B5434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81D3E-9F66-42A6-9B91-72DA769B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2C32E-7BC3-4C64-8012-B3711AF7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12DBB-5A88-4D34-8A80-F077BE83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6E409-F9FE-4486-ADBC-2BED316E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4674B-566E-4B01-ABAD-BA5E828E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FE0E0-F2E5-4384-ACCA-3EE900F3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60516-386B-41E4-9C2A-ED828BB6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0ABEF-431A-4970-B48F-42DA2204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84F-323A-4A47-9F94-7B9F7521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35CC7-551E-4ECD-B731-DCEAD50A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EBE33-F1CE-4107-B2CF-EBCC9496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6BA9E-796A-49A0-BA42-E0CF1B6B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1B00F-1BF5-4F0C-B4FD-36BD9C41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81364-C818-40CF-A0EC-9DC1AEAE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021A8-C9A3-42AA-9385-CFD7E4DF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8E8FA-65DF-477A-B57F-D2F626E3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E6E6B-D387-44AE-A29D-047200F3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E7FBE-0181-4878-87BE-F23B317D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0BF2D-0464-4725-9B3E-CC20FF72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58E-D12D-4BC6-9B49-C2A8C8C5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BE995-9938-4741-B56F-84024354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E06A9-3FEF-4455-AC69-E4CCA08B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DAAAF-6C4C-4304-88E6-E16E22DB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0A21A-8D06-4D6A-B249-0C1F6597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F4C1D-F9B1-4BBD-B30E-A7AED596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3F1C1-04AE-430B-8B10-63EF9955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C22C5-0D60-4926-B219-DFDC2C1A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8CD63F-2052-4AC6-B3F1-9E396E33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E7D88D-D9FA-41E9-94F8-A73D3B55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264564-7569-4BA6-BE20-36ECE860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8452-4C88-4858-ACEF-9ED026F98AA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6A87-F41C-4122-BDCB-B4CCC0CFBEF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111B-98CE-4666-A23A-C956905DCD3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298C-7386-458E-BBFC-49A0442D5C5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F3D5-63A6-48FA-9FEF-AFB05CADBA0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3400-1160-4B59-BBDC-8F19567A4B0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8CF8-2BBA-4A27-8DDA-B57E7DBD23D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036A-447B-493D-AE11-1F6702C7E45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4E0E-DDC1-4B6C-AC69-75A58231AB6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F442-0FE3-4A37-A655-0EE290955C0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116C-E9DC-498D-BA68-06C246988524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4394-EBB5-4110-9392-D9431F3A00F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Заголовок 1" descr=""/>
          <p:cNvPicPr/>
          <p:nvPr/>
        </p:nvPicPr>
        <p:blipFill>
          <a:blip r:embed="rId1"/>
          <a:stretch/>
        </p:blipFill>
        <p:spPr>
          <a:xfrm>
            <a:off x="682560" y="378000"/>
            <a:ext cx="7785000" cy="1761840"/>
          </a:xfrm>
          <a:prstGeom prst="rect">
            <a:avLst/>
          </a:prstGeom>
          <a:ln w="0">
            <a:noFill/>
          </a:ln>
        </p:spPr>
      </p:pic>
      <p:sp>
        <p:nvSpPr>
          <p:cNvPr id="614" name="TextBox 7"/>
          <p:cNvSpPr/>
          <p:nvPr/>
        </p:nvSpPr>
        <p:spPr>
          <a:xfrm>
            <a:off x="5037840" y="6248520"/>
            <a:ext cx="3760560" cy="368280"/>
          </a:xfrm>
          <a:prstGeom prst="rect">
            <a:avLst/>
          </a:prstGeom>
          <a:solidFill>
            <a:srgbClr val="bacece"/>
          </a:solidFill>
          <a:ln w="9360">
            <a:solidFill>
              <a:srgbClr val="4b50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Постовалова Г.М., г.Ноябрь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3" descr="G:\МОЯ НОВАЯ ПАПКА\ОФОРМЛЕНИЕ!\ВЕСЬ ЧЕЛОВЕК\дети\qqq.jpg"/>
          <p:cNvPicPr/>
          <p:nvPr/>
        </p:nvPicPr>
        <p:blipFill>
          <a:blip r:embed="rId2"/>
          <a:stretch/>
        </p:blipFill>
        <p:spPr>
          <a:xfrm>
            <a:off x="2209680" y="251460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8.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Хвалите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 своих детей. Когда они достигают успехов, обязательно выражайте им свою гордость и радость за них. Так они будут знать, что не зря старались, и почувствуют себя важным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8" name="Picture 2" descr="G:\МОЯ НОВАЯ ПАПКА\ОФОРМЛЕНИЕ!\ВЕСЬ ЧЕЛОВЕК\дети\grlcl1v.gif"/>
          <p:cNvPicPr/>
          <p:nvPr/>
        </p:nvPicPr>
        <p:blipFill>
          <a:blip r:embed="rId1"/>
          <a:stretch/>
        </p:blipFill>
        <p:spPr>
          <a:xfrm>
            <a:off x="3886200" y="3657600"/>
            <a:ext cx="1338120" cy="262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9. 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Если хотите, чтоб ребенок соблюдал порядок,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делайте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 это сами.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Подайте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 ему пример.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Завтракайте и ужинайте 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все вместе в одно и то же время каждый день, дети будут стараться соблюдать эту традицию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0" name="Picture 3" descr="C:\Users\Noticom\Desktop\КАРТИНКИ\ДЕТИ\1234295388_gnom1.gif"/>
          <p:cNvPicPr/>
          <p:nvPr/>
        </p:nvPicPr>
        <p:blipFill>
          <a:blip r:embed="rId1"/>
          <a:stretch/>
        </p:blipFill>
        <p:spPr>
          <a:xfrm>
            <a:off x="3809880" y="3851280"/>
            <a:ext cx="1676520" cy="249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10.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Уважайте</a:t>
            </a:r>
            <a:r>
              <a:rPr b="1" lang="ru-RU" sz="2700" spc="-1" strike="noStrike">
                <a:solidFill>
                  <a:srgbClr val="111618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право ребенка на самостоятельное принятие решений по поводу его будущего.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Помните,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 что ребенок не обязан реализовывать то, что не удалось сделать вам самим. У него свои мечты, позвольте ему пройти свой пут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2" name="Picture 2" descr="G:\МОЯ НОВАЯ ПАПКА\ОФОРМЛЕНИЕ!\ВЕСЬ ЧЕЛОВЕК\дети\grlcl1w.gif"/>
          <p:cNvPicPr/>
          <p:nvPr/>
        </p:nvPicPr>
        <p:blipFill>
          <a:blip r:embed="rId1"/>
          <a:stretch/>
        </p:blipFill>
        <p:spPr>
          <a:xfrm>
            <a:off x="3733920" y="4038480"/>
            <a:ext cx="1442880" cy="211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Ресурсы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ртинки из сети Интернет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ttp://planetashkol.ru/articles/10347/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    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Не существует идеальных родителей, так же, как и идеального ребенка. В каждой семье свои устои и принципы, у каждого члена семьи свои ожидания и требования. Тем не менее, есть простые и незамысловатые способы стать ближе, наладить отношения, выйти из конфликтов. Для этого вам нужно стараться следовать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следующим советам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C:\Users\Noticom\Desktop\27 марта\_3.jpg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10749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" descr="C:\Users\Noticom\Desktop\27 марта\teach.gif"/>
          <p:cNvPicPr/>
          <p:nvPr/>
        </p:nvPicPr>
        <p:blipFill>
          <a:blip r:embed="rId2"/>
          <a:stretch/>
        </p:blipFill>
        <p:spPr>
          <a:xfrm>
            <a:off x="457200" y="4876920"/>
            <a:ext cx="1886040" cy="17618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" descr="C:\Users\Noticom\Desktop\27 марта\ВАВ.gif"/>
          <p:cNvPicPr/>
          <p:nvPr/>
        </p:nvPicPr>
        <p:blipFill>
          <a:blip r:embed="rId3"/>
          <a:stretch/>
        </p:blipFill>
        <p:spPr>
          <a:xfrm>
            <a:off x="3733920" y="4876920"/>
            <a:ext cx="1966680" cy="18381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" descr="C:\Users\Noticom\Desktop\27 марта\Ч.gif"/>
          <p:cNvPicPr/>
          <p:nvPr/>
        </p:nvPicPr>
        <p:blipFill>
          <a:blip r:embed="rId4"/>
          <a:stretch/>
        </p:blipFill>
        <p:spPr>
          <a:xfrm>
            <a:off x="7086600" y="0"/>
            <a:ext cx="1523880" cy="14241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C:\Users\Noticom\Desktop\27 марта\ПОРА.gif"/>
          <p:cNvPicPr/>
          <p:nvPr/>
        </p:nvPicPr>
        <p:blipFill>
          <a:blip r:embed="rId5"/>
          <a:stretch/>
        </p:blipFill>
        <p:spPr>
          <a:xfrm>
            <a:off x="3276720" y="0"/>
            <a:ext cx="2647800" cy="14097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7" descr="C:\Users\Noticom\Desktop\27 марта\АПРР.gif"/>
          <p:cNvPicPr/>
          <p:nvPr/>
        </p:nvPicPr>
        <p:blipFill>
          <a:blip r:embed="rId6"/>
          <a:stretch/>
        </p:blipFill>
        <p:spPr>
          <a:xfrm>
            <a:off x="6934320" y="4876920"/>
            <a:ext cx="1885680" cy="1761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2800" spc="-1" strike="noStrike">
                <a:solidFill>
                  <a:srgbClr val="111618"/>
                </a:solidFill>
                <a:latin typeface="Georgia"/>
              </a:rPr>
              <a:t>.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Занимайтесь</a:t>
            </a:r>
            <a:r>
              <a:rPr b="0" lang="ru-RU" sz="2800" spc="-1" strike="noStrike">
                <a:solidFill>
                  <a:srgbClr val="111618"/>
                </a:solidFill>
                <a:latin typeface="Georgia"/>
              </a:rPr>
              <a:t> вместе с ребенком чем-то интересным для вас обоих.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Играйте</a:t>
            </a:r>
            <a:r>
              <a:rPr b="0" lang="ru-RU" sz="2800" spc="-1" strike="noStrike">
                <a:solidFill>
                  <a:srgbClr val="111618"/>
                </a:solidFill>
                <a:latin typeface="Georgia"/>
              </a:rPr>
              <a:t> в игры,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решайте</a:t>
            </a:r>
            <a:r>
              <a:rPr b="0" lang="ru-RU" sz="2800" spc="-1" strike="noStrike">
                <a:solidFill>
                  <a:srgbClr val="111618"/>
                </a:solidFill>
                <a:latin typeface="Georgia"/>
              </a:rPr>
              <a:t> задачи,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делайте</a:t>
            </a:r>
            <a:r>
              <a:rPr b="0" lang="ru-RU" sz="2800" spc="-1" strike="noStrike">
                <a:solidFill>
                  <a:srgbClr val="111618"/>
                </a:solidFill>
                <a:latin typeface="Georgia"/>
              </a:rPr>
              <a:t> зарядку. Им необходимо ваше внимание. Совместное творчество поможет вам сблизиться, понять друг друга, найти общий язык и завоевать довер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2" descr="G:\МОЯ НОВАЯ ПАПКА\ОФОРМЛЕНИЕ!\ВЕСЬ ЧЕЛОВЕК\дети\grlcl1ac.gif"/>
          <p:cNvPicPr/>
          <p:nvPr/>
        </p:nvPicPr>
        <p:blipFill>
          <a:blip r:embed="rId1"/>
          <a:stretch/>
        </p:blipFill>
        <p:spPr>
          <a:xfrm>
            <a:off x="3886200" y="4495680"/>
            <a:ext cx="1523880" cy="1582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045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Не требуйте 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от ребенка беспрекословного повиновения. Если хотите быть в курсе его дел –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доверяйте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 ему. Если вам не нравится, что он поздно возвращается,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объясните</a:t>
            </a:r>
            <a:r>
              <a:rPr b="1" lang="ru-RU" sz="2700" spc="-1" strike="noStrike">
                <a:solidFill>
                  <a:srgbClr val="111618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ему, что вы нервничаете, боитесь за него, попросите звонить, и предупреждать, если он задерживаетс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6" name="Picture 5" descr="C:\Users\Noticom\Desktop\КАРТИНКИ\ДЕТИ\1234295771_gnom9.gif"/>
          <p:cNvPicPr/>
          <p:nvPr/>
        </p:nvPicPr>
        <p:blipFill>
          <a:blip r:embed="rId1"/>
          <a:stretch/>
        </p:blipFill>
        <p:spPr>
          <a:xfrm>
            <a:off x="3733920" y="4572000"/>
            <a:ext cx="1500120" cy="167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04920" y="17524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Обеспечьте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 ребенка местом в доме, где он мог бы побыть один. Любому человеку необходимо жизненное пространство для его личных вещей, дневников, и просто мыслей.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Не пытайтесь навести</a:t>
            </a: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там свой порядок.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Не копайтесь 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в его вещах, ребенок должен знать, что его уважают, и доверяют ем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Picture 4" descr="C:\Users\Noticom\Desktop\КАРТИНКИ\ДЕТИ\1234295550_gnom5.gif"/>
          <p:cNvPicPr/>
          <p:nvPr/>
        </p:nvPicPr>
        <p:blipFill>
          <a:blip r:embed="rId1"/>
          <a:stretch/>
        </p:blipFill>
        <p:spPr>
          <a:xfrm>
            <a:off x="3505320" y="4419720"/>
            <a:ext cx="198900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04560" y="2286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.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Не перебивайте 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ребенка и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не говорите 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ему, что у вас нет времени на его проблемы. Иначе в скором будущем он скажет вам то же самое. Если он хочет чем-то с вами поделиться, выслушайте его внимательно и не делайте вид, что это ерунда. То, что важно для него, должно быть важным и для вас. Обязательно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дайте ему совет 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или хотя бы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выскажите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 свое мнение, ведь он нуждается в вашем одобрени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7" descr="C:\Users\Noticom\Desktop\КАРТИНКИ\ДЕТИ\1234296047_gnom17.gif"/>
          <p:cNvPicPr/>
          <p:nvPr/>
        </p:nvPicPr>
        <p:blipFill>
          <a:blip r:embed="rId1"/>
          <a:stretch/>
        </p:blipFill>
        <p:spPr>
          <a:xfrm>
            <a:off x="3581280" y="457200"/>
            <a:ext cx="1981440" cy="152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.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Не бойтесь 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показать ребенку, что любите его. Не только деньгами, но и словами, разговорами, поддержкой в трудную минуту.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Говорите</a:t>
            </a:r>
            <a:r>
              <a:rPr b="1" lang="ru-RU" sz="2700" spc="-1" strike="noStrike">
                <a:solidFill>
                  <a:srgbClr val="111618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ему, что он важен для вас, обнимайте его, ведь это ваш родной ребенок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2" name="Picture 2" descr="G:\МОЯ НОВАЯ ПАПКА\ОФОРМЛЕНИЕ!\ВЕСЬ ЧЕЛОВЕК\дети\grlcl1h.gif"/>
          <p:cNvPicPr/>
          <p:nvPr/>
        </p:nvPicPr>
        <p:blipFill>
          <a:blip r:embed="rId1"/>
          <a:stretch/>
        </p:blipFill>
        <p:spPr>
          <a:xfrm>
            <a:off x="3809880" y="3962520"/>
            <a:ext cx="1676520" cy="212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6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. Никогда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не ругайте 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ребенка при чужих, будь то ваши друзья или незнакомые люди.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Разговаривайте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 с ним спокойно, на равных. Обида за ругань может привести к плачевным последствия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Picture 2" descr="G:\МОЯ НОВАЯ ПАПКА\ОФОРМЛЕНИЕ!\ВЕСЬ ЧЕЛОВЕК\дети\grlcl1i.gif"/>
          <p:cNvPicPr/>
          <p:nvPr/>
        </p:nvPicPr>
        <p:blipFill>
          <a:blip r:embed="rId1"/>
          <a:stretch/>
        </p:blipFill>
        <p:spPr>
          <a:xfrm>
            <a:off x="3809880" y="3733920"/>
            <a:ext cx="1629000" cy="2193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7. 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Ни в коем случае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не называйте 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его тупым и бездарным, т.к. он может в этом поверить!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Не цепляйтесь</a:t>
            </a: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к мелочам.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Обращайте</a:t>
            </a:r>
            <a:r>
              <a:rPr b="0" lang="ru-RU" sz="2700" spc="-1" strike="noStrike">
                <a:solidFill>
                  <a:srgbClr val="111618"/>
                </a:solidFill>
                <a:latin typeface="Georgia"/>
              </a:rPr>
              <a:t> больше внимания на результаты его работы, а не на промахи во время работы, иначе можно отбить любое желание учиться и старатьс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6" name="Picture 2" descr="G:\МОЯ НОВАЯ ПАПКА\ОФОРМЛЕНИЕ!\ВЕСЬ ЧЕЛОВЕК\дети\grlcl1k.gif"/>
          <p:cNvPicPr/>
          <p:nvPr/>
        </p:nvPicPr>
        <p:blipFill>
          <a:blip r:embed="rId1"/>
          <a:stretch/>
        </p:blipFill>
        <p:spPr>
          <a:xfrm>
            <a:off x="3581280" y="4343400"/>
            <a:ext cx="214308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3:13:13Z</dcterms:created>
  <dc:creator>Мама</dc:creator>
  <dc:description/>
  <dc:language>en-US</dc:language>
  <cp:lastModifiedBy>Noticom</cp:lastModifiedBy>
  <dcterms:modified xsi:type="dcterms:W3CDTF">2011-03-27T14:25:26Z</dcterms:modified>
  <cp:revision>7</cp:revision>
  <dc:subject/>
  <dc:title>Советы для идеального родителя</dc:title>
</cp:coreProperties>
</file>