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4.gif" ContentType="image/gif"/>
  <Override PartName="/ppt/media/image10.png" ContentType="image/png"/>
  <Override PartName="/ppt/media/image2.wmf" ContentType="image/x-wmf"/>
  <Override PartName="/ppt/media/image3.png" ContentType="image/png"/>
  <Override PartName="/ppt/media/image8.gif" ContentType="image/gif"/>
  <Override PartName="/ppt/media/image13.gif" ContentType="image/gif"/>
  <Override PartName="/ppt/media/chimes.wav" ContentType="audio/x-wav"/>
  <Override PartName="/ppt/media/image1.gif" ContentType="image/gif"/>
  <Override PartName="/ppt/media/image4.png" ContentType="image/png"/>
  <Override PartName="/ppt/media/image5.gif" ContentType="image/gif"/>
  <Override PartName="/ppt/media/image6.png" ContentType="image/png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DEB-C2B6-4BCE-8355-6D51CB37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DFD-6472-4EEC-A22B-CA66158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49E-D050-4857-ACD0-DB656FC5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F07-536E-4C35-B458-98FA65BA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293-AC26-46A3-A094-FBB22FEE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01BB-765E-4D38-AAF9-4F68583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270-AFAE-4FF5-9625-9A282F46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5FA8-7D5F-434A-8323-60E76F0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380-E206-41C3-9377-490FEFE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FF5B-A33D-47B5-A34C-913FB653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FE84-21C6-47C9-8E88-893B912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032-F810-4758-B1C1-36EAF31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D413-1E08-40B3-AA7D-3B0D9838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E31E-BA80-4F5D-B06B-107FD38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DFC4-0CBF-4187-9191-B6381385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F71F-3D48-418A-ABEB-5BCC12CC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8CAE-14A0-4D14-A418-CC40CB37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35F-8C95-4704-AA0F-3E72AD8C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091-6FB9-4626-A0E7-5F22E420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7D1-A739-4755-A773-8599737C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0BC-AB9F-440F-BDC3-9B2AD30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33D-5804-46AB-A5D0-E862EF9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8DA-AF8E-412E-B51C-47B48856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6F7-DE9B-4B52-A94F-F5BC477C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E497-88D9-41E8-8943-042439B36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787-6D36-4F4D-9CD3-1D8CB5B545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143000" y="1447920"/>
            <a:ext cx="7238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ире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гадок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1" name="Picture 5" descr="Kartinochki (2)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6"/>
          <p:cNvSpPr txBox="1"/>
          <p:nvPr/>
        </p:nvSpPr>
        <p:spPr>
          <a:xfrm>
            <a:off x="1371600" y="1752480"/>
            <a:ext cx="647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илетела на лужок,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нашла аленький цветок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Хлопотала целый день –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Собирать нектар не лень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" name="WordArt 17"/>
          <p:cNvSpPr txBox="1"/>
          <p:nvPr/>
        </p:nvSpPr>
        <p:spPr>
          <a:xfrm>
            <a:off x="27432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чел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18" descr="bugs_1"/>
          <p:cNvPicPr/>
          <p:nvPr/>
        </p:nvPicPr>
        <p:blipFill>
          <a:blip r:embed="rId4"/>
          <a:stretch/>
        </p:blipFill>
        <p:spPr>
          <a:xfrm>
            <a:off x="2895480" y="1447920"/>
            <a:ext cx="347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1523880" y="1752480"/>
            <a:ext cx="647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ы на кружево взгляните –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Сплетено из тонких нитей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Мастер ловок и хитёр –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опадёшь в его узор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27432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ук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8" descr="63eb56af60f07e81591adc780534371f"/>
          <p:cNvPicPr/>
          <p:nvPr/>
        </p:nvPicPr>
        <p:blipFill>
          <a:blip r:embed="rId4"/>
          <a:stretch/>
        </p:blipFill>
        <p:spPr>
          <a:xfrm>
            <a:off x="1981080" y="838080"/>
            <a:ext cx="5181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523880" y="1752480"/>
            <a:ext cx="647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Будет целый день жужжать,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сей семье надоедать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27432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х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7" descr="AN334"/>
          <p:cNvPicPr/>
          <p:nvPr/>
        </p:nvPicPr>
        <p:blipFill>
          <a:blip r:embed="rId4"/>
          <a:stretch/>
        </p:blipFill>
        <p:spPr>
          <a:xfrm>
            <a:off x="2514600" y="1905120"/>
            <a:ext cx="38862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96480" y="1905120"/>
            <a:ext cx="720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народ создал огромну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вестную литературу: мудрые пословиц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хитрые загадки, веселые и печаль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ядовые песни, торжественные был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роические, волшебные, бытовые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смешные сказ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838080" y="1295280"/>
            <a:ext cx="762156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, земля,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ения природы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2590920" y="5562720"/>
            <a:ext cx="4038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мной шар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6" descr="56r4"/>
          <p:cNvPicPr/>
          <p:nvPr/>
        </p:nvPicPr>
        <p:blipFill>
          <a:blip r:embed="rId4"/>
          <a:stretch/>
        </p:blipFill>
        <p:spPr>
          <a:xfrm>
            <a:off x="3048120" y="1371600"/>
            <a:ext cx="3295440" cy="32958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1905120" y="2057400"/>
            <a:ext cx="5814720" cy="30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Идёшь сто лет,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а конца нет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219320" y="1371600"/>
            <a:ext cx="67816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Чего на свете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не измеришь,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не взвесишь, не купишь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9718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8" descr="64c7d2127238ff44b10847d420c87677"/>
          <p:cNvPicPr/>
          <p:nvPr/>
        </p:nvPicPr>
        <p:blipFill>
          <a:blip r:embed="rId4"/>
          <a:stretch/>
        </p:blipFill>
        <p:spPr>
          <a:xfrm>
            <a:off x="2438280" y="762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7"/>
          <p:cNvSpPr txBox="1"/>
          <p:nvPr/>
        </p:nvSpPr>
        <p:spPr>
          <a:xfrm>
            <a:off x="1219320" y="1371600"/>
            <a:ext cx="67816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зойдет мячик на бугор -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ыше леса, выше гор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Щедро улыбается,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Добрым людям нравится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9718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Picture 9" descr="37r3"/>
          <p:cNvPicPr/>
          <p:nvPr/>
        </p:nvPicPr>
        <p:blipFill>
          <a:blip r:embed="rId4"/>
          <a:stretch/>
        </p:blipFill>
        <p:spPr>
          <a:xfrm>
            <a:off x="2438280" y="1295280"/>
            <a:ext cx="432432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762120" y="990720"/>
            <a:ext cx="78483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Над нашей головой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ярких мушек рой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7432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езды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8" descr="3a8f0da3a60ff09e0893ce8237826b0f"/>
          <p:cNvPicPr/>
          <p:nvPr/>
        </p:nvPicPr>
        <p:blipFill>
          <a:blip r:embed="rId4"/>
          <a:stretch/>
        </p:blipFill>
        <p:spPr>
          <a:xfrm>
            <a:off x="1981080" y="1371600"/>
            <a:ext cx="52578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1447920" y="2057400"/>
            <a:ext cx="6553080" cy="24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ые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523880" y="1752480"/>
            <a:ext cx="647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Над цветочком пляшет,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Крылышками машет.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2743200" y="5867280"/>
            <a:ext cx="3429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бочк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9" descr="butterfly9"/>
          <p:cNvPicPr/>
          <p:nvPr/>
        </p:nvPicPr>
        <p:blipFill>
          <a:blip r:embed="rId4"/>
          <a:stretch/>
        </p:blipFill>
        <p:spPr>
          <a:xfrm>
            <a:off x="1523880" y="990720"/>
            <a:ext cx="495324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Владимировна</cp:lastModifiedBy>
  <dcterms:modified xsi:type="dcterms:W3CDTF">2011-02-17T17:50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