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941-9B71-433E-B3DB-638E3A8B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756-D35B-4DA2-847A-A20B4D54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CA0-3F5F-4354-BF22-C86D1261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8EB-085B-4317-A6A1-E2DBC97C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E60-A53A-46D3-95FA-F6130153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3AC-3667-4157-8B64-35DE6859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835-CD67-4CF5-AD86-5E3A5789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5AE-95D3-4154-8FF6-E91C2B01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9AF-C454-42EF-B107-C04ED2AA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C04A-914F-4E56-8651-808C80E3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249-86E5-4065-8752-5BEC3C70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C14-575F-494A-A901-490FEBCB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4197-B7E9-48D8-98E5-A8DC57B9255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7" descr=""/>
          <p:cNvPicPr/>
          <p:nvPr/>
        </p:nvPicPr>
        <p:blipFill>
          <a:blip r:embed="rId1"/>
          <a:stretch/>
        </p:blipFill>
        <p:spPr>
          <a:xfrm>
            <a:off x="281160" y="701640"/>
            <a:ext cx="8581680" cy="217008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9" descr=""/>
          <p:cNvPicPr/>
          <p:nvPr/>
        </p:nvPicPr>
        <p:blipFill>
          <a:blip r:embed="rId2"/>
          <a:stretch/>
        </p:blipFill>
        <p:spPr>
          <a:xfrm>
            <a:off x="4425840" y="3444840"/>
            <a:ext cx="4297320" cy="2968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I:\НПК\кот - копия.jpg"/>
          <p:cNvPicPr/>
          <p:nvPr/>
        </p:nvPicPr>
        <p:blipFill>
          <a:blip r:embed="rId3"/>
          <a:stretch/>
        </p:blipFill>
        <p:spPr>
          <a:xfrm>
            <a:off x="1214280" y="3143160"/>
            <a:ext cx="2286000" cy="24559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4" descr=""/>
          <p:cNvPicPr/>
          <p:nvPr/>
        </p:nvPicPr>
        <p:blipFill>
          <a:blip r:embed="rId4"/>
          <a:stretch/>
        </p:blipFill>
        <p:spPr>
          <a:xfrm>
            <a:off x="3067200" y="6467400"/>
            <a:ext cx="30096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I:\НПК\кот - копия.jpg"/>
          <p:cNvPicPr/>
          <p:nvPr/>
        </p:nvPicPr>
        <p:blipFill>
          <a:blip r:embed="rId1"/>
          <a:stretch/>
        </p:blipFill>
        <p:spPr>
          <a:xfrm>
            <a:off x="8215200" y="5861160"/>
            <a:ext cx="928800" cy="99684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1" descr=""/>
          <p:cNvPicPr/>
          <p:nvPr/>
        </p:nvPicPr>
        <p:blipFill>
          <a:blip r:embed="rId2"/>
          <a:stretch/>
        </p:blipFill>
        <p:spPr>
          <a:xfrm>
            <a:off x="384120" y="1365120"/>
            <a:ext cx="844884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3080" y="-1432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фициальный сай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Users\User\Desktop\НПК\ПРИЛОЖЕНИЕ 1 Главная страница Скрэч.jpg"/>
          <p:cNvPicPr/>
          <p:nvPr/>
        </p:nvPicPr>
        <p:blipFill>
          <a:blip r:embed="rId1"/>
          <a:stretch/>
        </p:blipFill>
        <p:spPr>
          <a:xfrm>
            <a:off x="28440" y="642960"/>
            <a:ext cx="9115560" cy="56973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2565360" y="6273720"/>
            <a:ext cx="47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h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ttp://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scratch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.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mit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.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I:\НПК\кот - копия.jpg"/>
          <p:cNvPicPr/>
          <p:nvPr/>
        </p:nvPicPr>
        <p:blipFill>
          <a:blip r:embed="rId2"/>
          <a:stretch/>
        </p:blipFill>
        <p:spPr>
          <a:xfrm>
            <a:off x="2214720" y="6243480"/>
            <a:ext cx="571320" cy="614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I:\НПК\кот - копия.jpg"/>
          <p:cNvPicPr/>
          <p:nvPr/>
        </p:nvPicPr>
        <p:blipFill>
          <a:blip r:embed="rId3"/>
          <a:stretch/>
        </p:blipFill>
        <p:spPr>
          <a:xfrm>
            <a:off x="7072200" y="6243480"/>
            <a:ext cx="57168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14680" y="428760"/>
            <a:ext cx="1838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Прямоугольник 3" descr=""/>
          <p:cNvPicPr/>
          <p:nvPr/>
        </p:nvPicPr>
        <p:blipFill>
          <a:blip r:embed="rId1"/>
          <a:stretch/>
        </p:blipFill>
        <p:spPr>
          <a:xfrm>
            <a:off x="115920" y="1090440"/>
            <a:ext cx="8820000" cy="16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I:\НПК\кот - копия.jpg"/>
          <p:cNvPicPr/>
          <p:nvPr/>
        </p:nvPicPr>
        <p:blipFill>
          <a:blip r:embed="rId2"/>
          <a:stretch/>
        </p:blipFill>
        <p:spPr>
          <a:xfrm>
            <a:off x="357120" y="0"/>
            <a:ext cx="1081080" cy="1162080"/>
          </a:xfrm>
          <a:prstGeom prst="rect">
            <a:avLst/>
          </a:prstGeom>
          <a:ln w="0">
            <a:noFill/>
          </a:ln>
        </p:spPr>
      </p:pic>
      <p:pic>
        <p:nvPicPr>
          <p:cNvPr id="53" name="Заголовок 1" descr=""/>
          <p:cNvPicPr/>
          <p:nvPr/>
        </p:nvPicPr>
        <p:blipFill>
          <a:blip r:embed="rId3"/>
          <a:stretch/>
        </p:blipFill>
        <p:spPr>
          <a:xfrm>
            <a:off x="1285920" y="2840040"/>
            <a:ext cx="2219400" cy="84780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5" descr=""/>
          <p:cNvPicPr/>
          <p:nvPr/>
        </p:nvPicPr>
        <p:blipFill>
          <a:blip r:embed="rId4"/>
          <a:stretch/>
        </p:blipFill>
        <p:spPr>
          <a:xfrm>
            <a:off x="128520" y="3444840"/>
            <a:ext cx="902196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ипотез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2" descr=""/>
          <p:cNvPicPr/>
          <p:nvPr/>
        </p:nvPicPr>
        <p:blipFill>
          <a:blip r:embed="rId1"/>
          <a:stretch/>
        </p:blipFill>
        <p:spPr>
          <a:xfrm>
            <a:off x="285840" y="1517760"/>
            <a:ext cx="857232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бор программы  из готовых бло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I:\НПК\ПРИЛОЖЕНИЕ 6  кирпичики.jpg"/>
          <p:cNvPicPr/>
          <p:nvPr/>
        </p:nvPicPr>
        <p:blipFill>
          <a:blip r:embed="rId1"/>
          <a:stretch/>
        </p:blipFill>
        <p:spPr>
          <a:xfrm>
            <a:off x="357120" y="1357200"/>
            <a:ext cx="8501040" cy="531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I:\НПК\кот - копия.jpg"/>
          <p:cNvPicPr/>
          <p:nvPr/>
        </p:nvPicPr>
        <p:blipFill>
          <a:blip r:embed="rId2"/>
          <a:stretch/>
        </p:blipFill>
        <p:spPr>
          <a:xfrm>
            <a:off x="8215200" y="146160"/>
            <a:ext cx="9288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285920" y="714240"/>
          <a:ext cx="6786360" cy="5791320"/>
        </p:xfrm>
        <a:graphic>
          <a:graphicData uri="http://schemas.openxmlformats.org/drawingml/2006/table">
            <a:tbl>
              <a:tblPr/>
              <a:tblGrid>
                <a:gridCol w="1695240"/>
                <a:gridCol w="1295640"/>
                <a:gridCol w="2098440"/>
                <a:gridCol w="1697040"/>
              </a:tblGrid>
              <a:tr h="411840"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коман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еч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(движе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вижение по прямой, повороты, координ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oo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99"/>
                          </a:solidFill>
                          <a:latin typeface="Times New Roman"/>
                          <a:ea typeface="Calibri"/>
                        </a:rPr>
                        <a:t>(ви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олето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спрайта, показ или отключение, слои, эффе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u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Calibri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Calibri"/>
                        </a:rPr>
                        <a:t>звук</a:t>
                      </a: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зо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 со зву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йлы и виртуальные инструм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перо</a:t>
                      </a: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ёмно-зелё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вление рисованием сле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ого-совместим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управление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ёлт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головки обработчиков, алгоритмические  структуры, сообщения, задерж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en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сенсоры</a:t>
                      </a: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луб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сание спрайта, нажатие клавиш, контроль мыш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u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cc33"/>
                          </a:solidFill>
                          <a:latin typeface="Times New Roman"/>
                          <a:ea typeface="Calibri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33cc33"/>
                          </a:solidFill>
                          <a:latin typeface="Times New Roman"/>
                          <a:ea typeface="Calibri"/>
                        </a:rPr>
                        <a:t>числа</a:t>
                      </a:r>
                      <a:r>
                        <a:rPr b="1" lang="en-US" sz="1800" spc="-1" strike="noStrike">
                          <a:solidFill>
                            <a:srgbClr val="33cc33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елё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ифметика, функции, сравнения, усло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880"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ari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Calibri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Calibri"/>
                        </a:rPr>
                        <a:t>переменные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анже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ние и удаление переменных, присвоение знач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ы переменные для отдельного спрайта и общие для все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320" marR="31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2" descr="I:\НПК\кот - копия.jpg"/>
          <p:cNvPicPr/>
          <p:nvPr/>
        </p:nvPicPr>
        <p:blipFill>
          <a:blip r:embed="rId1"/>
          <a:stretch/>
        </p:blipFill>
        <p:spPr>
          <a:xfrm>
            <a:off x="8215200" y="5861160"/>
            <a:ext cx="9288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User\Desktop\НПК\ПРИЛОЖЕНИЕ 15 интерфейс.jpg"/>
          <p:cNvPicPr/>
          <p:nvPr/>
        </p:nvPicPr>
        <p:blipFill>
          <a:blip r:embed="rId1"/>
          <a:stretch/>
        </p:blipFill>
        <p:spPr>
          <a:xfrm>
            <a:off x="214200" y="428760"/>
            <a:ext cx="8429760" cy="480204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1357200" y="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Интерфейс программы 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Scr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0" y="5214960"/>
            <a:ext cx="528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Кнопки переключения режимов повтора спрай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нформация о текущем спрай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Заклад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анель инстру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4643280" y="5214960"/>
            <a:ext cx="39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5. Информация о проек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6. Кнопки запуска и останов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7. Кнопка перехода в полноэкранный реж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8. Кнопки создания новых спрайт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I:\НПК\кот - копия.jpg"/>
          <p:cNvPicPr/>
          <p:nvPr/>
        </p:nvPicPr>
        <p:blipFill>
          <a:blip r:embed="rId2"/>
          <a:stretch/>
        </p:blipFill>
        <p:spPr>
          <a:xfrm>
            <a:off x="8215200" y="5861160"/>
            <a:ext cx="9288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I:\НПК\девочка на сцене под музыку.bmp"/>
          <p:cNvPicPr/>
          <p:nvPr/>
        </p:nvPicPr>
        <p:blipFill>
          <a:blip r:embed="rId1"/>
          <a:stretch/>
        </p:blipFill>
        <p:spPr>
          <a:xfrm>
            <a:off x="214200" y="1214280"/>
            <a:ext cx="3929040" cy="2938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I:\НПК\приложение 18 Рис6 готовый мишь вниз.jpg"/>
          <p:cNvPicPr/>
          <p:nvPr/>
        </p:nvPicPr>
        <p:blipFill>
          <a:blip r:embed="rId2"/>
          <a:stretch/>
        </p:blipFill>
        <p:spPr>
          <a:xfrm>
            <a:off x="4714920" y="1214280"/>
            <a:ext cx="4214880" cy="2901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I:\НПК\рис3 готовый хип хоп.jpg"/>
          <p:cNvPicPr/>
          <p:nvPr/>
        </p:nvPicPr>
        <p:blipFill>
          <a:blip r:embed="rId3"/>
          <a:stretch/>
        </p:blipFill>
        <p:spPr>
          <a:xfrm>
            <a:off x="2286000" y="3933720"/>
            <a:ext cx="3930480" cy="2924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I:\НПК\кот - копия.jpg"/>
          <p:cNvPicPr/>
          <p:nvPr/>
        </p:nvPicPr>
        <p:blipFill>
          <a:blip r:embed="rId4"/>
          <a:stretch/>
        </p:blipFill>
        <p:spPr>
          <a:xfrm>
            <a:off x="8215200" y="5861160"/>
            <a:ext cx="9288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фотки\14.02.09 урок Лена у Чистяковой\DSC03537.JPG"/>
          <p:cNvPicPr/>
          <p:nvPr/>
        </p:nvPicPr>
        <p:blipFill>
          <a:blip r:embed="rId1"/>
          <a:stretch/>
        </p:blipFill>
        <p:spPr>
          <a:xfrm>
            <a:off x="714240" y="1000080"/>
            <a:ext cx="7500960" cy="5626080"/>
          </a:xfrm>
          <a:prstGeom prst="rect">
            <a:avLst/>
          </a:prstGeom>
          <a:ln w="0">
            <a:noFill/>
          </a:ln>
        </p:spPr>
      </p:pic>
      <p:pic>
        <p:nvPicPr>
          <p:cNvPr id="73" name="Заголовок 1" descr=""/>
          <p:cNvPicPr/>
          <p:nvPr/>
        </p:nvPicPr>
        <p:blipFill>
          <a:blip r:embed="rId2"/>
          <a:stretch/>
        </p:blipFill>
        <p:spPr>
          <a:xfrm>
            <a:off x="6480" y="-42840"/>
            <a:ext cx="9101160" cy="1311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I:\НПК\кот - копия.jpg"/>
          <p:cNvPicPr/>
          <p:nvPr/>
        </p:nvPicPr>
        <p:blipFill>
          <a:blip r:embed="rId3"/>
          <a:stretch/>
        </p:blipFill>
        <p:spPr>
          <a:xfrm>
            <a:off x="8215200" y="5861160"/>
            <a:ext cx="9288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7:21:21Z</dcterms:created>
  <dc:creator>Любовь Юрьевна</dc:creator>
  <dc:description/>
  <dc:language>en-US</dc:language>
  <cp:lastModifiedBy>Владелец</cp:lastModifiedBy>
  <dcterms:modified xsi:type="dcterms:W3CDTF">2011-03-28T15:22:28Z</dcterms:modified>
  <cp:revision>58</cp:revision>
  <dc:subject/>
  <dc:title>Слайд 1</dc:title>
</cp:coreProperties>
</file>