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A33-839A-4A6D-AB44-84F228C2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24F-0510-4F64-907D-A2C8BABA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C25-1E19-423B-876F-1E2BB292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A9B-98E5-4EB3-81F2-BD75A779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506-A9A1-47B8-A346-13FD3872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DF4-FFFC-46A1-A15F-0E756BF4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D31-600E-4618-ABE5-B28B6BE7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780-11A7-4965-B565-44FB54F1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D7A-F193-4652-9A97-D735FDBD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F9A-D2F7-4ABF-826D-9F6118CC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2595-4ABD-4334-8498-2ED4DB5F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E12-8C0D-453C-9D4A-0AAA371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D030-04B0-410D-A684-337F7B469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3419640" y="292428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95640" y="692280"/>
            <a:ext cx="53388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ловарные слов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5084640"/>
            <a:ext cx="504036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Мухарева Людмила Петр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учитель начальных классов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МОУ «Новокараканская СОШ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Беловский район, Кемеров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356000" y="2205000"/>
            <a:ext cx="100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3 класс</a:t>
            </a:r>
            <a:endParaRPr b="0" lang="en-US" sz="14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50560" y="691920"/>
            <a:ext cx="51231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С . С Е 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6516720" y="3500280"/>
            <a:ext cx="1441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>
            <a:off x="3276720" y="3500280"/>
            <a:ext cx="14396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692000" y="475920"/>
            <a:ext cx="561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В . К З А 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3"/>
          <p:cNvSpPr/>
          <p:nvPr/>
        </p:nvSpPr>
        <p:spPr>
          <a:xfrm>
            <a:off x="3276720" y="2781360"/>
            <a:ext cx="1360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4"/>
          <p:cNvSpPr/>
          <p:nvPr/>
        </p:nvSpPr>
        <p:spPr>
          <a:xfrm>
            <a:off x="6156360" y="4724280"/>
            <a:ext cx="13683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42560" y="620640"/>
            <a:ext cx="742788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Ч Е М . Д А 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 rot="691200">
            <a:off x="6587640" y="3141360"/>
            <a:ext cx="1368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 rot="21140400">
            <a:off x="3492000" y="3789000"/>
            <a:ext cx="13669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042920" y="691920"/>
            <a:ext cx="73440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Д . Л Ь Ф И 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3"/>
          <p:cNvSpPr/>
          <p:nvPr/>
        </p:nvSpPr>
        <p:spPr>
          <a:xfrm rot="946200">
            <a:off x="6084720" y="4436640"/>
            <a:ext cx="1368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 rot="20880000">
            <a:off x="3347640" y="3141360"/>
            <a:ext cx="12970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9640" y="404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К В . Р Т И Р 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 rot="20950800">
            <a:off x="2843280" y="2565360"/>
            <a:ext cx="1441440" cy="121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 rot="998400">
            <a:off x="5940360" y="3933720"/>
            <a:ext cx="1513080" cy="121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42560" y="620640"/>
            <a:ext cx="742788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К О М Н . Т 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 rot="691200">
            <a:off x="6587640" y="3141360"/>
            <a:ext cx="1368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 rot="21140400">
            <a:off x="3492000" y="3789000"/>
            <a:ext cx="13669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42560" y="620640"/>
            <a:ext cx="742788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Ч . М О Д А 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 rot="691200">
            <a:off x="6587640" y="3141360"/>
            <a:ext cx="1368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 rot="21140400">
            <a:off x="3492000" y="3789000"/>
            <a:ext cx="13669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1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8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4"/>
          <p:cNvSpPr/>
          <p:nvPr/>
        </p:nvSpPr>
        <p:spPr>
          <a:xfrm>
            <a:off x="4859280" y="443700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23640" y="549360"/>
            <a:ext cx="4824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. Б З А Ц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3"/>
          <p:cNvSpPr/>
          <p:nvPr/>
        </p:nvSpPr>
        <p:spPr>
          <a:xfrm rot="946200">
            <a:off x="6156000" y="2349360"/>
            <a:ext cx="12160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4"/>
          <p:cNvSpPr/>
          <p:nvPr/>
        </p:nvSpPr>
        <p:spPr>
          <a:xfrm rot="21169800">
            <a:off x="3419640" y="3141720"/>
            <a:ext cx="1303200" cy="128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618920" y="620640"/>
            <a:ext cx="597708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Б . Л К О 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 rot="21169800">
            <a:off x="2771640" y="3357720"/>
            <a:ext cx="1368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 rot="858000">
            <a:off x="6012000" y="3860640"/>
            <a:ext cx="12952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339640" y="836280"/>
            <a:ext cx="4753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З . К О 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3"/>
          <p:cNvSpPr/>
          <p:nvPr/>
        </p:nvSpPr>
        <p:spPr>
          <a:xfrm>
            <a:off x="6084720" y="4508640"/>
            <a:ext cx="1368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4"/>
          <p:cNvSpPr/>
          <p:nvPr/>
        </p:nvSpPr>
        <p:spPr>
          <a:xfrm>
            <a:off x="3059280" y="2997360"/>
            <a:ext cx="12952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58920" y="475920"/>
            <a:ext cx="60595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В О . З А 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3708360" y="3933720"/>
            <a:ext cx="12970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5940360" y="2781360"/>
            <a:ext cx="14400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35280" y="404640"/>
            <a:ext cx="584352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Л . П А Т 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3419640" y="4292640"/>
            <a:ext cx="1433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4"/>
          <p:cNvSpPr/>
          <p:nvPr/>
        </p:nvSpPr>
        <p:spPr>
          <a:xfrm>
            <a:off x="5940360" y="2781360"/>
            <a:ext cx="13683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771640" y="333000"/>
            <a:ext cx="3959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. Б Е 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3"/>
          <p:cNvSpPr/>
          <p:nvPr/>
        </p:nvSpPr>
        <p:spPr>
          <a:xfrm>
            <a:off x="4284720" y="2349360"/>
            <a:ext cx="12970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4"/>
          <p:cNvSpPr/>
          <p:nvPr/>
        </p:nvSpPr>
        <p:spPr>
          <a:xfrm>
            <a:off x="4356000" y="4292640"/>
            <a:ext cx="136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63280" y="765000"/>
            <a:ext cx="6048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  <a:ea typeface="Arial"/>
              </a:rPr>
              <a:t>П Р . М Е Р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635280" y="3141720"/>
            <a:ext cx="14414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4427640" y="5013360"/>
            <a:ext cx="14396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59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007</cp:lastModifiedBy>
  <dcterms:modified xsi:type="dcterms:W3CDTF">2011-03-28T10:39:07Z</dcterms:modified>
  <cp:revision>715</cp:revision>
  <dc:subject/>
  <dc:title>Слайд 1</dc:title>
</cp:coreProperties>
</file>