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0.wmf" ContentType="image/x-wmf"/>
  <Override PartName="/ppt/media/image4.png" ContentType="image/png"/>
  <Override PartName="/ppt/media/image3.png" ContentType="image/png"/>
  <Override PartName="/ppt/media/image17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4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19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BAC-1857-409C-8E1D-5ED2DA18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D89-BBBC-4965-87AB-69B63347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3C9-6E46-483A-BA82-3D7A3CA8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157-FD6F-4787-B753-767043CE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66FA-F0BA-4604-B618-5AF53656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87EC-88E9-4EB3-A611-03D62525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1C65-171A-4D63-B6E3-735B047E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DDD9-04AD-4618-88C0-0DFC392C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04AD-3A9A-42BC-A8E5-B1184A03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0AC7-D56E-4062-B8F9-0DED2C19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3ACD-574A-4210-A82E-FD829B8B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2EC-3EF6-4744-AE5C-3098BFAD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AC69-437D-45A2-BB5E-5EDE66D3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CF3D-6E73-4EDB-B455-56EB961E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C2F5-DA6A-400F-9B20-2A1ABB0D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2D3F-08E0-45B0-B682-9F590E0F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229C-624A-43EE-ACF7-24D0A605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57D-A0EB-4FDA-9910-59D701C2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D3D-DFA2-4959-8D76-6DF32127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6C1-F180-4E64-9F1B-D07CC2E6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C08-0881-4859-A83E-1894B27A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E95-B6BD-43CC-8B52-25BD8F66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E06-EB7E-4F3F-A4DB-0EEC2301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2704-1494-44FB-A13D-66AA977F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A2BF-FC19-4F31-BEC0-9C5C4693F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AB5E-4063-4525-877A-474ECD99F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176040" y="792000"/>
            <a:ext cx="9041040" cy="279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00024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81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вторы :Петракевич Тан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Якубович Юля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ащиеся 10 В кла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1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1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уководитель: Куклина Н.Э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обществозн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71468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ОУ Первомайская общеобразовательная средня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3357000" y="578628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. Первомайское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268200" y="139680"/>
            <a:ext cx="8693280" cy="1908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-360" y="1557360"/>
            <a:ext cx="3357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аселенные пункты Томской области, основанные переселенцами из Белорусси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Асиновский район: 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овиковка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Кожевниковский район: 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Хмелевка 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Зайцево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Первомайский район: </a:t>
            </a:r>
            <a:br>
              <a:rPr sz="27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Ломовиц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6148440" y="292896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G:\Новая  папка\106_PANA\P1060593.JPG"/>
          <p:cNvPicPr/>
          <p:nvPr/>
        </p:nvPicPr>
        <p:blipFill>
          <a:blip r:embed="rId3"/>
          <a:stretch/>
        </p:blipFill>
        <p:spPr>
          <a:xfrm>
            <a:off x="3500280" y="1928880"/>
            <a:ext cx="5239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Администратор\Рабочий стол\Новая папка (2)\P1120376.JPG"/>
          <p:cNvPicPr/>
          <p:nvPr/>
        </p:nvPicPr>
        <p:blipFill>
          <a:blip r:embed="rId3"/>
          <a:stretch/>
        </p:blipFill>
        <p:spPr>
          <a:xfrm>
            <a:off x="2000160" y="1571760"/>
            <a:ext cx="6782040" cy="5086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160" y="1857240"/>
            <a:ext cx="24987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левка –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уп 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виной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кров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2"/>
          <a:stretch/>
        </p:blipFill>
        <p:spPr>
          <a:xfrm>
            <a:off x="353880" y="-36360"/>
            <a:ext cx="8240760" cy="950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Администратор\Рабочий стол\Новая папка (2)\P2200455.JPG"/>
          <p:cNvPicPr/>
          <p:nvPr/>
        </p:nvPicPr>
        <p:blipFill>
          <a:blip r:embed="rId3"/>
          <a:stretch/>
        </p:blipFill>
        <p:spPr>
          <a:xfrm>
            <a:off x="539640" y="765000"/>
            <a:ext cx="4681800" cy="5937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40360" y="1983960"/>
            <a:ext cx="280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з льна у нас шили юбки -  анадраки в клет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E:\P1050666.JPG"/>
          <p:cNvPicPr/>
          <p:nvPr/>
        </p:nvPicPr>
        <p:blipFill>
          <a:blip r:embed="rId2"/>
          <a:stretch/>
        </p:blipFill>
        <p:spPr>
          <a:xfrm>
            <a:off x="142920" y="142920"/>
            <a:ext cx="8858160" cy="6286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1659240" y="6458760"/>
            <a:ext cx="56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Интервью с Петракевич Осипом Денис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E:\P1050663.JPG"/>
          <p:cNvPicPr/>
          <p:nvPr/>
        </p:nvPicPr>
        <p:blipFill>
          <a:blip r:embed="rId2"/>
          <a:stretch/>
        </p:blipFill>
        <p:spPr>
          <a:xfrm>
            <a:off x="142920" y="142920"/>
            <a:ext cx="8858160" cy="62863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"/>
          <p:cNvSpPr/>
          <p:nvPr/>
        </p:nvSpPr>
        <p:spPr>
          <a:xfrm>
            <a:off x="1215720" y="6458760"/>
            <a:ext cx="62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Calibri"/>
              </a:rPr>
              <a:t>Интервью с Наркевич Людвигом Александрович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357200" y="-72720"/>
            <a:ext cx="62866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ошено  8 жителей д. Ломовицк -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7320" y="2200320"/>
            <a:ext cx="611172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000840" y="1766880"/>
            <a:ext cx="2857320" cy="3751560"/>
          </a:xfrm>
          <a:prstGeom prst="rect">
            <a:avLst/>
          </a:prstGeom>
          <a:solidFill>
            <a:srgbClr val="80c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большинство людей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торых мы опросили, знаю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традиции и обычаи сибиряков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белорусского и польск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исхо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28760" y="857160"/>
          <a:ext cx="5429160" cy="5942160"/>
        </p:xfrm>
        <a:graphic>
          <a:graphicData uri="http://schemas.openxmlformats.org/drawingml/2006/table">
            <a:tbl>
              <a:tblPr/>
              <a:tblGrid>
                <a:gridCol w="2711160"/>
                <a:gridCol w="1365480"/>
                <a:gridCol w="1352520"/>
              </a:tblGrid>
              <a:tr h="21024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 gridSpan="2"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в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52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Кто вы по национальност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 - белору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0% - поля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21024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наю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 знаю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6300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Знаете ли вы что-нибудь о традициях сибиряков польского или белорусского происхождени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6300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Знаете ли вы какие-нибудь национальные песни поляков  или белорусо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6300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Знаете ли вы какие-нибудь национальные танцы поляков  или белорусо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6300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Знаете ли вы какие-нибудь национальные блюда поляков  или белорусо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12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Знаете ли вы особенности построек поляков  или белорусо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12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Знаете ли вы, как отмечают праздники поляки или белорусы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6300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Знаете ли вы, какие существовали особенности одежды у поляков или белорусо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83016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 Знаете ли вы, как производится обряд захоронения людей польского или белорусского происхождени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12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 Знаете ли вы, как происходила свадьба поляков  или белорусо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ЫВОД: В ХОДЕ ИССЛЕДОВАНИЯ МЫ ВЫЯСНИЛИ, ЧТО СТАРШЕЕ ПОКОЛЕНИЕ ПОМНИТ И СОБЛЮДАЕТ ТРАДИЦИИ. А МОЛОДОЕ ЭТИМ НЕ ИНТЕРЕСУ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2"/>
          <a:stretch/>
        </p:blipFill>
        <p:spPr>
          <a:xfrm>
            <a:off x="1000080" y="1071720"/>
            <a:ext cx="6966000" cy="3628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"/>
          <p:cNvSpPr/>
          <p:nvPr/>
        </p:nvSpPr>
        <p:spPr>
          <a:xfrm>
            <a:off x="2000160" y="78120"/>
            <a:ext cx="500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Знаете ли вы о традициях сибиряков белорусского и польского происхождения?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28760" y="4287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прос пенсионеров д. Ломовицк -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00040" y="1143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наете ли Вы национальны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Блю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раз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б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ибиряков белорусского и польского происхожд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" descr=""/>
          <p:cNvPicPr/>
          <p:nvPr/>
        </p:nvPicPr>
        <p:blipFill>
          <a:blip r:embed="rId2"/>
          <a:stretch/>
        </p:blipFill>
        <p:spPr>
          <a:xfrm>
            <a:off x="428760" y="3000240"/>
            <a:ext cx="5143320" cy="3643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5857920" y="3000240"/>
            <a:ext cx="3143160" cy="364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од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рш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оления луч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го помн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яды и праздн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же -  национ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ежду пре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353880" y="-6480"/>
            <a:ext cx="8240760" cy="11955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42920" y="1143000"/>
            <a:ext cx="8429760" cy="27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440" indent="-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 В результате опроса выяснилось, что некоторые пенсионеры, опрошенные нами, знают и используют в своем рационе национальные блюда поляков и белорусо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40" indent="-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 Большинство опрошенных до сих пор празднуют польские и белорусские праздники. Причем, празднуют они их по «Григорианскому» календар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40" indent="-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40" indent="-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) Те люди, которые знали об особенностях одежды поляков и белорусов помнят только некоторые детали. Остальные опрошенные утверждают, что различий в одежде между национальностями не бы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40" indent="-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40" indent="-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) Раньше к обрядам относились очень серьезно, а теперь их соблюдают, но частичн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40" indent="-1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imes New Roman"/>
              </a:rPr>
              <a:t>Алой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i="1" lang="ru-RU" sz="3700" spc="-1" strike="noStrike">
                <a:solidFill>
                  <a:srgbClr val="ffffff"/>
                </a:solidFill>
                <a:latin typeface="Times New Roman"/>
              </a:rPr>
              <a:t>овечье сало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imes New Roman"/>
              </a:rPr>
              <a:t>Андарак</a:t>
            </a:r>
            <a:r>
              <a:rPr b="0" lang="ru-RU" sz="37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i="1" lang="ru-RU" sz="3700" spc="-1" strike="noStrike">
                <a:solidFill>
                  <a:srgbClr val="ffffff"/>
                </a:solidFill>
                <a:latin typeface="Times New Roman"/>
              </a:rPr>
              <a:t>юбка в клетку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imes New Roman"/>
              </a:rPr>
              <a:t>Вячеря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i="1" lang="ru-RU" sz="3700" spc="-1" strike="noStrike">
                <a:solidFill>
                  <a:srgbClr val="ffffff"/>
                </a:solidFill>
                <a:latin typeface="Times New Roman"/>
              </a:rPr>
              <a:t>ужин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imes New Roman"/>
              </a:rPr>
              <a:t>Ковбух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i="1" lang="ru-RU" sz="3700" spc="-1" strike="noStrike">
                <a:solidFill>
                  <a:srgbClr val="ffffff"/>
                </a:solidFill>
                <a:latin typeface="Times New Roman"/>
              </a:rPr>
              <a:t>желудок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imes New Roman"/>
              </a:rPr>
              <a:t>Крынка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i="1" lang="ru-RU" sz="3700" spc="-1" strike="noStrike">
                <a:solidFill>
                  <a:srgbClr val="ffffff"/>
                </a:solidFill>
                <a:latin typeface="Times New Roman"/>
              </a:rPr>
              <a:t>банка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imes New Roman"/>
              </a:rPr>
              <a:t>Снеданье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i="1" lang="ru-RU" sz="3700" spc="-1" strike="noStrike">
                <a:solidFill>
                  <a:srgbClr val="ffffff"/>
                </a:solidFill>
                <a:latin typeface="Times New Roman"/>
              </a:rPr>
              <a:t>завтрак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imes New Roman"/>
              </a:rPr>
              <a:t>Яешня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i="1" lang="ru-RU" sz="3700" spc="-1" strike="noStrike">
                <a:solidFill>
                  <a:srgbClr val="ffffff"/>
                </a:solidFill>
                <a:latin typeface="Times New Roman"/>
              </a:rPr>
              <a:t>яичница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2"/>
          <a:stretch/>
        </p:blipFill>
        <p:spPr>
          <a:xfrm>
            <a:off x="171360" y="1042920"/>
            <a:ext cx="8790120" cy="4005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4335840" y="4091040"/>
            <a:ext cx="35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адим Шифн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00040" y="1428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Большакова А.В., Нам И.В., Наумов Н.И., Тренин Б.П. Невольные сибиряки. [Текст]. Томск: «Водолей», 2001. 352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Крившин О. Сибирская старина [Текст]// Краеведческий альманах. 1997.  №12. С. 8-3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Львова Э.Л., Нам И.В., Наумова Н.И., Рыднина О.М. Томская область: национально-культурная жизнь.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[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Томск: Издательский дом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 – Prin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2004. 130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Фролов И.К.  Территория согласия [Текст]// История белорусов.  2005. № 2. С. 2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Яковлев Я. Сибирская старина [Текст]// Краеведческий альманах. 2005. №23. С.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" descr="C:\Documents and Settings\Администратор\Мои документы\Мои рисунки\картинки для офиса\J0195320.WMF"/>
          <p:cNvPicPr/>
          <p:nvPr/>
        </p:nvPicPr>
        <p:blipFill>
          <a:blip r:embed="rId3"/>
          <a:stretch/>
        </p:blipFill>
        <p:spPr>
          <a:xfrm>
            <a:off x="6786720" y="428760"/>
            <a:ext cx="18158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2"/>
          <a:stretch/>
        </p:blipFill>
        <p:spPr>
          <a:xfrm>
            <a:off x="420840" y="1494000"/>
            <a:ext cx="824220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2"/>
          <a:stretch/>
        </p:blipFill>
        <p:spPr>
          <a:xfrm>
            <a:off x="208080" y="-219240"/>
            <a:ext cx="8240760" cy="13352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85840" y="1213920"/>
            <a:ext cx="7500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нашего проекта – узнать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 традициях сибиря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елорусского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льского происхо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 рассказа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 н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телям нашей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ревни, котор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 этом не знают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C:\Documents and Settings\Администратор\Рабочий стол\КАНАДА\река Нельсон\First_Nations_people_on_the_Nelson_River.jpg"/>
          <p:cNvPicPr/>
          <p:nvPr/>
        </p:nvPicPr>
        <p:blipFill>
          <a:blip r:embed="rId3"/>
          <a:stretch/>
        </p:blipFill>
        <p:spPr>
          <a:xfrm>
            <a:off x="3286080" y="3071880"/>
            <a:ext cx="542916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353880" y="109440"/>
            <a:ext cx="8240760" cy="1182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57120" y="13572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Изучить теоретические источники по выбранной нами тем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Провести опрос жителей деревни Ломовицк – 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Обобщить результаты теоретического исследования и опроса жителей и описать  забытые тради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Создать сборник национальных рецептов и словарик диалектных слов, оставшихся в языке современных сибиряков белорусского и польского происхож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C:\Documents and Settings\Администратор\Мои документы\Мои рисунки\картинки для офиса\BD19827_.WMF"/>
          <p:cNvPicPr/>
          <p:nvPr/>
        </p:nvPicPr>
        <p:blipFill>
          <a:blip r:embed="rId3"/>
          <a:stretch/>
        </p:blipFill>
        <p:spPr>
          <a:xfrm>
            <a:off x="6858000" y="1214280"/>
            <a:ext cx="1136520" cy="1005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Администратор\Мои документы\Мои рисунки\картинки для офиса\SY01253_.WMF"/>
          <p:cNvPicPr/>
          <p:nvPr/>
        </p:nvPicPr>
        <p:blipFill>
          <a:blip r:embed="rId4"/>
          <a:stretch/>
        </p:blipFill>
        <p:spPr>
          <a:xfrm>
            <a:off x="5000760" y="5500800"/>
            <a:ext cx="1736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Администратор\Рабочий стол\Новая папка (2)\P2200464.JPG"/>
          <p:cNvPicPr/>
          <p:nvPr/>
        </p:nvPicPr>
        <p:blipFill>
          <a:blip r:embed="rId2"/>
          <a:stretch/>
        </p:blipFill>
        <p:spPr>
          <a:xfrm>
            <a:off x="285840" y="142920"/>
            <a:ext cx="8358120" cy="62690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324000" y="6461280"/>
            <a:ext cx="86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а с теоретическими источниками в Ломовицкой библиоте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Об истории заселения Сибири белорусами и поляками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ход первой волны белорусской миграции связан с событиями раздела Речи Посполитой, в результате чего почти вся территория современной Белоруссии вошла в состав Российской Империи. Возможность изменить или повысить свой социальный статус, обогатиться привлекала людей в Сибирь. Сюда стремились люди авантюрного склада, смельча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чало второй волны соотнесено с разгромом восстания в Польше в 1830-1831 г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етья, самая многочисленная, волна миграции приходится на 40-50 гг. XIX века, на время так называемых «киселевских» переселен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Об истории заселения Сибири белорусами и поляками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твертая волна была также связана с восстанием в 1863-1864гг. Затем, белорусские миграции в сибирский регион прекратились почти на 30 лет, возобновившись только в конце XIX столетия, и интенсивно продолжались в течение десятилетия вплоть до 1912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98 году  в Сибирь в целом прибыло 30106 человек из Витебской, Виленской, Могилевской и Гродненской губерний. В 1907 году также около 30% всех сибирских переселенцев дали Могилевская, Витебская и Минская губер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середине 20-х годов в сибирском регионе, в местах компактного проживания белорусов, действовало более 700 национальных сельских советов, действовала сеть национальных белорусских школ с обучением на родном языке, на белорусском языке издавались газеты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C:\Documents and Settings\Администратор\Рабочий стол\Новая папка (2)\P2200470.JPG"/>
          <p:cNvPicPr/>
          <p:nvPr/>
        </p:nvPicPr>
        <p:blipFill>
          <a:blip r:embed="rId2"/>
          <a:stretch/>
        </p:blipFill>
        <p:spPr>
          <a:xfrm>
            <a:off x="428760" y="142920"/>
            <a:ext cx="8286480" cy="62150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39640" y="63579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а с теоретическими источниками в Ломовицкой библиоте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Чехов о поляках в Сибири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падаются ссыльные, присланные сюда из Польши в 1864 году. Хорошие,  гостеприимные и деликатнейшие люди. Одни живут очень богато, другие очень бедно и служат писарями на станциях. Первые после амнистии уезжали к себе на родину, но скоро вернулись назад в Сибирь – здесь богаче, вторые мечтают о родине, хотя уже стары и больны. В Ишиме один богатый пан Залесский, у которого дочь похожа на Сашу Киселеву, угостил меня за один рубль отличным обедом и дал мне комнату выспаться, он держит кабак, окулачился до мозга костей; дерет со всех, но все-таки пан чувствуется и в манерах, и в столе, во всем. Он не едет на родину из жадности, из жадности терпит снег в Николин день; когда он умрет, дочка его, родившаяся в Ишиме, останется здесь навсегда – и пойдут таким образом множиться по Сибири черные глаза и нежные черт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7:30:31Z</dcterms:created>
  <dc:creator>Admin</dc:creator>
  <dc:description/>
  <dc:language>en-US</dc:language>
  <cp:lastModifiedBy>Дом</cp:lastModifiedBy>
  <dcterms:modified xsi:type="dcterms:W3CDTF">2011-03-27T07:20:58Z</dcterms:modified>
  <cp:revision>24</cp:revision>
  <dc:subject/>
  <dc:title>«Традиции и обычаи сибиряков белорусского происхождения.» </dc:title>
</cp:coreProperties>
</file>