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5B9-56DC-415F-AD51-20E8A1F2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37A-F099-4822-B8B9-E44DA5FC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3A8-95C4-450A-A9C4-32139238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5E3-789A-4B9B-8777-01785843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AB9-D932-4560-AD15-1045C5C3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E14-2E14-457D-AAF5-CABDC52B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9DF-3AD7-42A3-B9A9-469DF56F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B82-1AB7-4761-B288-F789FFC5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550-8A67-4AC4-849E-CA7D2EE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483-51EE-42C0-B6A7-2D314193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B8B-C763-438F-B9D7-19C20E5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972-0C8D-4D08-BDD6-32260E0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C59-6C14-48EF-8903-8FAB9AFC1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19280" y="920880"/>
            <a:ext cx="75657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353880"/>
            <a:ext cx="9369360" cy="527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Франция. Варшава. Берлин. Париж\аа (8).JPG"/>
          <p:cNvPicPr/>
          <p:nvPr/>
        </p:nvPicPr>
        <p:blipFill>
          <a:blip r:embed="rId1"/>
          <a:stretch/>
        </p:blipFill>
        <p:spPr>
          <a:xfrm>
            <a:off x="324000" y="611280"/>
            <a:ext cx="8497800" cy="562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Франция. Варшава. Берлин. Париж\Копия сс.JPG"/>
          <p:cNvPicPr/>
          <p:nvPr/>
        </p:nvPicPr>
        <p:blipFill>
          <a:blip r:embed="rId1"/>
          <a:stretch/>
        </p:blipFill>
        <p:spPr>
          <a:xfrm>
            <a:off x="539640" y="333360"/>
            <a:ext cx="8161560" cy="612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Виктор\Desktop\DSC00846.JPG"/>
          <p:cNvPicPr/>
          <p:nvPr/>
        </p:nvPicPr>
        <p:blipFill>
          <a:blip r:embed="rId1"/>
          <a:stretch/>
        </p:blipFill>
        <p:spPr>
          <a:xfrm>
            <a:off x="0" y="234468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103536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Получен диплом лауреат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. Получили одобрение со стороны комтентного международного жю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5:38:34Z</dcterms:created>
  <dc:creator>123</dc:creator>
  <dc:description/>
  <dc:language>en-US</dc:language>
  <cp:lastModifiedBy>123</cp:lastModifiedBy>
  <dcterms:modified xsi:type="dcterms:W3CDTF">2011-03-28T15:41:30Z</dcterms:modified>
  <cp:revision>2</cp:revision>
  <dc:subject/>
  <dc:title>Слайд 1</dc:title>
</cp:coreProperties>
</file>