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5B4-0635-4CB3-9D26-4557D7A4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E14-1627-43C8-B4BA-C1796BE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227-CB66-4265-97A7-43AC557D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932-8CA6-47F8-AB85-73E5F75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9FE-B670-4601-A034-20A6B4A0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606-FB77-4BD4-92D1-726059D2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BB9-45BE-49A3-8A87-9972936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B3B-7089-43C0-9C26-88961D5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D15-DE2D-4095-8185-382B3B1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E37-2C18-4A81-A166-4D70E36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DDC-46AE-4B51-938B-D2455FE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576-95B2-4C1D-948C-841D76E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B7F7-D16D-4F74-8007-6CA35DB5C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Формирование коммуникативной компетенции учащихся начальной школы на  уроках литературного чтения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. Серафимович Волгоград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лмыкова Л.Ю. – учитель начальных класс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13560" y="4005360"/>
            <a:ext cx="2530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школьной коммуникации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628640"/>
          <a:ext cx="8640720" cy="4451400"/>
        </p:xfrm>
        <a:graphic>
          <a:graphicData uri="http://schemas.openxmlformats.org/drawingml/2006/table">
            <a:tbl>
              <a:tblPr/>
              <a:tblGrid>
                <a:gridCol w="1189080"/>
                <a:gridCol w="745164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вести беседу в паре, в групп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поддерживать бесед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вести конструктивный диало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построить дискусси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участвовать в конференциях, играх и турнира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«Много на земле живых существ. Из них только человек обладает даром речи. Даром слова.» Л.Успенск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ля создания эмоционально-благоприятной ситуации на уроке необходимо использ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гровые приё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Задания, направленные на развитие литературных способностей и творческого вооб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5081760"/>
            <a:ext cx="22669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773600" cy="86508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ды задани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 от первого л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 от лица лисы, как она угощала журав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вование от имени предм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лимент. (Сказать комплимент литературному геро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а в заданном ключе (введение в сказку нового персонаж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сказочной развязки (придумать другое окончание произвед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62640" y="4292640"/>
            <a:ext cx="1881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d47"/>
                </a:solidFill>
                <a:latin typeface="Arial"/>
              </a:rPr>
              <a:t>Правила ведения диалога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бое мнение цен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имеешь право на любую реакцию, кроме невним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рнись так, чтобы видеть лицо говорящег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чешь говорить- подними ру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щение начинается с и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тика должна быть тактич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ос -  твой божественный дар, умей им владе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417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Способствуют развитию коммуникативных умений творческие игры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788160"/>
            <a:ext cx="9144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557360"/>
            <a:ext cx="4968720" cy="79200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Игры учеб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852640"/>
            <a:ext cx="4895640" cy="86364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Дет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4221000"/>
            <a:ext cx="5111640" cy="86364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Ролев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5516640"/>
            <a:ext cx="6408720" cy="108108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Игры, имитирующ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телевизионн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35640" y="1628640"/>
            <a:ext cx="280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Эффективными для развития коммуникативных способностей считаются следующие вопросы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54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енингов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усваивают алгоритм выполнения учебных дейст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структивные 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ют поиска ответа с опорой на имеющийся уже опыт, а также самостоятельной формулировки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ьтернативные 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ются при тестированном опросе, когда нужно выбрать правильный ответ и доказать 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водящи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-подсказка. С его помощью ученик быстрее ориентируется и формулирует от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еловек должен быстро ориентироваться в пространстве, быстро создать команду или войти в неё, то есть быть компетентным, прежде всего в плане общ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4751640" cy="306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3780000"/>
            <a:ext cx="4680000" cy="307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340000" y="3780000"/>
            <a:ext cx="4606920" cy="307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340000" y="3789360"/>
            <a:ext cx="4680000" cy="304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68360" y="3789360"/>
            <a:ext cx="4751640" cy="306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268360" y="3716280"/>
            <a:ext cx="4751640" cy="314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2195640" y="3716280"/>
            <a:ext cx="4824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Источники информации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тья учителя начальных классов О.А. Пестовой «Формирование коммуникативной компетенции учащихся начальной школы на уроках  литературного чт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имационные картинки с архива Интер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тографии из личного арх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етентность и грамотность в общении сегодня являются одним из факторов успеха в  любой сфере жизне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тсутствие элементарных навыков общения приводит к множеству конфликтов не только в семье, но и в коллективе при совместной деятельност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Чтобы быть успешным, нужно быть более коммуникативно-активным, социально-компетентным, более адаптированным к социальной действительности, способным эфективно взаимодействовать и управлять процессами общения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Задача учителя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Воспитание разносторонне развитой, образованной и коммуникационно-компетентной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2843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ccff"/>
                </a:solidFill>
                <a:latin typeface="Arial"/>
              </a:rPr>
              <a:t>Основными источниками приобретения коммуникативной компетентности являютс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ыт народной куль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ние языков общения, используемых народной культ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ыт межличностного 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ыт восприятия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оммуникативная компетентность имеет несколько составляющих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7881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989000"/>
            <a:ext cx="3960720" cy="2160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Коммуникатив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способ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1989000"/>
            <a:ext cx="3816360" cy="22338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Коммуникати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4076640"/>
            <a:ext cx="4392720" cy="25210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Коммуника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ум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10920" y="1341360"/>
            <a:ext cx="360360" cy="57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1413000"/>
            <a:ext cx="21564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413000"/>
            <a:ext cx="0" cy="25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формы учебной коммуникации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981000"/>
          <a:ext cx="8229600" cy="56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нологические формы речев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иалогические формы речев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0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упать с готовой заранее реч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ая беседа учителя и уче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ы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ая беседа в пар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ашивать и задавать вопро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ая беседа в груп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сказы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бщ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ы на вопро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чать на вопро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евая иг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ик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ц-турни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азывать и опроверг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Речевая компетентность формируетс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обучение содержанию предм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развитие прикладных исследовательских ум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развитие социально-коммуникативных ум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личностно-ориентированный аспект учебной коммун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онцепция развития школьной коммуникации имеет следующие этапы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413000"/>
          <a:ext cx="9144000" cy="5545080"/>
        </p:xfrm>
        <a:graphic>
          <a:graphicData uri="http://schemas.openxmlformats.org/drawingml/2006/table">
            <a:tbl>
              <a:tblPr/>
              <a:tblGrid>
                <a:gridCol w="1332000"/>
                <a:gridCol w="7812000"/>
              </a:tblGrid>
              <a:tr h="8254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тапы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мения, отрабатываемые под руководством учител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Готовность учащихся участвовать в урочном общен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твечать на вопросы, давая при этом исчерпывающий отве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Задавать вопросы, следя за содержанием работы над проблемой или тем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мментировать вопросы или ответ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елать сообщ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ссказывать логично и последовательн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тие школьной коммуникации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197000"/>
          <a:ext cx="8964720" cy="5837040"/>
        </p:xfrm>
        <a:graphic>
          <a:graphicData uri="http://schemas.openxmlformats.org/drawingml/2006/table">
            <a:tbl>
              <a:tblPr/>
              <a:tblGrid>
                <a:gridCol w="863640"/>
                <a:gridCol w="8101080"/>
              </a:tblGrid>
              <a:tr h="4597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ота и чёткость речевого высказыв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ботка умения сделать своё высказывание понятным каждому человек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высказать свою мысль образно, ярко и кратк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использовать приёмы, подтверждающие высказыван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использовать риторические вопрос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вступать в контакт с партнёром и собеседник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регулировать громкость и скорость речевого высказыв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5:31:48Z</dcterms:created>
  <dc:creator>Larisa</dc:creator>
  <dc:description/>
  <dc:language>en-US</dc:language>
  <cp:lastModifiedBy>Larisa</cp:lastModifiedBy>
  <dcterms:modified xsi:type="dcterms:W3CDTF">2011-03-29T09:13:56Z</dcterms:modified>
  <cp:revision>32</cp:revision>
  <dc:subject/>
  <dc:title>Формирование коммуникативной компетенции учащихся начальной школы на  уроках литературного чтения.</dc:title>
</cp:coreProperties>
</file>