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32A6-C2E8-44CA-9FDA-5F46D032EB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CD8-2089-4004-9E21-0BD13D03E82C}" type="slidenum">
              <a:rPr b="0" lang="ru-RU" sz="1200" spc="-1" strike="noStrike">
                <a:solidFill>
                  <a:srgbClr val="cc99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17E-FCD2-47AA-8AF2-DF1D60910FB5}" type="slidenum">
              <a:rPr b="0" lang="ru-RU" sz="1200" spc="-1" strike="noStrike">
                <a:solidFill>
                  <a:srgbClr val="cc99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A3FD-AFDA-463F-8BE9-F914876866BD}" type="slidenum">
              <a:rPr b="0" lang="ru-RU" sz="1200" spc="-1" strike="noStrike">
                <a:solidFill>
                  <a:srgbClr val="cc99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806-B9F3-4B47-A5B5-5AD957C3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F0F-C463-4D67-82C0-1AD96BCE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DF0-A8F7-4634-8673-62D414DE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942-79F4-4ECE-9B3A-E7D6EB3B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68E-815A-421D-BD57-398A91D0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82B2-2520-4952-8817-EDC1BC31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452-A321-42E8-ADEB-DB164D77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DEFF-A38C-452F-B0BD-D272CBB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8107-65E8-4D54-8BB5-08F74CD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C99-53FB-4A9C-A35E-2D113BF9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849C-6382-4231-9E0B-B35146C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15D-FA71-4F3F-85BA-AD00CF74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8B5-972A-4997-9FA5-6E5B2AE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D223-F02B-4183-B468-DCD0AEB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81A8-318D-437D-9E01-F24D9AF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ABF0-032A-4024-92DD-1E45B8E9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5E60-D514-4209-B3CC-B78AD4ED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835-5B24-438F-9BDD-8AC04794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A15-C414-4675-A20A-24D5AAE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918-A4E3-4044-95AF-31921A4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5A5-E0BE-41CE-BB13-A2DBEE2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9CD-ED26-4685-B57B-B7CB732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065-98D0-42B2-84D9-3A45F77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9BE-DE37-45C5-A1C4-1CDAB1D3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5C6C-172B-42A3-AC56-D669FAFA3CAC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7911-4A7C-4514-9951-8108CA2810B9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485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2139e"/>
                </a:solidFill>
                <a:latin typeface="Arial Black"/>
              </a:rPr>
              <a:t>Как помочь ребёнку стать успешным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Arial Black"/>
              </a:rPr>
              <a:t>Беседа с родителям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5229000"/>
            <a:ext cx="352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 Black"/>
              </a:rPr>
              <a:t>Толковый словарь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 Black"/>
              </a:rPr>
              <a:t>С.И.Ожегова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132360" cy="410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1413000"/>
            <a:ext cx="4859280" cy="3816360"/>
          </a:xfrm>
          <a:prstGeom prst="wedgeRoundRectCallout">
            <a:avLst>
              <a:gd name="adj1" fmla="val -76625"/>
              <a:gd name="adj2" fmla="val -11398"/>
              <a:gd name="adj3" fmla="val 16667"/>
            </a:avLst>
          </a:prstGeom>
          <a:solidFill>
            <a:srgbClr val="cc99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Успешный, -ая, -ое.   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Заключающий в себе успех, удачный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Успех, -а, м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1.Хорошие результаты в работе, учёбе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2. Общественное признание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 Black"/>
              </a:rPr>
              <a:t>Проблема: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Arial Black"/>
              </a:rPr>
              <a:t>      </a:t>
            </a: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успех ребёнка в школе</a:t>
            </a:r>
            <a:r>
              <a:rPr b="1" lang="ru-RU" sz="48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567240"/>
            <a:ext cx="8578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 Black"/>
              </a:rPr>
              <a:t>Цель: </a:t>
            </a:r>
            <a:br>
              <a:rPr sz="4800"/>
            </a:b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      </a:t>
            </a: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определение роли </a:t>
            </a:r>
            <a:br>
              <a:rPr sz="3600"/>
            </a:b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       родителей в успехах детей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«Привычки, вырабатываемые с детства, определяют всю нашу жизнь»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51640" y="4221000"/>
            <a:ext cx="307656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Аристотел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спешный ребёнок имеет положительную самооценку и, наряду с хорошей успеваемостью, умеет преодолевать жизненные трудности, находить друзей и сохранять здоровье, избавляться от негативных мыслей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596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Чтобы помочь ребёнку стать успешным: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9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омните, что будущее наших детей начинается сегодня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рименяйте позитивные утверждения, визуализацию, признание успехов, устранение негатива, в первую очередь, в своей жизн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3.     Выбирайте соответствующие слова, чтобы воздействовать на мысли и поведение ребёнка. Говорите ему, что нужно делать, вместо того, какое поведение нужно прекратить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Чтобы помочь ребёнку стать успешным: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 startAt="4"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Научите ребёнка составлять короткие и простые позитивные утверждения и использовать их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 startAt="5"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Используйте активное воображение ребёнка для визуализации желаемого результата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 startAt="6"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ризнавайте успехи ребёнка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7.  Помогите ребёнку негативные мысли заменять позитивным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00"/>
                </a:solidFill>
                <a:latin typeface="Arial"/>
              </a:rPr>
              <a:t>Ольга Чурикова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00"/>
                </a:solidFill>
                <a:latin typeface="Arial"/>
              </a:rPr>
              <a:t>магистр социальной педагогики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00"/>
                </a:solidFill>
                <a:latin typeface="Arial"/>
              </a:rPr>
              <a:t>практический психолог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2139e"/>
                </a:solidFill>
                <a:latin typeface="Arial Black"/>
              </a:rPr>
              <a:t>Попытайтесь прожить вместе с ребёнком всю его школьную жизнь 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6:29:23Z</dcterms:created>
  <dc:creator>Admin</dc:creator>
  <dc:description/>
  <cp:keywords/>
  <dc:language>en-US</dc:language>
  <cp:lastModifiedBy>Татьяна Ивановна</cp:lastModifiedBy>
  <dcterms:modified xsi:type="dcterms:W3CDTF">2011-02-27T12:47:36Z</dcterms:modified>
  <cp:revision>3</cp:revision>
  <dc:subject/>
  <dc:title>Как помочь ребёнку стать успешны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