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A1B6E-13B6-46F3-AC5D-53D13FE9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C84DE-9364-4D85-A11C-504CEF88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FEBB4-0BEA-4A5D-8045-19908F41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1ED0B-EABB-4423-A547-27A51C55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2BF6-11E4-43AD-99D2-BBD6F1C8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3AA9-206C-42D0-855F-2207B4C8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2976-A7C9-4853-B2B1-8E6FD818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7DB7-4730-4272-B48F-61C5A536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F5F3-7B27-4831-9387-2A6FAF4E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85DA-4004-493D-B640-D116A60D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E759-72DF-479E-AFCE-8E93672C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CE050-5015-4FA9-B5E7-B9FEA699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83F5-B6E6-4E97-A038-2242977D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35B0-E0A1-4616-9BFA-FCB8C441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D8C6-2805-4E3D-8DC7-0546DC0B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4216-DE2B-4631-9B05-92F1B0C1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94E8-157C-45BF-ADCA-D4396CFE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5EDC8-7D2B-4EA8-92FC-3DE298E1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FE81C-19C8-4B18-9674-7F87E65A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F3B08-68EC-4E2A-B8AA-7D435A59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45CE5-9471-4B63-A3CB-17697A0C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7372C-4F8C-4564-B36B-C2742400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685EC-D787-48EF-8D25-B6BE79DE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26005-C29B-4D93-B988-EA0E03B2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3D2A-2914-47AB-8F8C-6F53B1D579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0CA9-7E7B-4A2D-BDE1-B3B4A0CC29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чим стихи наизусть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материалы для родительского собра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419720" y="4648320"/>
            <a:ext cx="4572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ла: учитель начальных классов, МОУ СОШ № 132, города Омс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юзина Наталья Олег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ой тип памяти у Вашего ребенка является ведущим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ст для выявления типа памяти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ано четыре ряда слов, записанных на отдельных карточках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Для запоминания на слух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ирижабль, лампа, яблоко, карандаш, гроза, утка, обруч, мельница, попугай, лист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поминания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и зрительном восприятии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молет, чайник, бабочка, ноги, хомут, бревно, свеча, тачка, журнал, маш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Для запоминания при моторно-слуховом восприятии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ароход, собака, парта, сапоги, сковорода, калач, роща, гриб, шутка, ворот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Дл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п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инания при комбинированном восприятии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лк, бочка, коньки, самовар, пила, весло, загадка, кафтан, прогулка, кни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читать вслух 1-й ряд слов (интервал между словами 5 секунд). После 10-секундного перерыва ребенок записывает запомнившиеся сло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казать слова 2-го ряда, которые ребенок должен записать по памя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читать вслух слова 3-го ряда, а ребенок шепотом повторяет каждое из них и «записывает» в воздухе, после чего записывает на листе бумаги запомнившиеся слова 3-го ря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казать слова 4-го ряда и прочитать их вслух. Ребенок повторяет каждое слово шепотом, «записывая» в воздухе, затем записывает на листке запомнившиеся слова 4-го ряда.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 результатам определяется тип памят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Слухов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3рите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.Моторно- слухов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Комбинирова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бле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трудно ребенку иногда бывает выучить стихотворе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развить у ребенка памя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етоды заучивания стих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гательный мет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981080"/>
          <a:ext cx="8229600" cy="3657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ть мет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ора в запоминании на двигательный акт (движени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ть в блюдо шарики на каждую строчку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ирать и разбирать пирамидку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низывать бусин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зуальный мет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981080"/>
          <a:ext cx="8229600" cy="3851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ть мет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ора в запоминании на зрительный образ, созданный ребенк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образить каждую строку в виде образа (символа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казывать стихотворение с опорой на созданные образ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луховой мет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981080"/>
          <a:ext cx="8229600" cy="3657600"/>
        </p:xfrm>
        <a:graphic>
          <a:graphicData uri="http://schemas.openxmlformats.org/drawingml/2006/table">
            <a:tbl>
              <a:tblPr/>
              <a:tblGrid>
                <a:gridCol w="2895480"/>
                <a:gridCol w="53341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ть мет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хоречевая опора в запоминании на рифму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учивать по 2- 4 строки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тать целиком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тать начало, ребенок договаривает конец строки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кламирование стихотворе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огический мет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981080"/>
          <a:ext cx="8229600" cy="4364280"/>
        </p:xfrm>
        <a:graphic>
          <a:graphicData uri="http://schemas.openxmlformats.org/drawingml/2006/table">
            <a:tbl>
              <a:tblPr/>
              <a:tblGrid>
                <a:gridCol w="2895480"/>
                <a:gridCol w="533412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ть мет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ора на смысловые связ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уждать опираться на смысловые связи: прочитать первые строки, рассказать дальше как запомнил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тать целиком еще несколько раз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казать как можно точнее словами автор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чему трудно запоминать? Что делать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чины неудач и способы поддерж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295280"/>
          <a:ext cx="8229600" cy="4821480"/>
        </p:xfrm>
        <a:graphic>
          <a:graphicData uri="http://schemas.openxmlformats.org/drawingml/2006/table">
            <a:tbl>
              <a:tblPr/>
              <a:tblGrid>
                <a:gridCol w="2971800"/>
                <a:gridCol w="5257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ы поддерж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бенок не понимает значения слов, содержа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яснить значение слов (фраз), привести где и как используется слово (фраза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ый стре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тавить обязательное условие: запомнить стихотворение; учить небольшими отрывка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хотворение не соответствует возрасту и темпераменту ребе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ь с опорой на ведущий вид памяти; запоминать в движении; использовать драматизацию и представлен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11-13T13:24:5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