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EDC5-B627-4572-B2AE-7FCABE6B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68DA-EE1F-4048-93D4-2565A23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C25C-633A-4EA4-A782-DDC86593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D45E-69F1-4A92-86C7-3438CCAE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F37C-C666-4EA0-8C4E-81C5DCAE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C68C-7D17-423C-AC87-4E8C70FF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704D-9718-461A-AA83-0B255223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8070-3B04-4E09-9B56-FA3BD49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5EF4-06F3-4916-80B6-89741EA2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BA74-A5A4-423F-93BF-03498300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49B3-5815-4323-9965-6C74396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6E2A-06CB-488D-AFF8-2D920F32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B4F-41E2-4FA3-99B1-9FC011DB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6A39-FF56-4959-BADF-7F09C8FF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30D3-9DB3-432F-BAEE-EE014353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5674-DCF9-42B9-B997-F7BF9DA3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B4C3-A081-485F-ADFE-B5B7848B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9487-F2FD-4EDE-8536-155B79BB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43B5-F15B-468D-B30F-E82F2694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77A6-7878-4921-B478-32E54F84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FA82-0527-4492-9572-4DEBB83C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1E63-8503-403C-BE02-F1CA728A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7935-1668-47F8-B6B7-1BB289B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8C6E-6986-4C0E-B7BB-76BD2C2B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4A0-1470-475F-8A37-7D845C323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2609-FF1B-44FD-A6ED-49551C0C5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чим стихи наизусть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материалы для родительского собр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419720" y="464832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, МОУ СОШ № 132, города Ом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юзина Наталья Оле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ой тип памяти у Вашего ребенка является ведущи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 для выявления типа памят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о четыре ряда слов, записанных на отдельных карточках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Для запоминания на слух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рижабль, лампа, яблоко, карандаш, гроза, утка, обруч, мельница, попугай, лист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помина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 зрительном восприяти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лет, чайник, бабочка, ноги, хомут, бревно, свеча, тачка, журнал, маш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Для запоминания при моторно-слуховом восприяти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роход, собака, парта, сапоги, сковорода, калач, роща, гриб, шутка, ворот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Дл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п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инания при комбинированном восприяти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к, бочка, коньки, самовар, пила, весло, загадка, кафтан, прогулка, кни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читать вслух 1-й ряд слов (интервал между словами 5 секунд). После 10-секундного перерыва ребенок записывает запомнившиеся сл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казать слова 2-го ряда, которые ребенок должен записать по памя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читать вслух слова 3-го ряда, а ребенок шепотом повторяет каждое из них и «записывает» в воздухе, после чего записывает на листе бумаги запомнившиеся слова 3-го ря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казать слова 4-го ряда и прочитать их вслух. Ребенок повторяет каждое слово шепотом, «записывая» в воздухе, затем записывает на листке запомнившиеся слова 4-го ряда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 результатам определяется тип памят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Слух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ри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.Моторно- слух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Комбиниров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рудно ребенку иногда бывает выучить стихотво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развить у ребенка пам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тоды заучивания стих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гательны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98108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мет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ра в запоминании на двигательный акт (движе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ь в блюдо шарики на каждую строчку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ирать и разбирать пирамидку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изывать бусин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уальны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81080"/>
          <a:ext cx="8229600" cy="385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мет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ра в запоминании на зрительный образ, созданный ребен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бразить каждую строку в виде образа (символа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ывать стихотворение с опорой на созданные образ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хово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229600" cy="365760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мет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хоречевая опора в запоминании на рифм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учивать по 2- 4 строк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ть целиком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ть начало, ребенок договаривает конец строк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ламирование стихотвор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г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81080"/>
          <a:ext cx="8229600" cy="43642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мет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ра на смысловые связ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уждать опираться на смысловые связи: прочитать первые строки, рассказать дальше как запомнил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тать целиком еще несколько раз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7d"/>
                        </a:buClr>
                        <a:buSzPct val="7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ать как можно точнее словами авто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чему трудно запоминать? Что дела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ы неудач и способы поддер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95280"/>
          <a:ext cx="8229600" cy="482148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поддерж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ок не понимает значения слов, содерж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значение слов (фраз), привести где и как используется слово (фраза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й стре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тавить обязательное условие: запомнить стихотворение; учить небольшими отрывк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хотворение не соответствует возрасту и темпераменту реб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с опорой на ведущий вид памяти; запоминать в движении; использовать драматизацию и представл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1-13T13:24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