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png" ContentType="image/png"/>
  <Override PartName="/ppt/media/image23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gif" ContentType="image/gif"/>
  <Override PartName="/ppt/media/image1.jpeg" ContentType="image/jpeg"/>
  <Override PartName="/ppt/media/image35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10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4.jpeg" ContentType="image/jpeg"/>
  <Override PartName="/ppt/media/image7.gif" ContentType="image/gif"/>
  <Override PartName="/ppt/media/image5.jpeg" ContentType="image/jpeg"/>
  <Override PartName="/ppt/media/image38.jpeg" ContentType="image/jpeg"/>
  <Override PartName="/ppt/media/image40.jpeg" ContentType="image/jpeg"/>
  <Override PartName="/ppt/media/image39.jpeg" ContentType="image/jpeg"/>
  <Override PartName="/ppt/media/image43.gif" ContentType="image/gif"/>
  <Override PartName="/ppt/media/image26.jpeg" ContentType="image/jpeg"/>
  <Override PartName="/ppt/media/image42.png" ContentType="image/png"/>
  <Override PartName="/ppt/media/image6.jpeg" ContentType="image/jpeg"/>
  <Override PartName="/ppt/media/image27.jpeg" ContentType="image/jpeg"/>
  <Override PartName="/ppt/media/image11.gif" ContentType="image/gif"/>
  <Override PartName="/ppt/media/image13.gif" ContentType="image/gif"/>
  <Override PartName="/ppt/media/image16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2.jpeg" ContentType="image/jpe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053-CA06-44A9-A2EB-E8FDFFF8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EE6-B332-45C6-A1A5-84DD44FF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CE8-0BF7-458E-88DC-93DBB34E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460-CED1-40FE-809C-45624EFB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ADF32-9CDD-49B8-B5C2-6C91C773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78D6A-B84D-44D4-86D4-F686320C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4C04A-96B8-4DC2-A68C-89B76041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4DD5F-FA11-47F8-B5D3-45BB6125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3FE3C-266A-42E1-8FB7-09FB093C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9DBC6-8DF3-4C99-B39E-B4122A0E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227D9-55CF-45F2-B4C1-C8D73033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AF5-2DE5-4243-9DB2-4DA8E006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4B49B-51CE-4FFA-8680-8B70FA54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4D387-40FB-41B9-A004-107FC517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C0024-7348-4540-8649-4C9EEC19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EA9AF-D65B-458C-85D5-B82C9EAE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9D861-E49C-4CAC-BF16-6648A2EE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522-8372-4D3F-AD41-EE0B345F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F4D-A6D6-4AA9-9696-AE6141DF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02A-460C-4F06-91E4-577BB55A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46B-8069-4A62-A57F-0367F9F2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40E-A7C7-4742-B546-F253E4FF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368-2240-4595-B5C1-3038968B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DC4-50D4-4DF6-9CC2-F5A9CD5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979A-44B3-4C30-9C02-F0E6D8A2D0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A1D9-712B-48A6-96C2-752A5D3CE4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09080" y="-55839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977920" cy="3573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249876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348000" y="1844640"/>
            <a:ext cx="2968560" cy="417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878520" y="3500280"/>
            <a:ext cx="2265480" cy="2997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0" y="3573360"/>
            <a:ext cx="2438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0000ff"/>
                </a:solidFill>
                <a:latin typeface="Tahoma"/>
              </a:rPr>
              <a:t>Праздничные ико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456000" cy="4249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844640"/>
            <a:ext cx="3407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ahoma"/>
              </a:rPr>
              <a:t>Семейные ико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358800">
            <a:off x="250560" y="2781360"/>
            <a:ext cx="2948040" cy="374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009960" y="1484280"/>
            <a:ext cx="3162240" cy="3673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 rot="21202200">
            <a:off x="6012000" y="2923920"/>
            <a:ext cx="28000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ahoma"/>
              </a:rPr>
              <a:t>Складные ико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0" t="4416" r="0" b="12201"/>
          <a:stretch/>
        </p:blipFill>
        <p:spPr>
          <a:xfrm>
            <a:off x="324000" y="1557360"/>
            <a:ext cx="5111640" cy="3187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5127" t="11870" r="2058" b="22032"/>
          <a:stretch/>
        </p:blipFill>
        <p:spPr>
          <a:xfrm>
            <a:off x="5435640" y="3141720"/>
            <a:ext cx="35272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11280" y="476280"/>
            <a:ext cx="4751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Чудотворная икона 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Знамения Божией Матер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3733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59120" y="345960"/>
            <a:ext cx="488952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Икона казанской Божией Матер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4127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Иконостас храма Христа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               Спасител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50920" y="1746360"/>
            <a:ext cx="4653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i="1" lang="en-US" sz="4400" spc="-1" strike="noStrike">
                <a:solidFill>
                  <a:srgbClr val="ff3300"/>
                </a:solidFill>
                <a:latin typeface="Tahoma"/>
              </a:rPr>
              <a:t>Красный уго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817640"/>
            <a:ext cx="3780000" cy="5040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2000" y="404640"/>
            <a:ext cx="2966760" cy="4465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203640" y="1484280"/>
            <a:ext cx="2927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532720" y="-514764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752560" cy="417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916360" y="189000"/>
            <a:ext cx="3098520" cy="4176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940360" y="1197000"/>
            <a:ext cx="2955960" cy="4105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300720" y="55897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Великомученик Георгий Победонос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4508640"/>
            <a:ext cx="17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Пресвятая Тро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5516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Владимирская икона Божией Мате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4257360" cy="4443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843280" y="404640"/>
            <a:ext cx="1620720" cy="930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356000" y="1341360"/>
            <a:ext cx="1406520" cy="97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508720" y="2421000"/>
            <a:ext cx="1190520" cy="104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227640" y="3645000"/>
            <a:ext cx="1684440" cy="979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7308720" y="4797360"/>
            <a:ext cx="1592280" cy="115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7093080" y="0"/>
            <a:ext cx="22572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081920" y="4005360"/>
            <a:ext cx="2062080" cy="2852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517840" cy="3357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71640" y="5013360"/>
            <a:ext cx="3981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6fa"/>
                </a:solidFill>
                <a:latin typeface="Tahoma"/>
              </a:rPr>
              <a:t>Мира всем вам и добра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259800">
            <a:off x="323640" y="549360"/>
            <a:ext cx="3863880" cy="5041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289800">
            <a:off x="4858920" y="1557000"/>
            <a:ext cx="38131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Аналойная икона Божией матер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411280" y="1557360"/>
            <a:ext cx="4276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Запрестольные или выносные        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                   ико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56880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ahoma"/>
              </a:rPr>
              <a:t>Местные ико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3240360" cy="439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76720" y="1989000"/>
            <a:ext cx="3283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Мироточивая икона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Tahoma"/>
              </a:rPr>
              <a:t> Иверская Божия Матер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56880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0000ff"/>
                </a:solidFill>
                <a:latin typeface="Tahoma"/>
              </a:rPr>
              <a:t>Надвратные ико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3257640" cy="43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64000" y="1844640"/>
            <a:ext cx="33418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4400" spc="-1" strike="noStrike">
                <a:solidFill>
                  <a:srgbClr val="0000ff"/>
                </a:solidFill>
                <a:latin typeface="Tahoma"/>
              </a:rPr>
              <a:t>Нательные ико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357" t="4189" r="8451" b="9244"/>
          <a:stretch/>
        </p:blipFill>
        <p:spPr>
          <a:xfrm>
            <a:off x="539640" y="1628640"/>
            <a:ext cx="2880000" cy="446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47530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4:06:08Z</dcterms:created>
  <dc:creator>uzer</dc:creator>
  <dc:description/>
  <dc:language>en-US</dc:language>
  <cp:lastModifiedBy>1</cp:lastModifiedBy>
  <dcterms:modified xsi:type="dcterms:W3CDTF">2010-04-05T09:45:19Z</dcterms:modified>
  <cp:revision>6</cp:revision>
  <dc:subject/>
  <dc:title>Слайд 1</dc:title>
</cp:coreProperties>
</file>